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D5C-EF2B-47E0-BDD6-90746C80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605-4578-4AF6-8194-E7F2BF16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89B-CF48-4B48-BD75-8D9B00CD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421-C080-476E-8A08-670E1460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AC5-03BF-438C-AA68-B6BCD1D2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211-514F-43F1-A718-38B2EC7A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87A-4972-4BCF-B271-9A2FE4F4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4DC-62A1-42C7-84C3-4EFDF174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8F6-FD3B-4CC5-A8A0-B21C3B43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4EF6-053F-42E5-8950-5FF9EED4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99D-C04E-4304-A743-C71ED5F2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2A4-4822-4D1F-9E85-EF239D0C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B4BC-5678-450A-991C-A8878095C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of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is what % of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0880" y="3813120"/>
            <a:ext cx="563400" cy="268200"/>
          </a:xfrm>
          <a:custGeom>
            <a:avLst/>
            <a:gdLst/>
            <a:ahLst/>
            <a:rect l="l" t="t" r="r" b="b"/>
            <a:pathLst>
              <a:path w="1564" h="745">
                <a:moveTo>
                  <a:pt x="5060" y="10592"/>
                </a:moveTo>
                <a:cubicBezTo>
                  <a:pt x="5116" y="10684"/>
                  <a:pt x="5095" y="10975"/>
                  <a:pt x="5085" y="11112"/>
                </a:cubicBezTo>
                <a:cubicBezTo>
                  <a:pt x="5079" y="11195"/>
                  <a:pt x="5060" y="11395"/>
                  <a:pt x="5060" y="11311"/>
                </a:cubicBezTo>
              </a:path>
              <a:path w="1564" h="745">
                <a:moveTo>
                  <a:pt x="5680" y="10740"/>
                </a:moveTo>
                <a:cubicBezTo>
                  <a:pt x="5555" y="10740"/>
                  <a:pt x="5472" y="10768"/>
                  <a:pt x="5358" y="10815"/>
                </a:cubicBezTo>
                <a:cubicBezTo>
                  <a:pt x="5402" y="10948"/>
                  <a:pt x="5600" y="10999"/>
                  <a:pt x="5631" y="11137"/>
                </a:cubicBezTo>
                <a:cubicBezTo>
                  <a:pt x="5610" y="11243"/>
                  <a:pt x="5614" y="11271"/>
                  <a:pt x="5556" y="11311"/>
                </a:cubicBezTo>
                <a:cubicBezTo>
                  <a:pt x="5413" y="11167"/>
                  <a:pt x="5467" y="11081"/>
                  <a:pt x="5581" y="10914"/>
                </a:cubicBezTo>
                <a:cubicBezTo>
                  <a:pt x="5636" y="10833"/>
                  <a:pt x="5708" y="10782"/>
                  <a:pt x="5606" y="10765"/>
                </a:cubicBezTo>
              </a:path>
              <a:path w="1564" h="745">
                <a:moveTo>
                  <a:pt x="6152" y="10889"/>
                </a:moveTo>
                <a:cubicBezTo>
                  <a:pt x="6294" y="10889"/>
                  <a:pt x="6431" y="10909"/>
                  <a:pt x="6573" y="10914"/>
                </a:cubicBezTo>
                <a:cubicBezTo>
                  <a:pt x="6598" y="10914"/>
                  <a:pt x="6606" y="10914"/>
                  <a:pt x="6598" y="10939"/>
                </a:cubicBezTo>
              </a:path>
              <a:path w="1564" h="745">
                <a:moveTo>
                  <a:pt x="6176" y="11162"/>
                </a:moveTo>
                <a:cubicBezTo>
                  <a:pt x="6285" y="11180"/>
                  <a:pt x="6386" y="11187"/>
                  <a:pt x="6499" y="11187"/>
                </a:cubicBezTo>
                <a:cubicBezTo>
                  <a:pt x="6573" y="11187"/>
                  <a:pt x="6582" y="11187"/>
                  <a:pt x="6623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46240" y="3875040"/>
            <a:ext cx="189000" cy="216000"/>
          </a:xfrm>
          <a:custGeom>
            <a:avLst/>
            <a:gdLst/>
            <a:ahLst/>
            <a:rect l="l" t="t" r="r" b="b"/>
            <a:pathLst>
              <a:path w="521" h="597">
                <a:moveTo>
                  <a:pt x="8186" y="10840"/>
                </a:moveTo>
                <a:cubicBezTo>
                  <a:pt x="8186" y="10764"/>
                  <a:pt x="8208" y="11133"/>
                  <a:pt x="8210" y="11162"/>
                </a:cubicBezTo>
                <a:cubicBezTo>
                  <a:pt x="8210" y="11236"/>
                  <a:pt x="8210" y="11245"/>
                  <a:pt x="8210" y="11286"/>
                </a:cubicBezTo>
                <a:cubicBezTo>
                  <a:pt x="8210" y="11337"/>
                  <a:pt x="8210" y="11067"/>
                  <a:pt x="8210" y="11038"/>
                </a:cubicBezTo>
                <a:cubicBezTo>
                  <a:pt x="8210" y="10925"/>
                  <a:pt x="8232" y="10804"/>
                  <a:pt x="8359" y="10765"/>
                </a:cubicBezTo>
                <a:cubicBezTo>
                  <a:pt x="8496" y="10723"/>
                  <a:pt x="8629" y="10854"/>
                  <a:pt x="8682" y="10964"/>
                </a:cubicBezTo>
                <a:cubicBezTo>
                  <a:pt x="8733" y="11071"/>
                  <a:pt x="8706" y="11222"/>
                  <a:pt x="8706" y="11336"/>
                </a:cubicBezTo>
                <a:cubicBezTo>
                  <a:pt x="8706" y="11344"/>
                  <a:pt x="8706" y="11353"/>
                  <a:pt x="8706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11360" y="3803760"/>
            <a:ext cx="320760" cy="268200"/>
          </a:xfrm>
          <a:custGeom>
            <a:avLst/>
            <a:gdLst/>
            <a:ahLst/>
            <a:rect l="l" t="t" r="r" b="b"/>
            <a:pathLst>
              <a:path w="894" h="745">
                <a:moveTo>
                  <a:pt x="9599" y="10616"/>
                </a:moveTo>
                <a:cubicBezTo>
                  <a:pt x="9551" y="10617"/>
                  <a:pt x="9429" y="10749"/>
                  <a:pt x="9500" y="10864"/>
                </a:cubicBezTo>
                <a:cubicBezTo>
                  <a:pt x="9525" y="10881"/>
                  <a:pt x="9550" y="10897"/>
                  <a:pt x="9575" y="10914"/>
                </a:cubicBezTo>
                <a:cubicBezTo>
                  <a:pt x="9694" y="10816"/>
                  <a:pt x="9723" y="10804"/>
                  <a:pt x="9624" y="10666"/>
                </a:cubicBezTo>
                <a:cubicBezTo>
                  <a:pt x="9718" y="10572"/>
                  <a:pt x="9932" y="10488"/>
                  <a:pt x="9996" y="10691"/>
                </a:cubicBezTo>
                <a:cubicBezTo>
                  <a:pt x="10087" y="10981"/>
                  <a:pt x="9662" y="11116"/>
                  <a:pt x="9674" y="11311"/>
                </a:cubicBezTo>
                <a:cubicBezTo>
                  <a:pt x="9699" y="11311"/>
                  <a:pt x="9723" y="11311"/>
                  <a:pt x="9748" y="11311"/>
                </a:cubicBezTo>
              </a:path>
              <a:path w="894" h="745">
                <a:moveTo>
                  <a:pt x="10145" y="11137"/>
                </a:moveTo>
                <a:cubicBezTo>
                  <a:pt x="10092" y="11286"/>
                  <a:pt x="10188" y="11303"/>
                  <a:pt x="10319" y="11212"/>
                </a:cubicBezTo>
                <a:cubicBezTo>
                  <a:pt x="10423" y="11140"/>
                  <a:pt x="10305" y="11107"/>
                  <a:pt x="10244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27320" y="3759120"/>
            <a:ext cx="965520" cy="615960"/>
          </a:xfrm>
          <a:custGeom>
            <a:avLst/>
            <a:gdLst/>
            <a:ahLst/>
            <a:rect l="l" t="t" r="r" b="b"/>
            <a:pathLst>
              <a:path w="2680" h="1712">
                <a:moveTo>
                  <a:pt x="11509" y="10889"/>
                </a:moveTo>
                <a:cubicBezTo>
                  <a:pt x="11392" y="10889"/>
                  <a:pt x="11358" y="11013"/>
                  <a:pt x="11311" y="11137"/>
                </a:cubicBezTo>
                <a:cubicBezTo>
                  <a:pt x="11380" y="11148"/>
                  <a:pt x="11627" y="11146"/>
                  <a:pt x="11534" y="10988"/>
                </a:cubicBezTo>
                <a:cubicBezTo>
                  <a:pt x="11475" y="10949"/>
                  <a:pt x="11463" y="10945"/>
                  <a:pt x="11435" y="10914"/>
                </a:cubicBezTo>
              </a:path>
              <a:path w="2680" h="1712">
                <a:moveTo>
                  <a:pt x="11906" y="10592"/>
                </a:moveTo>
                <a:cubicBezTo>
                  <a:pt x="11674" y="10761"/>
                  <a:pt x="11850" y="10795"/>
                  <a:pt x="11931" y="11038"/>
                </a:cubicBezTo>
                <a:cubicBezTo>
                  <a:pt x="11982" y="11191"/>
                  <a:pt x="11838" y="11105"/>
                  <a:pt x="11782" y="11088"/>
                </a:cubicBezTo>
              </a:path>
              <a:path w="2680" h="1712">
                <a:moveTo>
                  <a:pt x="11807" y="10889"/>
                </a:moveTo>
                <a:cubicBezTo>
                  <a:pt x="11956" y="10864"/>
                  <a:pt x="12006" y="10856"/>
                  <a:pt x="12105" y="10840"/>
                </a:cubicBezTo>
              </a:path>
              <a:path w="2680" h="1712">
                <a:moveTo>
                  <a:pt x="12998" y="10567"/>
                </a:moveTo>
                <a:cubicBezTo>
                  <a:pt x="12923" y="10686"/>
                  <a:pt x="12833" y="10891"/>
                  <a:pt x="12849" y="11038"/>
                </a:cubicBezTo>
                <a:cubicBezTo>
                  <a:pt x="12876" y="11282"/>
                  <a:pt x="13176" y="11076"/>
                  <a:pt x="13246" y="10988"/>
                </a:cubicBezTo>
                <a:cubicBezTo>
                  <a:pt x="13246" y="10980"/>
                  <a:pt x="13246" y="10972"/>
                  <a:pt x="13246" y="10964"/>
                </a:cubicBezTo>
                <a:cubicBezTo>
                  <a:pt x="13112" y="11014"/>
                  <a:pt x="12975" y="11052"/>
                  <a:pt x="13072" y="11187"/>
                </a:cubicBezTo>
              </a:path>
              <a:path w="2680" h="1712">
                <a:moveTo>
                  <a:pt x="13643" y="10691"/>
                </a:moveTo>
                <a:cubicBezTo>
                  <a:pt x="13506" y="10880"/>
                  <a:pt x="13474" y="10944"/>
                  <a:pt x="13643" y="11112"/>
                </a:cubicBezTo>
                <a:cubicBezTo>
                  <a:pt x="13779" y="11059"/>
                  <a:pt x="14029" y="10850"/>
                  <a:pt x="13791" y="10691"/>
                </a:cubicBezTo>
                <a:cubicBezTo>
                  <a:pt x="13725" y="10674"/>
                  <a:pt x="13659" y="10658"/>
                  <a:pt x="13593" y="10641"/>
                </a:cubicBezTo>
              </a:path>
              <a:path w="2680" h="1712">
                <a:moveTo>
                  <a:pt x="11410" y="10740"/>
                </a:moveTo>
                <a:cubicBezTo>
                  <a:pt x="11476" y="10762"/>
                  <a:pt x="11649" y="10979"/>
                  <a:pt x="11708" y="11038"/>
                </a:cubicBezTo>
                <a:cubicBezTo>
                  <a:pt x="11782" y="11112"/>
                  <a:pt x="11791" y="11121"/>
                  <a:pt x="11832" y="11162"/>
                </a:cubicBezTo>
                <a:cubicBezTo>
                  <a:pt x="11696" y="11094"/>
                  <a:pt x="11586" y="10917"/>
                  <a:pt x="11460" y="10815"/>
                </a:cubicBezTo>
                <a:cubicBezTo>
                  <a:pt x="11403" y="10777"/>
                  <a:pt x="11378" y="10782"/>
                  <a:pt x="11385" y="10740"/>
                </a:cubicBezTo>
                <a:cubicBezTo>
                  <a:pt x="11537" y="10816"/>
                  <a:pt x="11682" y="10986"/>
                  <a:pt x="11832" y="11088"/>
                </a:cubicBezTo>
                <a:cubicBezTo>
                  <a:pt x="11850" y="11100"/>
                  <a:pt x="12103" y="11312"/>
                  <a:pt x="11981" y="11162"/>
                </a:cubicBezTo>
              </a:path>
              <a:path w="2680" h="1712">
                <a:moveTo>
                  <a:pt x="11981" y="10567"/>
                </a:moveTo>
                <a:cubicBezTo>
                  <a:pt x="11865" y="10751"/>
                  <a:pt x="11680" y="10882"/>
                  <a:pt x="11509" y="11013"/>
                </a:cubicBezTo>
                <a:cubicBezTo>
                  <a:pt x="11405" y="11093"/>
                  <a:pt x="11241" y="11214"/>
                  <a:pt x="11361" y="11162"/>
                </a:cubicBezTo>
                <a:cubicBezTo>
                  <a:pt x="11583" y="10977"/>
                  <a:pt x="11803" y="10708"/>
                  <a:pt x="12055" y="10567"/>
                </a:cubicBezTo>
                <a:cubicBezTo>
                  <a:pt x="12283" y="10440"/>
                  <a:pt x="11660" y="10895"/>
                  <a:pt x="11460" y="11063"/>
                </a:cubicBezTo>
                <a:cubicBezTo>
                  <a:pt x="11360" y="11147"/>
                  <a:pt x="11149" y="11283"/>
                  <a:pt x="11237" y="11311"/>
                </a:cubicBezTo>
                <a:cubicBezTo>
                  <a:pt x="11459" y="11097"/>
                  <a:pt x="11707" y="10899"/>
                  <a:pt x="11881" y="10641"/>
                </a:cubicBezTo>
                <a:cubicBezTo>
                  <a:pt x="11905" y="10605"/>
                  <a:pt x="11520" y="10953"/>
                  <a:pt x="11509" y="10964"/>
                </a:cubicBezTo>
                <a:cubicBezTo>
                  <a:pt x="11265" y="11194"/>
                  <a:pt x="11347" y="11092"/>
                  <a:pt x="11559" y="10914"/>
                </a:cubicBezTo>
                <a:cubicBezTo>
                  <a:pt x="11633" y="10856"/>
                  <a:pt x="11708" y="10798"/>
                  <a:pt x="11782" y="10740"/>
                </a:cubicBezTo>
                <a:cubicBezTo>
                  <a:pt x="11948" y="10634"/>
                  <a:pt x="11712" y="10814"/>
                  <a:pt x="11559" y="10939"/>
                </a:cubicBezTo>
                <a:cubicBezTo>
                  <a:pt x="11453" y="11027"/>
                  <a:pt x="11460" y="11068"/>
                  <a:pt x="11385" y="11063"/>
                </a:cubicBezTo>
              </a:path>
              <a:path w="2680" h="1712">
                <a:moveTo>
                  <a:pt x="12278" y="11410"/>
                </a:moveTo>
                <a:cubicBezTo>
                  <a:pt x="12301" y="11478"/>
                  <a:pt x="12447" y="11413"/>
                  <a:pt x="12502" y="11410"/>
                </a:cubicBezTo>
                <a:cubicBezTo>
                  <a:pt x="12866" y="11393"/>
                  <a:pt x="13229" y="11385"/>
                  <a:pt x="13593" y="11385"/>
                </a:cubicBezTo>
                <a:cubicBezTo>
                  <a:pt x="13651" y="11385"/>
                  <a:pt x="13709" y="11385"/>
                  <a:pt x="13767" y="11385"/>
                </a:cubicBezTo>
              </a:path>
              <a:path w="2680" h="1712">
                <a:moveTo>
                  <a:pt x="12799" y="11584"/>
                </a:moveTo>
                <a:cubicBezTo>
                  <a:pt x="12693" y="11743"/>
                  <a:pt x="12662" y="11895"/>
                  <a:pt x="12626" y="12080"/>
                </a:cubicBezTo>
                <a:cubicBezTo>
                  <a:pt x="12790" y="12162"/>
                  <a:pt x="12947" y="12183"/>
                  <a:pt x="13047" y="11981"/>
                </a:cubicBezTo>
                <a:cubicBezTo>
                  <a:pt x="13039" y="11973"/>
                  <a:pt x="13030" y="11964"/>
                  <a:pt x="13022" y="11956"/>
                </a:cubicBezTo>
                <a:cubicBezTo>
                  <a:pt x="12904" y="11972"/>
                  <a:pt x="12773" y="11992"/>
                  <a:pt x="12849" y="12105"/>
                </a:cubicBezTo>
              </a:path>
              <a:path w="2680" h="1712">
                <a:moveTo>
                  <a:pt x="13370" y="11708"/>
                </a:moveTo>
                <a:cubicBezTo>
                  <a:pt x="13288" y="11782"/>
                  <a:pt x="13087" y="11994"/>
                  <a:pt x="13295" y="12080"/>
                </a:cubicBezTo>
                <a:cubicBezTo>
                  <a:pt x="13467" y="12151"/>
                  <a:pt x="13681" y="11918"/>
                  <a:pt x="13568" y="11757"/>
                </a:cubicBezTo>
                <a:cubicBezTo>
                  <a:pt x="13487" y="11717"/>
                  <a:pt x="13474" y="11701"/>
                  <a:pt x="13419" y="11708"/>
                </a:cubicBezTo>
              </a:path>
              <a:path w="2680" h="1712">
                <a:moveTo>
                  <a:pt x="13295" y="10592"/>
                </a:moveTo>
                <a:cubicBezTo>
                  <a:pt x="13241" y="10564"/>
                  <a:pt x="13269" y="10575"/>
                  <a:pt x="13246" y="10641"/>
                </a:cubicBezTo>
                <a:cubicBezTo>
                  <a:pt x="13161" y="10887"/>
                  <a:pt x="13093" y="11152"/>
                  <a:pt x="13047" y="11410"/>
                </a:cubicBezTo>
                <a:cubicBezTo>
                  <a:pt x="13040" y="11451"/>
                  <a:pt x="12984" y="11837"/>
                  <a:pt x="12973" y="11807"/>
                </a:cubicBezTo>
                <a:cubicBezTo>
                  <a:pt x="12887" y="11570"/>
                  <a:pt x="13044" y="11101"/>
                  <a:pt x="13072" y="10864"/>
                </a:cubicBezTo>
                <a:cubicBezTo>
                  <a:pt x="13091" y="10707"/>
                  <a:pt x="13092" y="10594"/>
                  <a:pt x="13097" y="10443"/>
                </a:cubicBezTo>
                <a:cubicBezTo>
                  <a:pt x="13090" y="10781"/>
                  <a:pt x="13086" y="11123"/>
                  <a:pt x="13047" y="11460"/>
                </a:cubicBezTo>
                <a:cubicBezTo>
                  <a:pt x="13043" y="11498"/>
                  <a:pt x="12973" y="11994"/>
                  <a:pt x="12948" y="11981"/>
                </a:cubicBezTo>
                <a:cubicBezTo>
                  <a:pt x="12912" y="11963"/>
                  <a:pt x="13019" y="11193"/>
                  <a:pt x="13022" y="11162"/>
                </a:cubicBezTo>
                <a:cubicBezTo>
                  <a:pt x="13040" y="10942"/>
                  <a:pt x="13075" y="10754"/>
                  <a:pt x="13122" y="10542"/>
                </a:cubicBezTo>
                <a:cubicBezTo>
                  <a:pt x="13072" y="10988"/>
                  <a:pt x="13029" y="11457"/>
                  <a:pt x="12874" y="11881"/>
                </a:cubicBezTo>
                <a:cubicBezTo>
                  <a:pt x="12809" y="12059"/>
                  <a:pt x="12911" y="11570"/>
                  <a:pt x="12948" y="11385"/>
                </a:cubicBezTo>
                <a:cubicBezTo>
                  <a:pt x="13001" y="11117"/>
                  <a:pt x="13162" y="10322"/>
                  <a:pt x="13122" y="10592"/>
                </a:cubicBezTo>
                <a:cubicBezTo>
                  <a:pt x="13122" y="10685"/>
                  <a:pt x="13107" y="10759"/>
                  <a:pt x="13072" y="10840"/>
                </a:cubicBezTo>
                <a:cubicBezTo>
                  <a:pt x="12980" y="11202"/>
                  <a:pt x="12906" y="11571"/>
                  <a:pt x="12824" y="11931"/>
                </a:cubicBezTo>
                <a:cubicBezTo>
                  <a:pt x="12759" y="12218"/>
                  <a:pt x="12935" y="11358"/>
                  <a:pt x="12948" y="11063"/>
                </a:cubicBezTo>
                <a:cubicBezTo>
                  <a:pt x="12955" y="10918"/>
                  <a:pt x="12999" y="10523"/>
                  <a:pt x="12973" y="10666"/>
                </a:cubicBezTo>
                <a:cubicBezTo>
                  <a:pt x="12927" y="10920"/>
                  <a:pt x="12892" y="11180"/>
                  <a:pt x="12849" y="11435"/>
                </a:cubicBezTo>
                <a:cubicBezTo>
                  <a:pt x="12832" y="11542"/>
                  <a:pt x="12816" y="11650"/>
                  <a:pt x="12799" y="11757"/>
                </a:cubicBezTo>
                <a:cubicBezTo>
                  <a:pt x="12799" y="12060"/>
                  <a:pt x="12830" y="11939"/>
                  <a:pt x="12874" y="11683"/>
                </a:cubicBezTo>
                <a:cubicBezTo>
                  <a:pt x="12926" y="11382"/>
                  <a:pt x="12923" y="11093"/>
                  <a:pt x="12923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17800" y="4724280"/>
            <a:ext cx="322200" cy="276480"/>
          </a:xfrm>
          <a:custGeom>
            <a:avLst/>
            <a:gdLst/>
            <a:ahLst/>
            <a:rect l="l" t="t" r="r" b="b"/>
            <a:pathLst>
              <a:path w="894" h="770">
                <a:moveTo>
                  <a:pt x="5655" y="13692"/>
                </a:moveTo>
                <a:cubicBezTo>
                  <a:pt x="5638" y="13744"/>
                  <a:pt x="5618" y="13787"/>
                  <a:pt x="5606" y="13841"/>
                </a:cubicBezTo>
                <a:cubicBezTo>
                  <a:pt x="5638" y="13836"/>
                  <a:pt x="5787" y="13790"/>
                  <a:pt x="5705" y="13767"/>
                </a:cubicBezTo>
                <a:cubicBezTo>
                  <a:pt x="5670" y="13767"/>
                  <a:pt x="5666" y="13758"/>
                  <a:pt x="5705" y="13717"/>
                </a:cubicBezTo>
              </a:path>
              <a:path w="894" h="770">
                <a:moveTo>
                  <a:pt x="6003" y="13196"/>
                </a:moveTo>
                <a:cubicBezTo>
                  <a:pt x="6094" y="13158"/>
                  <a:pt x="6386" y="13040"/>
                  <a:pt x="6350" y="13271"/>
                </a:cubicBezTo>
                <a:cubicBezTo>
                  <a:pt x="6329" y="13405"/>
                  <a:pt x="6240" y="13443"/>
                  <a:pt x="6152" y="13519"/>
                </a:cubicBezTo>
                <a:cubicBezTo>
                  <a:pt x="6307" y="13471"/>
                  <a:pt x="6586" y="13443"/>
                  <a:pt x="6499" y="13717"/>
                </a:cubicBezTo>
                <a:cubicBezTo>
                  <a:pt x="6450" y="13871"/>
                  <a:pt x="6009" y="13934"/>
                  <a:pt x="6028" y="13841"/>
                </a:cubicBezTo>
                <a:cubicBezTo>
                  <a:pt x="6053" y="13808"/>
                  <a:pt x="6077" y="13775"/>
                  <a:pt x="6102" y="137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0200" y="4848120"/>
            <a:ext cx="14292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6945" y="13469"/>
                </a:moveTo>
                <a:cubicBezTo>
                  <a:pt x="7046" y="13494"/>
                  <a:pt x="7155" y="13479"/>
                  <a:pt x="7268" y="13494"/>
                </a:cubicBezTo>
                <a:cubicBezTo>
                  <a:pt x="7293" y="13502"/>
                  <a:pt x="7317" y="13511"/>
                  <a:pt x="7342" y="13519"/>
                </a:cubicBezTo>
              </a:path>
              <a:path w="398" h="224">
                <a:moveTo>
                  <a:pt x="6970" y="13692"/>
                </a:moveTo>
                <a:cubicBezTo>
                  <a:pt x="7069" y="13692"/>
                  <a:pt x="7169" y="13692"/>
                  <a:pt x="7268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20960" y="4680000"/>
            <a:ext cx="635040" cy="338040"/>
          </a:xfrm>
          <a:custGeom>
            <a:avLst/>
            <a:gdLst/>
            <a:ahLst/>
            <a:rect l="l" t="t" r="r" b="b"/>
            <a:pathLst>
              <a:path w="1762" h="943">
                <a:moveTo>
                  <a:pt x="7838" y="13494"/>
                </a:moveTo>
                <a:cubicBezTo>
                  <a:pt x="7862" y="13602"/>
                  <a:pt x="7949" y="13779"/>
                  <a:pt x="7938" y="13891"/>
                </a:cubicBezTo>
                <a:cubicBezTo>
                  <a:pt x="7930" y="13883"/>
                  <a:pt x="7921" y="13874"/>
                  <a:pt x="7913" y="13866"/>
                </a:cubicBezTo>
                <a:cubicBezTo>
                  <a:pt x="7857" y="13666"/>
                  <a:pt x="7856" y="13506"/>
                  <a:pt x="8086" y="13419"/>
                </a:cubicBezTo>
                <a:cubicBezTo>
                  <a:pt x="8329" y="13327"/>
                  <a:pt x="8474" y="13568"/>
                  <a:pt x="8533" y="13767"/>
                </a:cubicBezTo>
                <a:cubicBezTo>
                  <a:pt x="8582" y="13932"/>
                  <a:pt x="8527" y="13992"/>
                  <a:pt x="8558" y="13841"/>
                </a:cubicBezTo>
              </a:path>
              <a:path w="1762" h="943">
                <a:moveTo>
                  <a:pt x="8880" y="13022"/>
                </a:moveTo>
                <a:cubicBezTo>
                  <a:pt x="8870" y="13119"/>
                  <a:pt x="8868" y="13174"/>
                  <a:pt x="8880" y="13271"/>
                </a:cubicBezTo>
                <a:cubicBezTo>
                  <a:pt x="8945" y="13277"/>
                  <a:pt x="9175" y="13223"/>
                  <a:pt x="9054" y="13097"/>
                </a:cubicBezTo>
                <a:cubicBezTo>
                  <a:pt x="8973" y="13056"/>
                  <a:pt x="8960" y="13040"/>
                  <a:pt x="8905" y="13047"/>
                </a:cubicBezTo>
                <a:cubicBezTo>
                  <a:pt x="8991" y="12990"/>
                  <a:pt x="9142" y="12952"/>
                  <a:pt x="9227" y="13047"/>
                </a:cubicBezTo>
                <a:cubicBezTo>
                  <a:pt x="9380" y="13219"/>
                  <a:pt x="9277" y="13580"/>
                  <a:pt x="9153" y="13742"/>
                </a:cubicBezTo>
                <a:cubicBezTo>
                  <a:pt x="9073" y="13795"/>
                  <a:pt x="9055" y="13808"/>
                  <a:pt x="9178" y="13742"/>
                </a:cubicBezTo>
              </a:path>
              <a:path w="1762" h="943">
                <a:moveTo>
                  <a:pt x="9525" y="13593"/>
                </a:moveTo>
                <a:cubicBezTo>
                  <a:pt x="9455" y="13640"/>
                  <a:pt x="9431" y="13652"/>
                  <a:pt x="9451" y="13717"/>
                </a:cubicBezTo>
                <a:cubicBezTo>
                  <a:pt x="9504" y="13735"/>
                  <a:pt x="9678" y="13752"/>
                  <a:pt x="9575" y="13643"/>
                </a:cubicBezTo>
                <a:cubicBezTo>
                  <a:pt x="9550" y="13626"/>
                  <a:pt x="9525" y="13610"/>
                  <a:pt x="9500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52840" y="5375160"/>
            <a:ext cx="133200" cy="81000"/>
          </a:xfrm>
          <a:custGeom>
            <a:avLst/>
            <a:gdLst/>
            <a:ahLst/>
            <a:rect l="l" t="t" r="r" b="b"/>
            <a:pathLst>
              <a:path w="373" h="225">
                <a:moveTo>
                  <a:pt x="7367" y="14982"/>
                </a:moveTo>
                <a:cubicBezTo>
                  <a:pt x="7477" y="14940"/>
                  <a:pt x="7558" y="14904"/>
                  <a:pt x="7665" y="14957"/>
                </a:cubicBezTo>
              </a:path>
              <a:path w="373" h="225">
                <a:moveTo>
                  <a:pt x="7541" y="15156"/>
                </a:moveTo>
                <a:cubicBezTo>
                  <a:pt x="7639" y="15131"/>
                  <a:pt x="7671" y="15123"/>
                  <a:pt x="7739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09960" y="5232240"/>
            <a:ext cx="795240" cy="339840"/>
          </a:xfrm>
          <a:custGeom>
            <a:avLst/>
            <a:gdLst/>
            <a:ahLst/>
            <a:rect l="l" t="t" r="r" b="b"/>
            <a:pathLst>
              <a:path w="2209" h="943">
                <a:moveTo>
                  <a:pt x="8533" y="14759"/>
                </a:moveTo>
                <a:cubicBezTo>
                  <a:pt x="8692" y="14741"/>
                  <a:pt x="8927" y="14750"/>
                  <a:pt x="8756" y="14982"/>
                </a:cubicBezTo>
                <a:cubicBezTo>
                  <a:pt x="8683" y="15036"/>
                  <a:pt x="8683" y="15061"/>
                  <a:pt x="8632" y="15056"/>
                </a:cubicBezTo>
                <a:cubicBezTo>
                  <a:pt x="8806" y="15056"/>
                  <a:pt x="9020" y="15098"/>
                  <a:pt x="8880" y="15329"/>
                </a:cubicBezTo>
                <a:cubicBezTo>
                  <a:pt x="8798" y="15465"/>
                  <a:pt x="8272" y="15517"/>
                  <a:pt x="8359" y="15354"/>
                </a:cubicBezTo>
                <a:cubicBezTo>
                  <a:pt x="8425" y="15288"/>
                  <a:pt x="8492" y="15222"/>
                  <a:pt x="8558" y="15156"/>
                </a:cubicBezTo>
              </a:path>
              <a:path w="2209" h="943">
                <a:moveTo>
                  <a:pt x="9252" y="14784"/>
                </a:moveTo>
                <a:cubicBezTo>
                  <a:pt x="9115" y="14920"/>
                  <a:pt x="9016" y="15123"/>
                  <a:pt x="9079" y="15329"/>
                </a:cubicBezTo>
                <a:cubicBezTo>
                  <a:pt x="9104" y="15362"/>
                  <a:pt x="9128" y="15396"/>
                  <a:pt x="9153" y="15429"/>
                </a:cubicBezTo>
                <a:cubicBezTo>
                  <a:pt x="9397" y="15386"/>
                  <a:pt x="9579" y="15254"/>
                  <a:pt x="9426" y="14957"/>
                </a:cubicBezTo>
                <a:cubicBezTo>
                  <a:pt x="9314" y="14845"/>
                  <a:pt x="9290" y="14804"/>
                  <a:pt x="9178" y="14833"/>
                </a:cubicBezTo>
              </a:path>
              <a:path w="2209" h="943">
                <a:moveTo>
                  <a:pt x="9798" y="14585"/>
                </a:moveTo>
                <a:cubicBezTo>
                  <a:pt x="9706" y="14567"/>
                  <a:pt x="9616" y="14765"/>
                  <a:pt x="9699" y="14858"/>
                </a:cubicBezTo>
                <a:cubicBezTo>
                  <a:pt x="9724" y="14858"/>
                  <a:pt x="9748" y="14858"/>
                  <a:pt x="9773" y="14858"/>
                </a:cubicBezTo>
                <a:cubicBezTo>
                  <a:pt x="9855" y="14776"/>
                  <a:pt x="9737" y="14643"/>
                  <a:pt x="9798" y="14585"/>
                </a:cubicBezTo>
                <a:cubicBezTo>
                  <a:pt x="9989" y="14403"/>
                  <a:pt x="10256" y="14608"/>
                  <a:pt x="10244" y="14833"/>
                </a:cubicBezTo>
                <a:cubicBezTo>
                  <a:pt x="10233" y="15035"/>
                  <a:pt x="10062" y="15248"/>
                  <a:pt x="9947" y="15404"/>
                </a:cubicBezTo>
              </a:path>
              <a:path w="2209" h="943">
                <a:moveTo>
                  <a:pt x="10468" y="15205"/>
                </a:moveTo>
                <a:cubicBezTo>
                  <a:pt x="10406" y="15267"/>
                  <a:pt x="10381" y="15273"/>
                  <a:pt x="10393" y="15329"/>
                </a:cubicBezTo>
                <a:cubicBezTo>
                  <a:pt x="10505" y="15338"/>
                  <a:pt x="10607" y="15312"/>
                  <a:pt x="10517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77960" y="4143240"/>
            <a:ext cx="385920" cy="312840"/>
          </a:xfrm>
          <a:custGeom>
            <a:avLst/>
            <a:gdLst/>
            <a:ahLst/>
            <a:rect l="l" t="t" r="r" b="b"/>
            <a:pathLst>
              <a:path w="1068" h="870">
                <a:moveTo>
                  <a:pt x="4663" y="11534"/>
                </a:moveTo>
                <a:cubicBezTo>
                  <a:pt x="4984" y="11514"/>
                  <a:pt x="5307" y="11534"/>
                  <a:pt x="5631" y="11534"/>
                </a:cubicBezTo>
                <a:cubicBezTo>
                  <a:pt x="5689" y="11534"/>
                  <a:pt x="5697" y="11534"/>
                  <a:pt x="5730" y="11534"/>
                </a:cubicBezTo>
              </a:path>
              <a:path w="1068" h="870">
                <a:moveTo>
                  <a:pt x="4936" y="11782"/>
                </a:moveTo>
                <a:cubicBezTo>
                  <a:pt x="4895" y="11947"/>
                  <a:pt x="4795" y="12084"/>
                  <a:pt x="4762" y="12254"/>
                </a:cubicBezTo>
                <a:cubicBezTo>
                  <a:pt x="4762" y="12328"/>
                  <a:pt x="4762" y="12337"/>
                  <a:pt x="4762" y="12378"/>
                </a:cubicBezTo>
                <a:cubicBezTo>
                  <a:pt x="4949" y="12342"/>
                  <a:pt x="5059" y="12306"/>
                  <a:pt x="5135" y="12105"/>
                </a:cubicBezTo>
                <a:cubicBezTo>
                  <a:pt x="5135" y="12097"/>
                  <a:pt x="5135" y="12088"/>
                  <a:pt x="5135" y="12080"/>
                </a:cubicBezTo>
                <a:cubicBezTo>
                  <a:pt x="5006" y="12123"/>
                  <a:pt x="4911" y="12165"/>
                  <a:pt x="4911" y="12328"/>
                </a:cubicBezTo>
                <a:cubicBezTo>
                  <a:pt x="4954" y="12371"/>
                  <a:pt x="4985" y="12368"/>
                  <a:pt x="5035" y="12303"/>
                </a:cubicBezTo>
              </a:path>
              <a:path w="1068" h="870">
                <a:moveTo>
                  <a:pt x="5457" y="11857"/>
                </a:moveTo>
                <a:cubicBezTo>
                  <a:pt x="5410" y="11856"/>
                  <a:pt x="5270" y="12020"/>
                  <a:pt x="5259" y="12129"/>
                </a:cubicBezTo>
                <a:cubicBezTo>
                  <a:pt x="5267" y="12162"/>
                  <a:pt x="5275" y="12196"/>
                  <a:pt x="5283" y="12229"/>
                </a:cubicBezTo>
                <a:cubicBezTo>
                  <a:pt x="5450" y="12288"/>
                  <a:pt x="5577" y="12259"/>
                  <a:pt x="5631" y="12055"/>
                </a:cubicBezTo>
                <a:cubicBezTo>
                  <a:pt x="5669" y="11910"/>
                  <a:pt x="5507" y="11882"/>
                  <a:pt x="5407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find the percentage of increase or decr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find the percentage of increase or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</a:rPr>
              <a:t>Formul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two numbers to find the difference or the amount of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the change by the original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e decimal point 2 places right to change it to a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95280" y="1828800"/>
          <a:ext cx="5181840" cy="12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518184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204920" y="4983120"/>
            <a:ext cx="2600280" cy="88920"/>
          </a:xfrm>
          <a:custGeom>
            <a:avLst/>
            <a:gdLst/>
            <a:ahLst/>
            <a:rect l="l" t="t" r="r" b="b"/>
            <a:pathLst>
              <a:path w="7219" h="249">
                <a:moveTo>
                  <a:pt x="3349" y="13841"/>
                </a:moveTo>
                <a:cubicBezTo>
                  <a:pt x="3499" y="13849"/>
                  <a:pt x="3625" y="13883"/>
                  <a:pt x="3770" y="13891"/>
                </a:cubicBezTo>
                <a:cubicBezTo>
                  <a:pt x="3952" y="13901"/>
                  <a:pt x="4136" y="13905"/>
                  <a:pt x="4316" y="13915"/>
                </a:cubicBezTo>
                <a:cubicBezTo>
                  <a:pt x="4554" y="13928"/>
                  <a:pt x="4778" y="13992"/>
                  <a:pt x="5011" y="14015"/>
                </a:cubicBezTo>
                <a:cubicBezTo>
                  <a:pt x="5306" y="14044"/>
                  <a:pt x="5608" y="14039"/>
                  <a:pt x="5904" y="14039"/>
                </a:cubicBezTo>
                <a:cubicBezTo>
                  <a:pt x="6814" y="14039"/>
                  <a:pt x="7724" y="14032"/>
                  <a:pt x="8632" y="14064"/>
                </a:cubicBezTo>
                <a:cubicBezTo>
                  <a:pt x="8906" y="14074"/>
                  <a:pt x="9178" y="14075"/>
                  <a:pt x="9451" y="14089"/>
                </a:cubicBezTo>
                <a:cubicBezTo>
                  <a:pt x="9821" y="14108"/>
                  <a:pt x="10196" y="14089"/>
                  <a:pt x="10567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91080" y="3187800"/>
            <a:ext cx="3241800" cy="1268280"/>
          </a:xfrm>
          <a:custGeom>
            <a:avLst/>
            <a:gdLst/>
            <a:ahLst/>
            <a:rect l="l" t="t" r="r" b="b"/>
            <a:pathLst>
              <a:path w="9005" h="3524">
                <a:moveTo>
                  <a:pt x="19348" y="11237"/>
                </a:moveTo>
                <a:cubicBezTo>
                  <a:pt x="19549" y="11280"/>
                  <a:pt x="19744" y="11332"/>
                  <a:pt x="19943" y="11385"/>
                </a:cubicBezTo>
                <a:cubicBezTo>
                  <a:pt x="20264" y="11470"/>
                  <a:pt x="20591" y="11525"/>
                  <a:pt x="20910" y="11609"/>
                </a:cubicBezTo>
                <a:cubicBezTo>
                  <a:pt x="21143" y="11671"/>
                  <a:pt x="21411" y="11695"/>
                  <a:pt x="21654" y="11708"/>
                </a:cubicBezTo>
                <a:cubicBezTo>
                  <a:pt x="21909" y="11722"/>
                  <a:pt x="22170" y="11713"/>
                  <a:pt x="22423" y="11683"/>
                </a:cubicBezTo>
                <a:cubicBezTo>
                  <a:pt x="22850" y="11632"/>
                  <a:pt x="23312" y="11612"/>
                  <a:pt x="23713" y="11460"/>
                </a:cubicBezTo>
                <a:cubicBezTo>
                  <a:pt x="23902" y="11388"/>
                  <a:pt x="24044" y="11177"/>
                  <a:pt x="24160" y="11013"/>
                </a:cubicBezTo>
                <a:cubicBezTo>
                  <a:pt x="24290" y="10830"/>
                  <a:pt x="24312" y="10480"/>
                  <a:pt x="24234" y="10269"/>
                </a:cubicBezTo>
                <a:cubicBezTo>
                  <a:pt x="24130" y="9989"/>
                  <a:pt x="23884" y="9751"/>
                  <a:pt x="23639" y="9599"/>
                </a:cubicBezTo>
                <a:cubicBezTo>
                  <a:pt x="23170" y="9307"/>
                  <a:pt x="22659" y="9108"/>
                  <a:pt x="22126" y="8979"/>
                </a:cubicBezTo>
                <a:cubicBezTo>
                  <a:pt x="21723" y="8882"/>
                  <a:pt x="21372" y="8841"/>
                  <a:pt x="20960" y="8880"/>
                </a:cubicBezTo>
                <a:cubicBezTo>
                  <a:pt x="20700" y="8904"/>
                  <a:pt x="20371" y="8970"/>
                  <a:pt x="20141" y="9103"/>
                </a:cubicBezTo>
                <a:cubicBezTo>
                  <a:pt x="19895" y="9245"/>
                  <a:pt x="19738" y="9481"/>
                  <a:pt x="19571" y="9699"/>
                </a:cubicBezTo>
                <a:cubicBezTo>
                  <a:pt x="19465" y="9838"/>
                  <a:pt x="19370" y="9977"/>
                  <a:pt x="19273" y="10120"/>
                </a:cubicBezTo>
                <a:cubicBezTo>
                  <a:pt x="19200" y="10227"/>
                  <a:pt x="19131" y="10326"/>
                  <a:pt x="19075" y="10443"/>
                </a:cubicBezTo>
                <a:cubicBezTo>
                  <a:pt x="19030" y="10538"/>
                  <a:pt x="18948" y="10664"/>
                  <a:pt x="18926" y="10765"/>
                </a:cubicBezTo>
                <a:cubicBezTo>
                  <a:pt x="18910" y="10838"/>
                  <a:pt x="18921" y="10930"/>
                  <a:pt x="18951" y="10988"/>
                </a:cubicBezTo>
                <a:cubicBezTo>
                  <a:pt x="19013" y="11110"/>
                  <a:pt x="19117" y="11191"/>
                  <a:pt x="19224" y="11261"/>
                </a:cubicBezTo>
                <a:cubicBezTo>
                  <a:pt x="19338" y="11335"/>
                  <a:pt x="19515" y="11386"/>
                  <a:pt x="19645" y="11435"/>
                </a:cubicBezTo>
                <a:cubicBezTo>
                  <a:pt x="19653" y="11435"/>
                  <a:pt x="19662" y="11435"/>
                  <a:pt x="19670" y="11435"/>
                </a:cubicBezTo>
              </a:path>
              <a:path w="9005" h="3524">
                <a:moveTo>
                  <a:pt x="15354" y="11683"/>
                </a:moveTo>
                <a:cubicBezTo>
                  <a:pt x="15338" y="11812"/>
                  <a:pt x="15352" y="11954"/>
                  <a:pt x="15329" y="12080"/>
                </a:cubicBezTo>
                <a:cubicBezTo>
                  <a:pt x="15321" y="12096"/>
                  <a:pt x="15312" y="12113"/>
                  <a:pt x="15304" y="12129"/>
                </a:cubicBezTo>
                <a:cubicBezTo>
                  <a:pt x="15256" y="12008"/>
                  <a:pt x="15248" y="11907"/>
                  <a:pt x="15304" y="11782"/>
                </a:cubicBezTo>
                <a:cubicBezTo>
                  <a:pt x="15337" y="11709"/>
                  <a:pt x="15414" y="11623"/>
                  <a:pt x="15478" y="11584"/>
                </a:cubicBezTo>
                <a:cubicBezTo>
                  <a:pt x="15579" y="11522"/>
                  <a:pt x="15647" y="11568"/>
                  <a:pt x="15701" y="11658"/>
                </a:cubicBezTo>
                <a:cubicBezTo>
                  <a:pt x="15772" y="11775"/>
                  <a:pt x="15803" y="11943"/>
                  <a:pt x="15776" y="12080"/>
                </a:cubicBezTo>
                <a:cubicBezTo>
                  <a:pt x="15767" y="12128"/>
                  <a:pt x="15751" y="12132"/>
                  <a:pt x="15751" y="12179"/>
                </a:cubicBezTo>
              </a:path>
              <a:path w="9005" h="3524">
                <a:moveTo>
                  <a:pt x="16148" y="11336"/>
                </a:moveTo>
                <a:cubicBezTo>
                  <a:pt x="16148" y="11263"/>
                  <a:pt x="16123" y="11500"/>
                  <a:pt x="16123" y="11509"/>
                </a:cubicBezTo>
                <a:cubicBezTo>
                  <a:pt x="16123" y="11567"/>
                  <a:pt x="16123" y="11576"/>
                  <a:pt x="16123" y="11609"/>
                </a:cubicBezTo>
              </a:path>
              <a:path w="9005" h="3524">
                <a:moveTo>
                  <a:pt x="16446" y="11906"/>
                </a:moveTo>
                <a:cubicBezTo>
                  <a:pt x="16524" y="11906"/>
                  <a:pt x="16748" y="11871"/>
                  <a:pt x="16768" y="11931"/>
                </a:cubicBezTo>
              </a:path>
              <a:path w="9005" h="3524">
                <a:moveTo>
                  <a:pt x="17066" y="11807"/>
                </a:moveTo>
                <a:cubicBezTo>
                  <a:pt x="17100" y="11938"/>
                  <a:pt x="17112" y="12086"/>
                  <a:pt x="17165" y="12204"/>
                </a:cubicBezTo>
                <a:cubicBezTo>
                  <a:pt x="17165" y="12070"/>
                  <a:pt x="17164" y="11926"/>
                  <a:pt x="17239" y="11807"/>
                </a:cubicBezTo>
                <a:cubicBezTo>
                  <a:pt x="17334" y="11657"/>
                  <a:pt x="17503" y="11748"/>
                  <a:pt x="17587" y="11857"/>
                </a:cubicBezTo>
                <a:cubicBezTo>
                  <a:pt x="17666" y="11958"/>
                  <a:pt x="17717" y="12092"/>
                  <a:pt x="17661" y="12204"/>
                </a:cubicBezTo>
              </a:path>
              <a:path w="9005" h="3524">
                <a:moveTo>
                  <a:pt x="17934" y="11336"/>
                </a:moveTo>
                <a:cubicBezTo>
                  <a:pt x="17989" y="11308"/>
                  <a:pt x="18099" y="11345"/>
                  <a:pt x="18182" y="11361"/>
                </a:cubicBezTo>
                <a:cubicBezTo>
                  <a:pt x="18166" y="11521"/>
                  <a:pt x="18091" y="11558"/>
                  <a:pt x="18008" y="11683"/>
                </a:cubicBezTo>
                <a:cubicBezTo>
                  <a:pt x="18008" y="11691"/>
                  <a:pt x="18008" y="11700"/>
                  <a:pt x="18008" y="11708"/>
                </a:cubicBezTo>
                <a:cubicBezTo>
                  <a:pt x="18089" y="11708"/>
                  <a:pt x="18361" y="11708"/>
                  <a:pt x="18355" y="11708"/>
                </a:cubicBezTo>
              </a:path>
              <a:path w="9005" h="3524">
                <a:moveTo>
                  <a:pt x="18926" y="11956"/>
                </a:moveTo>
                <a:cubicBezTo>
                  <a:pt x="18918" y="11948"/>
                  <a:pt x="18909" y="11939"/>
                  <a:pt x="18901" y="11931"/>
                </a:cubicBezTo>
                <a:cubicBezTo>
                  <a:pt x="19017" y="11931"/>
                  <a:pt x="19132" y="11931"/>
                  <a:pt x="19248" y="11931"/>
                </a:cubicBezTo>
              </a:path>
              <a:path w="9005" h="3524">
                <a:moveTo>
                  <a:pt x="18901" y="12105"/>
                </a:moveTo>
                <a:cubicBezTo>
                  <a:pt x="19043" y="12098"/>
                  <a:pt x="19180" y="12080"/>
                  <a:pt x="19323" y="12080"/>
                </a:cubicBezTo>
                <a:cubicBezTo>
                  <a:pt x="19331" y="12080"/>
                  <a:pt x="19340" y="12080"/>
                  <a:pt x="19348" y="12080"/>
                </a:cubicBezTo>
              </a:path>
              <a:path w="9005" h="3524">
                <a:moveTo>
                  <a:pt x="20290" y="11981"/>
                </a:moveTo>
                <a:cubicBezTo>
                  <a:pt x="20343" y="11998"/>
                  <a:pt x="20285" y="12042"/>
                  <a:pt x="20340" y="12005"/>
                </a:cubicBezTo>
                <a:cubicBezTo>
                  <a:pt x="20326" y="11938"/>
                  <a:pt x="20306" y="11887"/>
                  <a:pt x="20241" y="11857"/>
                </a:cubicBezTo>
                <a:cubicBezTo>
                  <a:pt x="20086" y="11787"/>
                  <a:pt x="19949" y="11967"/>
                  <a:pt x="19918" y="12105"/>
                </a:cubicBezTo>
                <a:cubicBezTo>
                  <a:pt x="19865" y="12337"/>
                  <a:pt x="20076" y="12404"/>
                  <a:pt x="20265" y="12378"/>
                </a:cubicBezTo>
                <a:cubicBezTo>
                  <a:pt x="20407" y="12359"/>
                  <a:pt x="20493" y="12259"/>
                  <a:pt x="20613" y="122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67080" y="4394160"/>
            <a:ext cx="5653080" cy="1481040"/>
          </a:xfrm>
          <a:custGeom>
            <a:avLst/>
            <a:gdLst/>
            <a:ahLst/>
            <a:rect l="l" t="t" r="r" b="b"/>
            <a:pathLst>
              <a:path w="15703" h="4118">
                <a:moveTo>
                  <a:pt x="23912" y="12898"/>
                </a:moveTo>
                <a:cubicBezTo>
                  <a:pt x="23995" y="13092"/>
                  <a:pt x="23878" y="12760"/>
                  <a:pt x="23862" y="12725"/>
                </a:cubicBezTo>
                <a:cubicBezTo>
                  <a:pt x="23579" y="12774"/>
                  <a:pt x="23277" y="12950"/>
                  <a:pt x="23267" y="13295"/>
                </a:cubicBezTo>
                <a:cubicBezTo>
                  <a:pt x="23255" y="13700"/>
                  <a:pt x="23902" y="13464"/>
                  <a:pt x="24085" y="13419"/>
                </a:cubicBezTo>
                <a:cubicBezTo>
                  <a:pt x="24110" y="13419"/>
                  <a:pt x="24118" y="13419"/>
                  <a:pt x="24135" y="13419"/>
                </a:cubicBezTo>
              </a:path>
              <a:path w="15703" h="4118">
                <a:moveTo>
                  <a:pt x="22944" y="13866"/>
                </a:moveTo>
                <a:cubicBezTo>
                  <a:pt x="23217" y="13866"/>
                  <a:pt x="23491" y="13898"/>
                  <a:pt x="23763" y="13915"/>
                </a:cubicBezTo>
                <a:cubicBezTo>
                  <a:pt x="23941" y="13926"/>
                  <a:pt x="24208" y="13921"/>
                  <a:pt x="24383" y="13965"/>
                </a:cubicBezTo>
              </a:path>
              <a:path w="15703" h="4118">
                <a:moveTo>
                  <a:pt x="23366" y="14337"/>
                </a:moveTo>
                <a:cubicBezTo>
                  <a:pt x="23366" y="14236"/>
                  <a:pt x="23323" y="14484"/>
                  <a:pt x="23316" y="14585"/>
                </a:cubicBezTo>
                <a:cubicBezTo>
                  <a:pt x="23309" y="14684"/>
                  <a:pt x="23316" y="14932"/>
                  <a:pt x="23316" y="14833"/>
                </a:cubicBezTo>
                <a:cubicBezTo>
                  <a:pt x="23316" y="14688"/>
                  <a:pt x="23290" y="14544"/>
                  <a:pt x="23366" y="14412"/>
                </a:cubicBezTo>
                <a:cubicBezTo>
                  <a:pt x="23445" y="14276"/>
                  <a:pt x="23591" y="14228"/>
                  <a:pt x="23738" y="14213"/>
                </a:cubicBezTo>
                <a:cubicBezTo>
                  <a:pt x="23953" y="14191"/>
                  <a:pt x="23973" y="14480"/>
                  <a:pt x="23986" y="14635"/>
                </a:cubicBezTo>
                <a:cubicBezTo>
                  <a:pt x="23995" y="14740"/>
                  <a:pt x="23986" y="14851"/>
                  <a:pt x="23986" y="14957"/>
                </a:cubicBezTo>
              </a:path>
              <a:path w="15703" h="4118">
                <a:moveTo>
                  <a:pt x="9351" y="16297"/>
                </a:moveTo>
                <a:cubicBezTo>
                  <a:pt x="9437" y="16320"/>
                  <a:pt x="9372" y="16297"/>
                  <a:pt x="9451" y="16297"/>
                </a:cubicBezTo>
                <a:cubicBezTo>
                  <a:pt x="9583" y="16297"/>
                  <a:pt x="9714" y="16256"/>
                  <a:pt x="9847" y="16247"/>
                </a:cubicBezTo>
                <a:cubicBezTo>
                  <a:pt x="10052" y="16233"/>
                  <a:pt x="10263" y="16232"/>
                  <a:pt x="10468" y="16222"/>
                </a:cubicBezTo>
                <a:cubicBezTo>
                  <a:pt x="10667" y="16212"/>
                  <a:pt x="10865" y="16202"/>
                  <a:pt x="11063" y="16197"/>
                </a:cubicBezTo>
                <a:cubicBezTo>
                  <a:pt x="11231" y="16193"/>
                  <a:pt x="11392" y="16176"/>
                  <a:pt x="11559" y="16173"/>
                </a:cubicBezTo>
                <a:cubicBezTo>
                  <a:pt x="11728" y="16170"/>
                  <a:pt x="11889" y="16186"/>
                  <a:pt x="12055" y="16197"/>
                </a:cubicBezTo>
                <a:cubicBezTo>
                  <a:pt x="12142" y="16203"/>
                  <a:pt x="12276" y="16164"/>
                  <a:pt x="12353" y="16173"/>
                </a:cubicBezTo>
                <a:cubicBezTo>
                  <a:pt x="12378" y="16173"/>
                  <a:pt x="12386" y="16173"/>
                  <a:pt x="12378" y="16197"/>
                </a:cubicBezTo>
              </a:path>
              <a:path w="15703" h="4118">
                <a:moveTo>
                  <a:pt x="13568" y="14982"/>
                </a:moveTo>
                <a:cubicBezTo>
                  <a:pt x="13700" y="15009"/>
                  <a:pt x="13830" y="15029"/>
                  <a:pt x="13965" y="15032"/>
                </a:cubicBezTo>
                <a:cubicBezTo>
                  <a:pt x="14281" y="15039"/>
                  <a:pt x="14595" y="15028"/>
                  <a:pt x="14908" y="15007"/>
                </a:cubicBezTo>
                <a:cubicBezTo>
                  <a:pt x="15074" y="14996"/>
                  <a:pt x="15240" y="15004"/>
                  <a:pt x="15404" y="14982"/>
                </a:cubicBezTo>
                <a:cubicBezTo>
                  <a:pt x="15624" y="14952"/>
                  <a:pt x="15851" y="14926"/>
                  <a:pt x="16073" y="14908"/>
                </a:cubicBezTo>
                <a:cubicBezTo>
                  <a:pt x="16206" y="14897"/>
                  <a:pt x="16338" y="14892"/>
                  <a:pt x="16470" y="14883"/>
                </a:cubicBezTo>
                <a:cubicBezTo>
                  <a:pt x="16586" y="14875"/>
                  <a:pt x="16706" y="14889"/>
                  <a:pt x="16818" y="14908"/>
                </a:cubicBezTo>
                <a:cubicBezTo>
                  <a:pt x="16918" y="14925"/>
                  <a:pt x="17016" y="14940"/>
                  <a:pt x="17115" y="14957"/>
                </a:cubicBezTo>
                <a:cubicBezTo>
                  <a:pt x="17224" y="14976"/>
                  <a:pt x="17327" y="14979"/>
                  <a:pt x="17438" y="14982"/>
                </a:cubicBezTo>
                <a:cubicBezTo>
                  <a:pt x="17638" y="14987"/>
                  <a:pt x="17835" y="14995"/>
                  <a:pt x="18033" y="15007"/>
                </a:cubicBezTo>
                <a:cubicBezTo>
                  <a:pt x="18232" y="15019"/>
                  <a:pt x="18431" y="15018"/>
                  <a:pt x="18628" y="15032"/>
                </a:cubicBezTo>
                <a:cubicBezTo>
                  <a:pt x="18751" y="15041"/>
                  <a:pt x="18881" y="15049"/>
                  <a:pt x="19000" y="15056"/>
                </a:cubicBezTo>
                <a:cubicBezTo>
                  <a:pt x="19059" y="15059"/>
                  <a:pt x="19151" y="15076"/>
                  <a:pt x="19174" y="15081"/>
                </a:cubicBezTo>
              </a:path>
              <a:path w="15703" h="4118">
                <a:moveTo>
                  <a:pt x="21927" y="15577"/>
                </a:moveTo>
                <a:cubicBezTo>
                  <a:pt x="22245" y="15776"/>
                  <a:pt x="22577" y="15960"/>
                  <a:pt x="22969" y="15949"/>
                </a:cubicBezTo>
                <a:cubicBezTo>
                  <a:pt x="23321" y="15939"/>
                  <a:pt x="23680" y="15845"/>
                  <a:pt x="23986" y="15677"/>
                </a:cubicBezTo>
                <a:cubicBezTo>
                  <a:pt x="24228" y="15544"/>
                  <a:pt x="24417" y="15370"/>
                  <a:pt x="24557" y="15131"/>
                </a:cubicBezTo>
                <a:cubicBezTo>
                  <a:pt x="24784" y="14742"/>
                  <a:pt x="25104" y="14125"/>
                  <a:pt x="25053" y="13667"/>
                </a:cubicBezTo>
                <a:cubicBezTo>
                  <a:pt x="25022" y="13394"/>
                  <a:pt x="24875" y="13037"/>
                  <a:pt x="24705" y="12824"/>
                </a:cubicBezTo>
                <a:cubicBezTo>
                  <a:pt x="24398" y="12439"/>
                  <a:pt x="23929" y="12223"/>
                  <a:pt x="23440" y="12204"/>
                </a:cubicBezTo>
                <a:cubicBezTo>
                  <a:pt x="22992" y="12186"/>
                  <a:pt x="22596" y="12366"/>
                  <a:pt x="22225" y="12601"/>
                </a:cubicBezTo>
                <a:cubicBezTo>
                  <a:pt x="21812" y="12863"/>
                  <a:pt x="21519" y="13333"/>
                  <a:pt x="21357" y="13791"/>
                </a:cubicBezTo>
                <a:cubicBezTo>
                  <a:pt x="21176" y="14303"/>
                  <a:pt x="21222" y="14809"/>
                  <a:pt x="21530" y="15255"/>
                </a:cubicBezTo>
                <a:cubicBezTo>
                  <a:pt x="21707" y="15453"/>
                  <a:pt x="21745" y="15512"/>
                  <a:pt x="21903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41280" y="4071960"/>
            <a:ext cx="3697560" cy="98280"/>
          </a:xfrm>
          <a:custGeom>
            <a:avLst/>
            <a:gdLst/>
            <a:ahLst/>
            <a:rect l="l" t="t" r="r" b="b"/>
            <a:pathLst>
              <a:path w="10270" h="274">
                <a:moveTo>
                  <a:pt x="3448" y="11311"/>
                </a:moveTo>
                <a:cubicBezTo>
                  <a:pt x="3509" y="11313"/>
                  <a:pt x="3571" y="11306"/>
                  <a:pt x="3646" y="11311"/>
                </a:cubicBezTo>
                <a:cubicBezTo>
                  <a:pt x="3892" y="11326"/>
                  <a:pt x="4143" y="11335"/>
                  <a:pt x="4390" y="11361"/>
                </a:cubicBezTo>
                <a:cubicBezTo>
                  <a:pt x="4622" y="11385"/>
                  <a:pt x="4854" y="11413"/>
                  <a:pt x="5085" y="11435"/>
                </a:cubicBezTo>
                <a:cubicBezTo>
                  <a:pt x="5310" y="11457"/>
                  <a:pt x="5528" y="11481"/>
                  <a:pt x="5755" y="11485"/>
                </a:cubicBezTo>
                <a:cubicBezTo>
                  <a:pt x="6333" y="11496"/>
                  <a:pt x="6894" y="11480"/>
                  <a:pt x="7466" y="11559"/>
                </a:cubicBezTo>
                <a:cubicBezTo>
                  <a:pt x="7622" y="11581"/>
                  <a:pt x="7780" y="11582"/>
                  <a:pt x="7938" y="11584"/>
                </a:cubicBezTo>
                <a:cubicBezTo>
                  <a:pt x="8334" y="11588"/>
                  <a:pt x="8737" y="11592"/>
                  <a:pt x="9128" y="11534"/>
                </a:cubicBezTo>
                <a:cubicBezTo>
                  <a:pt x="9285" y="11511"/>
                  <a:pt x="9441" y="11469"/>
                  <a:pt x="9599" y="11460"/>
                </a:cubicBezTo>
                <a:cubicBezTo>
                  <a:pt x="9822" y="11448"/>
                  <a:pt x="10046" y="11437"/>
                  <a:pt x="10269" y="11435"/>
                </a:cubicBezTo>
                <a:cubicBezTo>
                  <a:pt x="10461" y="11433"/>
                  <a:pt x="10651" y="11454"/>
                  <a:pt x="10840" y="11460"/>
                </a:cubicBezTo>
                <a:cubicBezTo>
                  <a:pt x="11197" y="11471"/>
                  <a:pt x="11553" y="11468"/>
                  <a:pt x="11906" y="11460"/>
                </a:cubicBezTo>
                <a:cubicBezTo>
                  <a:pt x="12213" y="11453"/>
                  <a:pt x="12518" y="11444"/>
                  <a:pt x="12824" y="11435"/>
                </a:cubicBezTo>
                <a:cubicBezTo>
                  <a:pt x="13098" y="11427"/>
                  <a:pt x="13372" y="11427"/>
                  <a:pt x="13643" y="11410"/>
                </a:cubicBezTo>
                <a:cubicBezTo>
                  <a:pt x="13684" y="11410"/>
                  <a:pt x="13692" y="11410"/>
                  <a:pt x="13717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86240" y="4938840"/>
            <a:ext cx="2295720" cy="88920"/>
          </a:xfrm>
          <a:custGeom>
            <a:avLst/>
            <a:gdLst/>
            <a:ahLst/>
            <a:rect l="l" t="t" r="r" b="b"/>
            <a:pathLst>
              <a:path w="6376" h="249">
                <a:moveTo>
                  <a:pt x="14684" y="13717"/>
                </a:moveTo>
                <a:cubicBezTo>
                  <a:pt x="14805" y="13741"/>
                  <a:pt x="14922" y="13754"/>
                  <a:pt x="15056" y="13767"/>
                </a:cubicBezTo>
                <a:cubicBezTo>
                  <a:pt x="15446" y="13804"/>
                  <a:pt x="15832" y="13839"/>
                  <a:pt x="16222" y="13866"/>
                </a:cubicBezTo>
                <a:cubicBezTo>
                  <a:pt x="16469" y="13883"/>
                  <a:pt x="16720" y="13893"/>
                  <a:pt x="16966" y="13915"/>
                </a:cubicBezTo>
                <a:cubicBezTo>
                  <a:pt x="17303" y="13946"/>
                  <a:pt x="17645" y="13961"/>
                  <a:pt x="17983" y="13965"/>
                </a:cubicBezTo>
                <a:cubicBezTo>
                  <a:pt x="18629" y="13973"/>
                  <a:pt x="19275" y="13965"/>
                  <a:pt x="19918" y="13940"/>
                </a:cubicBezTo>
                <a:cubicBezTo>
                  <a:pt x="20158" y="13931"/>
                  <a:pt x="20399" y="13920"/>
                  <a:pt x="20638" y="13915"/>
                </a:cubicBezTo>
                <a:cubicBezTo>
                  <a:pt x="20778" y="13912"/>
                  <a:pt x="20919" y="13915"/>
                  <a:pt x="21059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terday, Lauren’s plant was 16 inches tall.  Today it is 19 inches tall.  Find the percent of incr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salary went from $38,500 to $42,800, what was the percent of incr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2320" y="22860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find the percentage of increase or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62160" y="2062080"/>
            <a:ext cx="5162760" cy="1081080"/>
          </a:xfrm>
          <a:custGeom>
            <a:avLst/>
            <a:gdLst/>
            <a:ahLst/>
            <a:rect l="l" t="t" r="r" b="b"/>
            <a:pathLst>
              <a:path w="14338" h="3002">
                <a:moveTo>
                  <a:pt x="11609" y="7268"/>
                </a:moveTo>
                <a:cubicBezTo>
                  <a:pt x="11619" y="7267"/>
                  <a:pt x="11710" y="7244"/>
                  <a:pt x="11757" y="7243"/>
                </a:cubicBezTo>
                <a:cubicBezTo>
                  <a:pt x="12073" y="7237"/>
                  <a:pt x="12386" y="7234"/>
                  <a:pt x="12700" y="7218"/>
                </a:cubicBezTo>
                <a:cubicBezTo>
                  <a:pt x="13195" y="7193"/>
                  <a:pt x="13694" y="7221"/>
                  <a:pt x="14188" y="7193"/>
                </a:cubicBezTo>
                <a:cubicBezTo>
                  <a:pt x="14869" y="7155"/>
                  <a:pt x="15567" y="7178"/>
                  <a:pt x="16247" y="7169"/>
                </a:cubicBezTo>
                <a:cubicBezTo>
                  <a:pt x="16570" y="7165"/>
                  <a:pt x="16897" y="7166"/>
                  <a:pt x="17214" y="7144"/>
                </a:cubicBezTo>
                <a:cubicBezTo>
                  <a:pt x="17385" y="7132"/>
                  <a:pt x="17541" y="7130"/>
                  <a:pt x="17711" y="7094"/>
                </a:cubicBezTo>
              </a:path>
              <a:path w="14338" h="3002">
                <a:moveTo>
                  <a:pt x="18529" y="5854"/>
                </a:moveTo>
                <a:cubicBezTo>
                  <a:pt x="18591" y="5840"/>
                  <a:pt x="18665" y="5812"/>
                  <a:pt x="18728" y="5804"/>
                </a:cubicBezTo>
                <a:cubicBezTo>
                  <a:pt x="18881" y="5785"/>
                  <a:pt x="19045" y="5764"/>
                  <a:pt x="19199" y="5755"/>
                </a:cubicBezTo>
                <a:cubicBezTo>
                  <a:pt x="19364" y="5745"/>
                  <a:pt x="19531" y="5734"/>
                  <a:pt x="19695" y="5730"/>
                </a:cubicBezTo>
                <a:cubicBezTo>
                  <a:pt x="19978" y="5723"/>
                  <a:pt x="20258" y="5734"/>
                  <a:pt x="20538" y="5755"/>
                </a:cubicBezTo>
                <a:cubicBezTo>
                  <a:pt x="20657" y="5764"/>
                  <a:pt x="20769" y="5791"/>
                  <a:pt x="20886" y="5804"/>
                </a:cubicBezTo>
                <a:cubicBezTo>
                  <a:pt x="21017" y="5818"/>
                  <a:pt x="21150" y="5845"/>
                  <a:pt x="21282" y="5854"/>
                </a:cubicBezTo>
                <a:cubicBezTo>
                  <a:pt x="21481" y="5868"/>
                  <a:pt x="21677" y="5879"/>
                  <a:pt x="21878" y="5879"/>
                </a:cubicBezTo>
                <a:cubicBezTo>
                  <a:pt x="22078" y="5879"/>
                  <a:pt x="22272" y="5854"/>
                  <a:pt x="22473" y="5854"/>
                </a:cubicBezTo>
                <a:cubicBezTo>
                  <a:pt x="22591" y="5854"/>
                  <a:pt x="22719" y="5845"/>
                  <a:pt x="22820" y="5829"/>
                </a:cubicBezTo>
                <a:cubicBezTo>
                  <a:pt x="22828" y="5829"/>
                  <a:pt x="22837" y="5829"/>
                  <a:pt x="22845" y="5829"/>
                </a:cubicBezTo>
              </a:path>
              <a:path w="14338" h="3002">
                <a:moveTo>
                  <a:pt x="8508" y="8508"/>
                </a:moveTo>
                <a:cubicBezTo>
                  <a:pt x="8521" y="8593"/>
                  <a:pt x="8487" y="8614"/>
                  <a:pt x="8558" y="8682"/>
                </a:cubicBezTo>
                <a:cubicBezTo>
                  <a:pt x="8695" y="8812"/>
                  <a:pt x="8840" y="8654"/>
                  <a:pt x="8930" y="8558"/>
                </a:cubicBezTo>
                <a:cubicBezTo>
                  <a:pt x="8938" y="8550"/>
                  <a:pt x="8946" y="8541"/>
                  <a:pt x="8954" y="8533"/>
                </a:cubicBezTo>
                <a:cubicBezTo>
                  <a:pt x="9057" y="8643"/>
                  <a:pt x="9075" y="8697"/>
                  <a:pt x="9252" y="8657"/>
                </a:cubicBezTo>
                <a:cubicBezTo>
                  <a:pt x="9527" y="8595"/>
                  <a:pt x="9395" y="8587"/>
                  <a:pt x="9649" y="8607"/>
                </a:cubicBezTo>
                <a:cubicBezTo>
                  <a:pt x="9891" y="8626"/>
                  <a:pt x="10067" y="8520"/>
                  <a:pt x="10294" y="8483"/>
                </a:cubicBezTo>
                <a:cubicBezTo>
                  <a:pt x="10392" y="8467"/>
                  <a:pt x="10425" y="8551"/>
                  <a:pt x="10517" y="8582"/>
                </a:cubicBezTo>
                <a:cubicBezTo>
                  <a:pt x="10698" y="8642"/>
                  <a:pt x="10772" y="8558"/>
                  <a:pt x="10914" y="8483"/>
                </a:cubicBezTo>
                <a:cubicBezTo>
                  <a:pt x="10922" y="8483"/>
                  <a:pt x="10931" y="8483"/>
                  <a:pt x="10939" y="8483"/>
                </a:cubicBezTo>
                <a:cubicBezTo>
                  <a:pt x="11039" y="8571"/>
                  <a:pt x="11107" y="8669"/>
                  <a:pt x="11261" y="8632"/>
                </a:cubicBezTo>
                <a:cubicBezTo>
                  <a:pt x="11399" y="8599"/>
                  <a:pt x="11467" y="8507"/>
                  <a:pt x="11584" y="8533"/>
                </a:cubicBezTo>
                <a:cubicBezTo>
                  <a:pt x="11762" y="8573"/>
                  <a:pt x="11795" y="8635"/>
                  <a:pt x="12030" y="8582"/>
                </a:cubicBezTo>
                <a:cubicBezTo>
                  <a:pt x="12182" y="8548"/>
                  <a:pt x="12308" y="8657"/>
                  <a:pt x="12477" y="8657"/>
                </a:cubicBezTo>
                <a:cubicBezTo>
                  <a:pt x="12638" y="8657"/>
                  <a:pt x="12737" y="8647"/>
                  <a:pt x="12898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57880" y="2751120"/>
            <a:ext cx="1063440" cy="249120"/>
          </a:xfrm>
          <a:custGeom>
            <a:avLst/>
            <a:gdLst/>
            <a:ahLst/>
            <a:rect l="l" t="t" r="r" b="b"/>
            <a:pathLst>
              <a:path w="2953" h="695">
                <a:moveTo>
                  <a:pt x="14883" y="7789"/>
                </a:moveTo>
                <a:cubicBezTo>
                  <a:pt x="14883" y="7673"/>
                  <a:pt x="14902" y="7970"/>
                  <a:pt x="14908" y="8086"/>
                </a:cubicBezTo>
                <a:cubicBezTo>
                  <a:pt x="14913" y="8182"/>
                  <a:pt x="14859" y="8359"/>
                  <a:pt x="14932" y="8285"/>
                </a:cubicBezTo>
              </a:path>
              <a:path w="2953" h="695">
                <a:moveTo>
                  <a:pt x="15478" y="7714"/>
                </a:moveTo>
                <a:cubicBezTo>
                  <a:pt x="15357" y="7608"/>
                  <a:pt x="15270" y="7629"/>
                  <a:pt x="15180" y="7789"/>
                </a:cubicBezTo>
                <a:cubicBezTo>
                  <a:pt x="15075" y="7975"/>
                  <a:pt x="15226" y="8126"/>
                  <a:pt x="15379" y="7962"/>
                </a:cubicBezTo>
                <a:cubicBezTo>
                  <a:pt x="15404" y="7921"/>
                  <a:pt x="15428" y="7879"/>
                  <a:pt x="15453" y="7838"/>
                </a:cubicBezTo>
                <a:cubicBezTo>
                  <a:pt x="15453" y="7805"/>
                  <a:pt x="15453" y="7772"/>
                  <a:pt x="15453" y="7739"/>
                </a:cubicBezTo>
                <a:cubicBezTo>
                  <a:pt x="15476" y="7916"/>
                  <a:pt x="15471" y="8090"/>
                  <a:pt x="15528" y="8260"/>
                </a:cubicBezTo>
              </a:path>
              <a:path w="2953" h="695">
                <a:moveTo>
                  <a:pt x="15801" y="7962"/>
                </a:moveTo>
                <a:cubicBezTo>
                  <a:pt x="15916" y="7979"/>
                  <a:pt x="16042" y="7976"/>
                  <a:pt x="16148" y="7938"/>
                </a:cubicBezTo>
              </a:path>
              <a:path w="2953" h="695">
                <a:moveTo>
                  <a:pt x="16297" y="7689"/>
                </a:moveTo>
                <a:cubicBezTo>
                  <a:pt x="16297" y="7851"/>
                  <a:pt x="16328" y="8001"/>
                  <a:pt x="16346" y="8161"/>
                </a:cubicBezTo>
                <a:cubicBezTo>
                  <a:pt x="16355" y="8237"/>
                  <a:pt x="16314" y="8252"/>
                  <a:pt x="16396" y="8186"/>
                </a:cubicBezTo>
              </a:path>
              <a:path w="2953" h="695">
                <a:moveTo>
                  <a:pt x="16694" y="7665"/>
                </a:moveTo>
                <a:cubicBezTo>
                  <a:pt x="16676" y="7809"/>
                  <a:pt x="16615" y="7957"/>
                  <a:pt x="16644" y="8111"/>
                </a:cubicBezTo>
                <a:cubicBezTo>
                  <a:pt x="16682" y="8314"/>
                  <a:pt x="16940" y="8276"/>
                  <a:pt x="17066" y="8186"/>
                </a:cubicBezTo>
                <a:cubicBezTo>
                  <a:pt x="17082" y="8161"/>
                  <a:pt x="17099" y="8136"/>
                  <a:pt x="17115" y="8111"/>
                </a:cubicBezTo>
                <a:cubicBezTo>
                  <a:pt x="17039" y="8024"/>
                  <a:pt x="16942" y="8011"/>
                  <a:pt x="16867" y="8136"/>
                </a:cubicBezTo>
                <a:cubicBezTo>
                  <a:pt x="16867" y="8181"/>
                  <a:pt x="16863" y="8194"/>
                  <a:pt x="16892" y="8210"/>
                </a:cubicBezTo>
              </a:path>
              <a:path w="2953" h="695">
                <a:moveTo>
                  <a:pt x="17487" y="7913"/>
                </a:moveTo>
                <a:cubicBezTo>
                  <a:pt x="17521" y="7913"/>
                  <a:pt x="17706" y="7881"/>
                  <a:pt x="17711" y="7888"/>
                </a:cubicBezTo>
                <a:cubicBezTo>
                  <a:pt x="17711" y="7905"/>
                  <a:pt x="17711" y="7921"/>
                  <a:pt x="17711" y="7938"/>
                </a:cubicBezTo>
              </a:path>
              <a:path w="2953" h="695">
                <a:moveTo>
                  <a:pt x="17462" y="8086"/>
                </a:moveTo>
                <a:cubicBezTo>
                  <a:pt x="17588" y="8079"/>
                  <a:pt x="17717" y="8073"/>
                  <a:pt x="17835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97800" y="2768760"/>
            <a:ext cx="187200" cy="241200"/>
          </a:xfrm>
          <a:custGeom>
            <a:avLst/>
            <a:gdLst/>
            <a:ahLst/>
            <a:rect l="l" t="t" r="r" b="b"/>
            <a:pathLst>
              <a:path w="521" h="671">
                <a:moveTo>
                  <a:pt x="18604" y="7764"/>
                </a:moveTo>
                <a:cubicBezTo>
                  <a:pt x="18665" y="7715"/>
                  <a:pt x="18850" y="7658"/>
                  <a:pt x="18951" y="7714"/>
                </a:cubicBezTo>
                <a:cubicBezTo>
                  <a:pt x="19090" y="7790"/>
                  <a:pt x="18821" y="7978"/>
                  <a:pt x="18777" y="8012"/>
                </a:cubicBezTo>
                <a:cubicBezTo>
                  <a:pt x="18878" y="7995"/>
                  <a:pt x="18986" y="7947"/>
                  <a:pt x="19075" y="8037"/>
                </a:cubicBezTo>
                <a:cubicBezTo>
                  <a:pt x="19202" y="8164"/>
                  <a:pt x="19066" y="8339"/>
                  <a:pt x="18926" y="8359"/>
                </a:cubicBezTo>
                <a:cubicBezTo>
                  <a:pt x="18818" y="8374"/>
                  <a:pt x="18697" y="8357"/>
                  <a:pt x="18628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08080" y="3098880"/>
            <a:ext cx="3884760" cy="696960"/>
          </a:xfrm>
          <a:custGeom>
            <a:avLst/>
            <a:gdLst/>
            <a:ahLst/>
            <a:rect l="l" t="t" r="r" b="b"/>
            <a:pathLst>
              <a:path w="10791" h="1936">
                <a:moveTo>
                  <a:pt x="4564" y="9426"/>
                </a:moveTo>
                <a:cubicBezTo>
                  <a:pt x="4455" y="9639"/>
                  <a:pt x="4374" y="9815"/>
                  <a:pt x="4316" y="10046"/>
                </a:cubicBezTo>
                <a:cubicBezTo>
                  <a:pt x="4552" y="10087"/>
                  <a:pt x="4827" y="10049"/>
                  <a:pt x="4837" y="9723"/>
                </a:cubicBezTo>
                <a:cubicBezTo>
                  <a:pt x="4843" y="9521"/>
                  <a:pt x="4690" y="9401"/>
                  <a:pt x="4539" y="9475"/>
                </a:cubicBezTo>
              </a:path>
              <a:path w="10791" h="1936">
                <a:moveTo>
                  <a:pt x="5135" y="9872"/>
                </a:moveTo>
                <a:cubicBezTo>
                  <a:pt x="5157" y="9895"/>
                  <a:pt x="5165" y="9900"/>
                  <a:pt x="5159" y="9922"/>
                </a:cubicBezTo>
              </a:path>
              <a:path w="10791" h="1936">
                <a:moveTo>
                  <a:pt x="5581" y="9426"/>
                </a:moveTo>
                <a:cubicBezTo>
                  <a:pt x="5617" y="9606"/>
                  <a:pt x="5659" y="9786"/>
                  <a:pt x="5680" y="9971"/>
                </a:cubicBezTo>
                <a:cubicBezTo>
                  <a:pt x="5680" y="9988"/>
                  <a:pt x="5680" y="10004"/>
                  <a:pt x="5680" y="10021"/>
                </a:cubicBezTo>
              </a:path>
              <a:path w="10791" h="1936">
                <a:moveTo>
                  <a:pt x="6300" y="9401"/>
                </a:moveTo>
                <a:cubicBezTo>
                  <a:pt x="6168" y="9382"/>
                  <a:pt x="6005" y="9380"/>
                  <a:pt x="5904" y="9500"/>
                </a:cubicBezTo>
                <a:cubicBezTo>
                  <a:pt x="5896" y="9533"/>
                  <a:pt x="5887" y="9566"/>
                  <a:pt x="5879" y="9599"/>
                </a:cubicBezTo>
                <a:cubicBezTo>
                  <a:pt x="6049" y="9710"/>
                  <a:pt x="6258" y="9782"/>
                  <a:pt x="6375" y="9922"/>
                </a:cubicBezTo>
                <a:cubicBezTo>
                  <a:pt x="6204" y="9982"/>
                  <a:pt x="6068" y="10030"/>
                  <a:pt x="6152" y="9798"/>
                </a:cubicBezTo>
                <a:cubicBezTo>
                  <a:pt x="6187" y="9701"/>
                  <a:pt x="6248" y="9598"/>
                  <a:pt x="6276" y="9500"/>
                </a:cubicBezTo>
              </a:path>
              <a:path w="10791" h="1936">
                <a:moveTo>
                  <a:pt x="6648" y="9550"/>
                </a:moveTo>
                <a:cubicBezTo>
                  <a:pt x="6648" y="9578"/>
                  <a:pt x="6646" y="9589"/>
                  <a:pt x="6623" y="9599"/>
                </a:cubicBezTo>
                <a:cubicBezTo>
                  <a:pt x="6645" y="9622"/>
                  <a:pt x="6745" y="9436"/>
                  <a:pt x="6821" y="9401"/>
                </a:cubicBezTo>
                <a:cubicBezTo>
                  <a:pt x="6958" y="9338"/>
                  <a:pt x="7027" y="9528"/>
                  <a:pt x="7020" y="9624"/>
                </a:cubicBezTo>
                <a:cubicBezTo>
                  <a:pt x="7014" y="9704"/>
                  <a:pt x="6891" y="9920"/>
                  <a:pt x="6970" y="9971"/>
                </a:cubicBezTo>
              </a:path>
              <a:path w="10791" h="1936">
                <a:moveTo>
                  <a:pt x="7441" y="9451"/>
                </a:moveTo>
                <a:cubicBezTo>
                  <a:pt x="7385" y="9451"/>
                  <a:pt x="7315" y="9435"/>
                  <a:pt x="7293" y="9475"/>
                </a:cubicBezTo>
                <a:cubicBezTo>
                  <a:pt x="7267" y="9523"/>
                  <a:pt x="7268" y="9547"/>
                  <a:pt x="7268" y="9599"/>
                </a:cubicBezTo>
                <a:cubicBezTo>
                  <a:pt x="7351" y="9649"/>
                  <a:pt x="7447" y="9598"/>
                  <a:pt x="7541" y="9624"/>
                </a:cubicBezTo>
                <a:cubicBezTo>
                  <a:pt x="7700" y="9669"/>
                  <a:pt x="7788" y="9867"/>
                  <a:pt x="7615" y="9971"/>
                </a:cubicBezTo>
                <a:cubicBezTo>
                  <a:pt x="7464" y="10062"/>
                  <a:pt x="7384" y="9957"/>
                  <a:pt x="7293" y="9872"/>
                </a:cubicBezTo>
              </a:path>
              <a:path w="10791" h="1936">
                <a:moveTo>
                  <a:pt x="3101" y="8607"/>
                </a:moveTo>
                <a:cubicBezTo>
                  <a:pt x="3153" y="8634"/>
                  <a:pt x="3144" y="8665"/>
                  <a:pt x="3200" y="8682"/>
                </a:cubicBezTo>
                <a:cubicBezTo>
                  <a:pt x="3279" y="8706"/>
                  <a:pt x="3360" y="8644"/>
                  <a:pt x="3423" y="8632"/>
                </a:cubicBezTo>
                <a:cubicBezTo>
                  <a:pt x="3531" y="8612"/>
                  <a:pt x="3655" y="8646"/>
                  <a:pt x="3746" y="8657"/>
                </a:cubicBezTo>
                <a:cubicBezTo>
                  <a:pt x="3843" y="8669"/>
                  <a:pt x="3947" y="8671"/>
                  <a:pt x="4043" y="8682"/>
                </a:cubicBezTo>
                <a:cubicBezTo>
                  <a:pt x="4133" y="8692"/>
                  <a:pt x="4227" y="8696"/>
                  <a:pt x="4316" y="8706"/>
                </a:cubicBezTo>
                <a:cubicBezTo>
                  <a:pt x="4431" y="8718"/>
                  <a:pt x="4555" y="8648"/>
                  <a:pt x="4663" y="8657"/>
                </a:cubicBezTo>
                <a:cubicBezTo>
                  <a:pt x="4735" y="8663"/>
                  <a:pt x="4838" y="8688"/>
                  <a:pt x="4911" y="8706"/>
                </a:cubicBezTo>
                <a:cubicBezTo>
                  <a:pt x="5035" y="8737"/>
                  <a:pt x="5113" y="8717"/>
                  <a:pt x="5234" y="8706"/>
                </a:cubicBezTo>
                <a:cubicBezTo>
                  <a:pt x="5322" y="8698"/>
                  <a:pt x="5394" y="8728"/>
                  <a:pt x="5482" y="8731"/>
                </a:cubicBezTo>
                <a:cubicBezTo>
                  <a:pt x="5590" y="8735"/>
                  <a:pt x="5654" y="8671"/>
                  <a:pt x="5755" y="8682"/>
                </a:cubicBezTo>
                <a:cubicBezTo>
                  <a:pt x="5806" y="8687"/>
                  <a:pt x="5851" y="8700"/>
                  <a:pt x="5904" y="8706"/>
                </a:cubicBezTo>
                <a:cubicBezTo>
                  <a:pt x="5928" y="8706"/>
                  <a:pt x="5936" y="8706"/>
                  <a:pt x="5904" y="8706"/>
                </a:cubicBezTo>
              </a:path>
              <a:path w="10791" h="1936">
                <a:moveTo>
                  <a:pt x="3324" y="8930"/>
                </a:moveTo>
                <a:cubicBezTo>
                  <a:pt x="3389" y="8958"/>
                  <a:pt x="3465" y="9000"/>
                  <a:pt x="3547" y="8979"/>
                </a:cubicBezTo>
                <a:cubicBezTo>
                  <a:pt x="3712" y="8937"/>
                  <a:pt x="3679" y="8879"/>
                  <a:pt x="3845" y="8930"/>
                </a:cubicBezTo>
                <a:cubicBezTo>
                  <a:pt x="4016" y="8982"/>
                  <a:pt x="4166" y="8872"/>
                  <a:pt x="4341" y="8930"/>
                </a:cubicBezTo>
                <a:cubicBezTo>
                  <a:pt x="4473" y="8974"/>
                  <a:pt x="4541" y="9004"/>
                  <a:pt x="4688" y="9004"/>
                </a:cubicBezTo>
                <a:cubicBezTo>
                  <a:pt x="4800" y="9004"/>
                  <a:pt x="4879" y="8959"/>
                  <a:pt x="4986" y="8930"/>
                </a:cubicBezTo>
                <a:cubicBezTo>
                  <a:pt x="5098" y="8899"/>
                  <a:pt x="5139" y="8946"/>
                  <a:pt x="5234" y="8930"/>
                </a:cubicBezTo>
                <a:cubicBezTo>
                  <a:pt x="5311" y="8917"/>
                  <a:pt x="5389" y="8888"/>
                  <a:pt x="5457" y="8880"/>
                </a:cubicBezTo>
                <a:cubicBezTo>
                  <a:pt x="5531" y="8871"/>
                  <a:pt x="5596" y="8871"/>
                  <a:pt x="5631" y="8880"/>
                </a:cubicBezTo>
              </a:path>
              <a:path w="10791" h="1936">
                <a:moveTo>
                  <a:pt x="5259" y="10244"/>
                </a:moveTo>
                <a:cubicBezTo>
                  <a:pt x="5281" y="10222"/>
                  <a:pt x="5289" y="10217"/>
                  <a:pt x="5283" y="10195"/>
                </a:cubicBezTo>
                <a:cubicBezTo>
                  <a:pt x="5296" y="10242"/>
                  <a:pt x="5334" y="10396"/>
                  <a:pt x="5383" y="10468"/>
                </a:cubicBezTo>
                <a:cubicBezTo>
                  <a:pt x="5465" y="10588"/>
                  <a:pt x="5644" y="10534"/>
                  <a:pt x="5755" y="10492"/>
                </a:cubicBezTo>
                <a:cubicBezTo>
                  <a:pt x="5882" y="10444"/>
                  <a:pt x="5849" y="10408"/>
                  <a:pt x="5904" y="10344"/>
                </a:cubicBezTo>
                <a:cubicBezTo>
                  <a:pt x="5912" y="10344"/>
                  <a:pt x="5920" y="10344"/>
                  <a:pt x="5928" y="10344"/>
                </a:cubicBezTo>
                <a:cubicBezTo>
                  <a:pt x="6009" y="10443"/>
                  <a:pt x="6030" y="10499"/>
                  <a:pt x="6176" y="10517"/>
                </a:cubicBezTo>
                <a:cubicBezTo>
                  <a:pt x="6345" y="10538"/>
                  <a:pt x="6499" y="10506"/>
                  <a:pt x="6598" y="10368"/>
                </a:cubicBezTo>
                <a:cubicBezTo>
                  <a:pt x="6626" y="10330"/>
                  <a:pt x="6660" y="10296"/>
                  <a:pt x="6672" y="10269"/>
                </a:cubicBezTo>
                <a:cubicBezTo>
                  <a:pt x="6672" y="10261"/>
                  <a:pt x="6672" y="10252"/>
                  <a:pt x="6672" y="10244"/>
                </a:cubicBezTo>
                <a:cubicBezTo>
                  <a:pt x="6727" y="10276"/>
                  <a:pt x="6679" y="10353"/>
                  <a:pt x="6796" y="10244"/>
                </a:cubicBezTo>
                <a:cubicBezTo>
                  <a:pt x="6890" y="10156"/>
                  <a:pt x="6778" y="10109"/>
                  <a:pt x="6697" y="10145"/>
                </a:cubicBezTo>
                <a:cubicBezTo>
                  <a:pt x="6650" y="10165"/>
                  <a:pt x="6654" y="10204"/>
                  <a:pt x="6648" y="10244"/>
                </a:cubicBezTo>
                <a:cubicBezTo>
                  <a:pt x="6735" y="10225"/>
                  <a:pt x="6745" y="10217"/>
                  <a:pt x="6772" y="10145"/>
                </a:cubicBezTo>
                <a:cubicBezTo>
                  <a:pt x="6661" y="10201"/>
                  <a:pt x="6596" y="10242"/>
                  <a:pt x="6747" y="10269"/>
                </a:cubicBezTo>
              </a:path>
              <a:path w="10791" h="1936">
                <a:moveTo>
                  <a:pt x="8756" y="9748"/>
                </a:moveTo>
                <a:cubicBezTo>
                  <a:pt x="8844" y="9723"/>
                  <a:pt x="9004" y="9657"/>
                  <a:pt x="9004" y="9723"/>
                </a:cubicBezTo>
              </a:path>
              <a:path w="10791" h="1936">
                <a:moveTo>
                  <a:pt x="8830" y="10021"/>
                </a:moveTo>
                <a:cubicBezTo>
                  <a:pt x="9012" y="9969"/>
                  <a:pt x="9077" y="9950"/>
                  <a:pt x="9203" y="9922"/>
                </a:cubicBezTo>
              </a:path>
              <a:path w="10791" h="1936">
                <a:moveTo>
                  <a:pt x="10170" y="9550"/>
                </a:moveTo>
                <a:cubicBezTo>
                  <a:pt x="10184" y="9764"/>
                  <a:pt x="10208" y="9960"/>
                  <a:pt x="10195" y="10170"/>
                </a:cubicBezTo>
                <a:cubicBezTo>
                  <a:pt x="10195" y="10248"/>
                  <a:pt x="10205" y="10239"/>
                  <a:pt x="10244" y="10096"/>
                </a:cubicBezTo>
              </a:path>
              <a:path w="10791" h="1936">
                <a:moveTo>
                  <a:pt x="10815" y="9575"/>
                </a:moveTo>
                <a:cubicBezTo>
                  <a:pt x="10702" y="9642"/>
                  <a:pt x="10670" y="9658"/>
                  <a:pt x="10616" y="9723"/>
                </a:cubicBezTo>
                <a:cubicBezTo>
                  <a:pt x="10678" y="9884"/>
                  <a:pt x="10882" y="9940"/>
                  <a:pt x="10939" y="10120"/>
                </a:cubicBezTo>
                <a:cubicBezTo>
                  <a:pt x="10891" y="10168"/>
                  <a:pt x="10852" y="10189"/>
                  <a:pt x="10790" y="10195"/>
                </a:cubicBezTo>
                <a:cubicBezTo>
                  <a:pt x="10696" y="9991"/>
                  <a:pt x="10824" y="9915"/>
                  <a:pt x="10914" y="9699"/>
                </a:cubicBezTo>
                <a:cubicBezTo>
                  <a:pt x="10933" y="9653"/>
                  <a:pt x="10857" y="9672"/>
                  <a:pt x="10815" y="9699"/>
                </a:cubicBezTo>
              </a:path>
              <a:path w="10791" h="1936">
                <a:moveTo>
                  <a:pt x="11336" y="10145"/>
                </a:moveTo>
                <a:cubicBezTo>
                  <a:pt x="11301" y="10145"/>
                  <a:pt x="11236" y="10193"/>
                  <a:pt x="11237" y="10195"/>
                </a:cubicBezTo>
                <a:cubicBezTo>
                  <a:pt x="11254" y="10232"/>
                  <a:pt x="11309" y="10099"/>
                  <a:pt x="11311" y="10096"/>
                </a:cubicBezTo>
                <a:cubicBezTo>
                  <a:pt x="11245" y="10096"/>
                  <a:pt x="11228" y="10096"/>
                  <a:pt x="11187" y="10096"/>
                </a:cubicBezTo>
              </a:path>
              <a:path w="10791" h="1936">
                <a:moveTo>
                  <a:pt x="11633" y="9674"/>
                </a:moveTo>
                <a:cubicBezTo>
                  <a:pt x="11633" y="9730"/>
                  <a:pt x="11630" y="9617"/>
                  <a:pt x="11658" y="9599"/>
                </a:cubicBezTo>
                <a:cubicBezTo>
                  <a:pt x="11767" y="9528"/>
                  <a:pt x="11909" y="9644"/>
                  <a:pt x="12030" y="9624"/>
                </a:cubicBezTo>
                <a:cubicBezTo>
                  <a:pt x="12074" y="9602"/>
                  <a:pt x="12086" y="9589"/>
                  <a:pt x="12105" y="9624"/>
                </a:cubicBezTo>
                <a:cubicBezTo>
                  <a:pt x="12024" y="9803"/>
                  <a:pt x="11996" y="10026"/>
                  <a:pt x="11906" y="10195"/>
                </a:cubicBezTo>
                <a:cubicBezTo>
                  <a:pt x="11881" y="10195"/>
                  <a:pt x="11873" y="10195"/>
                  <a:pt x="11906" y="10195"/>
                </a:cubicBezTo>
              </a:path>
              <a:path w="10791" h="1936">
                <a:moveTo>
                  <a:pt x="12576" y="9599"/>
                </a:moveTo>
                <a:cubicBezTo>
                  <a:pt x="12559" y="9595"/>
                  <a:pt x="12428" y="9548"/>
                  <a:pt x="12402" y="9575"/>
                </a:cubicBezTo>
                <a:cubicBezTo>
                  <a:pt x="12348" y="9632"/>
                  <a:pt x="12317" y="9678"/>
                  <a:pt x="12303" y="9748"/>
                </a:cubicBezTo>
                <a:cubicBezTo>
                  <a:pt x="12448" y="9748"/>
                  <a:pt x="12554" y="9723"/>
                  <a:pt x="12675" y="9823"/>
                </a:cubicBezTo>
                <a:cubicBezTo>
                  <a:pt x="12907" y="10015"/>
                  <a:pt x="12636" y="10142"/>
                  <a:pt x="12452" y="10145"/>
                </a:cubicBezTo>
                <a:cubicBezTo>
                  <a:pt x="12329" y="10120"/>
                  <a:pt x="12288" y="10112"/>
                  <a:pt x="12229" y="10046"/>
                </a:cubicBezTo>
              </a:path>
              <a:path w="10791" h="1936">
                <a:moveTo>
                  <a:pt x="13097" y="9401"/>
                </a:moveTo>
                <a:cubicBezTo>
                  <a:pt x="12992" y="9528"/>
                  <a:pt x="12962" y="9541"/>
                  <a:pt x="12973" y="9699"/>
                </a:cubicBezTo>
                <a:cubicBezTo>
                  <a:pt x="13140" y="9688"/>
                  <a:pt x="13212" y="9671"/>
                  <a:pt x="13146" y="9500"/>
                </a:cubicBezTo>
                <a:cubicBezTo>
                  <a:pt x="13080" y="9328"/>
                  <a:pt x="13367" y="9375"/>
                  <a:pt x="13444" y="9451"/>
                </a:cubicBezTo>
                <a:cubicBezTo>
                  <a:pt x="13659" y="9665"/>
                  <a:pt x="13408" y="10003"/>
                  <a:pt x="13295" y="10195"/>
                </a:cubicBezTo>
                <a:cubicBezTo>
                  <a:pt x="13258" y="10251"/>
                  <a:pt x="13220" y="10276"/>
                  <a:pt x="13271" y="10269"/>
                </a:cubicBezTo>
              </a:path>
              <a:path w="10791" h="1936">
                <a:moveTo>
                  <a:pt x="13692" y="10145"/>
                </a:moveTo>
                <a:cubicBezTo>
                  <a:pt x="13724" y="10214"/>
                  <a:pt x="13903" y="10353"/>
                  <a:pt x="13866" y="10170"/>
                </a:cubicBezTo>
                <a:cubicBezTo>
                  <a:pt x="13809" y="10113"/>
                  <a:pt x="13782" y="10094"/>
                  <a:pt x="13717" y="100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3880" y="2589120"/>
            <a:ext cx="1492200" cy="2332080"/>
          </a:xfrm>
          <a:custGeom>
            <a:avLst/>
            <a:gdLst/>
            <a:ahLst/>
            <a:rect l="l" t="t" r="r" b="b"/>
            <a:pathLst>
              <a:path w="4143" h="6475">
                <a:moveTo>
                  <a:pt x="21679" y="7764"/>
                </a:moveTo>
                <a:cubicBezTo>
                  <a:pt x="21693" y="7777"/>
                  <a:pt x="21757" y="8027"/>
                  <a:pt x="21779" y="8136"/>
                </a:cubicBezTo>
                <a:cubicBezTo>
                  <a:pt x="21779" y="8161"/>
                  <a:pt x="21779" y="8169"/>
                  <a:pt x="21779" y="8186"/>
                </a:cubicBezTo>
              </a:path>
              <a:path w="4143" h="6475">
                <a:moveTo>
                  <a:pt x="21233" y="7789"/>
                </a:moveTo>
                <a:cubicBezTo>
                  <a:pt x="21387" y="7634"/>
                  <a:pt x="21641" y="7482"/>
                  <a:pt x="21878" y="7590"/>
                </a:cubicBezTo>
                <a:cubicBezTo>
                  <a:pt x="22099" y="7691"/>
                  <a:pt x="21798" y="7888"/>
                  <a:pt x="21704" y="7913"/>
                </a:cubicBezTo>
                <a:cubicBezTo>
                  <a:pt x="21652" y="7913"/>
                  <a:pt x="21636" y="7911"/>
                  <a:pt x="21679" y="7863"/>
                </a:cubicBezTo>
              </a:path>
              <a:path w="4143" h="6475">
                <a:moveTo>
                  <a:pt x="22200" y="7888"/>
                </a:moveTo>
                <a:cubicBezTo>
                  <a:pt x="22302" y="7843"/>
                  <a:pt x="22363" y="7822"/>
                  <a:pt x="22473" y="7813"/>
                </a:cubicBezTo>
              </a:path>
              <a:path w="4143" h="6475">
                <a:moveTo>
                  <a:pt x="22200" y="8012"/>
                </a:moveTo>
                <a:cubicBezTo>
                  <a:pt x="22323" y="7987"/>
                  <a:pt x="22448" y="7955"/>
                  <a:pt x="22572" y="7938"/>
                </a:cubicBezTo>
              </a:path>
              <a:path w="4143" h="6475">
                <a:moveTo>
                  <a:pt x="23366" y="7268"/>
                </a:moveTo>
                <a:cubicBezTo>
                  <a:pt x="23383" y="7276"/>
                  <a:pt x="23399" y="7285"/>
                  <a:pt x="23416" y="7293"/>
                </a:cubicBezTo>
                <a:cubicBezTo>
                  <a:pt x="23402" y="7224"/>
                  <a:pt x="23342" y="7149"/>
                  <a:pt x="23267" y="7218"/>
                </a:cubicBezTo>
                <a:cubicBezTo>
                  <a:pt x="23110" y="7361"/>
                  <a:pt x="23179" y="7616"/>
                  <a:pt x="23416" y="7565"/>
                </a:cubicBezTo>
                <a:cubicBezTo>
                  <a:pt x="23500" y="7547"/>
                  <a:pt x="23603" y="7466"/>
                  <a:pt x="23688" y="7441"/>
                </a:cubicBezTo>
              </a:path>
              <a:path w="4143" h="6475">
                <a:moveTo>
                  <a:pt x="23093" y="7838"/>
                </a:moveTo>
                <a:cubicBezTo>
                  <a:pt x="23109" y="7789"/>
                  <a:pt x="23407" y="7790"/>
                  <a:pt x="23416" y="7789"/>
                </a:cubicBezTo>
                <a:cubicBezTo>
                  <a:pt x="23607" y="7771"/>
                  <a:pt x="23797" y="7714"/>
                  <a:pt x="23986" y="7714"/>
                </a:cubicBezTo>
                <a:cubicBezTo>
                  <a:pt x="23994" y="7714"/>
                  <a:pt x="24003" y="7714"/>
                  <a:pt x="24011" y="7714"/>
                </a:cubicBezTo>
              </a:path>
              <a:path w="4143" h="6475">
                <a:moveTo>
                  <a:pt x="23465" y="8086"/>
                </a:moveTo>
                <a:cubicBezTo>
                  <a:pt x="23465" y="8029"/>
                  <a:pt x="23455" y="8154"/>
                  <a:pt x="23465" y="8210"/>
                </a:cubicBezTo>
                <a:cubicBezTo>
                  <a:pt x="23487" y="8277"/>
                  <a:pt x="23492" y="8295"/>
                  <a:pt x="23515" y="8334"/>
                </a:cubicBezTo>
                <a:cubicBezTo>
                  <a:pt x="23488" y="8299"/>
                  <a:pt x="23471" y="8231"/>
                  <a:pt x="23465" y="8186"/>
                </a:cubicBezTo>
                <a:cubicBezTo>
                  <a:pt x="23460" y="8148"/>
                  <a:pt x="23454" y="8044"/>
                  <a:pt x="23490" y="8012"/>
                </a:cubicBezTo>
                <a:cubicBezTo>
                  <a:pt x="23525" y="7982"/>
                  <a:pt x="23596" y="7932"/>
                  <a:pt x="23664" y="7938"/>
                </a:cubicBezTo>
                <a:cubicBezTo>
                  <a:pt x="23734" y="7944"/>
                  <a:pt x="23821" y="8005"/>
                  <a:pt x="23862" y="8062"/>
                </a:cubicBezTo>
                <a:cubicBezTo>
                  <a:pt x="23895" y="8108"/>
                  <a:pt x="23909" y="8181"/>
                  <a:pt x="23912" y="8235"/>
                </a:cubicBezTo>
                <a:cubicBezTo>
                  <a:pt x="23915" y="8288"/>
                  <a:pt x="23920" y="8345"/>
                  <a:pt x="23961" y="8359"/>
                </a:cubicBezTo>
              </a:path>
              <a:path w="4143" h="6475">
                <a:moveTo>
                  <a:pt x="22994" y="8979"/>
                </a:moveTo>
                <a:cubicBezTo>
                  <a:pt x="22958" y="8931"/>
                  <a:pt x="22917" y="8869"/>
                  <a:pt x="22845" y="8930"/>
                </a:cubicBezTo>
                <a:cubicBezTo>
                  <a:pt x="22763" y="8999"/>
                  <a:pt x="22763" y="9219"/>
                  <a:pt x="22895" y="9227"/>
                </a:cubicBezTo>
                <a:cubicBezTo>
                  <a:pt x="22998" y="9233"/>
                  <a:pt x="23187" y="9086"/>
                  <a:pt x="23044" y="9004"/>
                </a:cubicBezTo>
                <a:cubicBezTo>
                  <a:pt x="23027" y="9004"/>
                  <a:pt x="23011" y="9004"/>
                  <a:pt x="22994" y="9004"/>
                </a:cubicBezTo>
              </a:path>
              <a:path w="4143" h="6475">
                <a:moveTo>
                  <a:pt x="23143" y="9451"/>
                </a:moveTo>
                <a:cubicBezTo>
                  <a:pt x="23127" y="9394"/>
                  <a:pt x="23127" y="9381"/>
                  <a:pt x="23143" y="9401"/>
                </a:cubicBezTo>
                <a:cubicBezTo>
                  <a:pt x="23210" y="9482"/>
                  <a:pt x="23306" y="9614"/>
                  <a:pt x="23366" y="9723"/>
                </a:cubicBezTo>
                <a:cubicBezTo>
                  <a:pt x="23459" y="9893"/>
                  <a:pt x="23596" y="10061"/>
                  <a:pt x="23664" y="10244"/>
                </a:cubicBezTo>
                <a:cubicBezTo>
                  <a:pt x="23704" y="10351"/>
                  <a:pt x="23725" y="10420"/>
                  <a:pt x="23788" y="10517"/>
                </a:cubicBezTo>
                <a:cubicBezTo>
                  <a:pt x="23829" y="10580"/>
                  <a:pt x="23868" y="10650"/>
                  <a:pt x="23887" y="10716"/>
                </a:cubicBezTo>
                <a:cubicBezTo>
                  <a:pt x="23887" y="10724"/>
                  <a:pt x="23887" y="10732"/>
                  <a:pt x="23887" y="10740"/>
                </a:cubicBezTo>
              </a:path>
              <a:path w="4143" h="6475">
                <a:moveTo>
                  <a:pt x="24036" y="10964"/>
                </a:moveTo>
                <a:cubicBezTo>
                  <a:pt x="24036" y="10902"/>
                  <a:pt x="24059" y="11055"/>
                  <a:pt x="24061" y="11063"/>
                </a:cubicBezTo>
                <a:cubicBezTo>
                  <a:pt x="24086" y="11141"/>
                  <a:pt x="24110" y="11204"/>
                  <a:pt x="24110" y="11286"/>
                </a:cubicBezTo>
                <a:cubicBezTo>
                  <a:pt x="24217" y="11276"/>
                  <a:pt x="24255" y="11261"/>
                  <a:pt x="24309" y="11162"/>
                </a:cubicBezTo>
                <a:cubicBezTo>
                  <a:pt x="24342" y="11101"/>
                  <a:pt x="24341" y="11016"/>
                  <a:pt x="24284" y="10964"/>
                </a:cubicBezTo>
                <a:cubicBezTo>
                  <a:pt x="24222" y="10907"/>
                  <a:pt x="24138" y="10914"/>
                  <a:pt x="24061" y="10914"/>
                </a:cubicBezTo>
              </a:path>
              <a:path w="4143" h="6475">
                <a:moveTo>
                  <a:pt x="22399" y="8384"/>
                </a:moveTo>
                <a:cubicBezTo>
                  <a:pt x="22416" y="8331"/>
                  <a:pt x="22533" y="8308"/>
                  <a:pt x="22597" y="8285"/>
                </a:cubicBezTo>
                <a:cubicBezTo>
                  <a:pt x="22654" y="8266"/>
                  <a:pt x="22661" y="8257"/>
                  <a:pt x="22696" y="8260"/>
                </a:cubicBezTo>
                <a:cubicBezTo>
                  <a:pt x="22728" y="8371"/>
                  <a:pt x="22746" y="8466"/>
                  <a:pt x="22746" y="8582"/>
                </a:cubicBezTo>
                <a:cubicBezTo>
                  <a:pt x="22746" y="8614"/>
                  <a:pt x="22763" y="8627"/>
                  <a:pt x="22771" y="8657"/>
                </a:cubicBezTo>
              </a:path>
              <a:path w="4143" h="6475">
                <a:moveTo>
                  <a:pt x="22572" y="8855"/>
                </a:moveTo>
                <a:cubicBezTo>
                  <a:pt x="22662" y="8795"/>
                  <a:pt x="22768" y="8770"/>
                  <a:pt x="22870" y="8731"/>
                </a:cubicBezTo>
                <a:cubicBezTo>
                  <a:pt x="22925" y="8710"/>
                  <a:pt x="22927" y="8672"/>
                  <a:pt x="22944" y="8706"/>
                </a:cubicBezTo>
              </a:path>
              <a:path w="4143" h="6475">
                <a:moveTo>
                  <a:pt x="24333" y="11534"/>
                </a:moveTo>
                <a:cubicBezTo>
                  <a:pt x="24296" y="11534"/>
                  <a:pt x="24377" y="11473"/>
                  <a:pt x="24408" y="11460"/>
                </a:cubicBezTo>
                <a:cubicBezTo>
                  <a:pt x="24477" y="11432"/>
                  <a:pt x="24522" y="11500"/>
                  <a:pt x="24532" y="11559"/>
                </a:cubicBezTo>
                <a:cubicBezTo>
                  <a:pt x="24547" y="11644"/>
                  <a:pt x="24497" y="11743"/>
                  <a:pt x="24457" y="11807"/>
                </a:cubicBezTo>
                <a:cubicBezTo>
                  <a:pt x="24449" y="11815"/>
                  <a:pt x="24441" y="11824"/>
                  <a:pt x="24433" y="11832"/>
                </a:cubicBezTo>
                <a:cubicBezTo>
                  <a:pt x="24499" y="11832"/>
                  <a:pt x="24554" y="11815"/>
                  <a:pt x="24606" y="11782"/>
                </a:cubicBezTo>
                <a:cubicBezTo>
                  <a:pt x="24629" y="11759"/>
                  <a:pt x="24633" y="11751"/>
                  <a:pt x="24656" y="11757"/>
                </a:cubicBezTo>
              </a:path>
              <a:path w="4143" h="6475">
                <a:moveTo>
                  <a:pt x="23440" y="11881"/>
                </a:moveTo>
                <a:cubicBezTo>
                  <a:pt x="23440" y="11808"/>
                  <a:pt x="23512" y="12000"/>
                  <a:pt x="23515" y="12005"/>
                </a:cubicBezTo>
                <a:cubicBezTo>
                  <a:pt x="23551" y="12073"/>
                  <a:pt x="23554" y="12128"/>
                  <a:pt x="23589" y="12105"/>
                </a:cubicBezTo>
              </a:path>
              <a:path w="4143" h="6475">
                <a:moveTo>
                  <a:pt x="23812" y="11733"/>
                </a:moveTo>
                <a:cubicBezTo>
                  <a:pt x="23880" y="11665"/>
                  <a:pt x="23911" y="11854"/>
                  <a:pt x="23937" y="11906"/>
                </a:cubicBezTo>
                <a:cubicBezTo>
                  <a:pt x="23959" y="11929"/>
                  <a:pt x="23967" y="11934"/>
                  <a:pt x="23961" y="11956"/>
                </a:cubicBezTo>
              </a:path>
              <a:path w="4143" h="6475">
                <a:moveTo>
                  <a:pt x="23292" y="12477"/>
                </a:moveTo>
                <a:cubicBezTo>
                  <a:pt x="23666" y="12305"/>
                  <a:pt x="24036" y="12162"/>
                  <a:pt x="24433" y="12055"/>
                </a:cubicBezTo>
                <a:cubicBezTo>
                  <a:pt x="24549" y="12024"/>
                  <a:pt x="24648" y="11993"/>
                  <a:pt x="24755" y="11956"/>
                </a:cubicBezTo>
              </a:path>
              <a:path w="4143" h="6475">
                <a:moveTo>
                  <a:pt x="22895" y="12204"/>
                </a:moveTo>
                <a:cubicBezTo>
                  <a:pt x="22971" y="12204"/>
                  <a:pt x="23049" y="12191"/>
                  <a:pt x="23118" y="12154"/>
                </a:cubicBezTo>
                <a:cubicBezTo>
                  <a:pt x="23126" y="12146"/>
                  <a:pt x="23135" y="12137"/>
                  <a:pt x="23143" y="12129"/>
                </a:cubicBezTo>
              </a:path>
              <a:path w="4143" h="6475">
                <a:moveTo>
                  <a:pt x="24805" y="12204"/>
                </a:moveTo>
                <a:cubicBezTo>
                  <a:pt x="24770" y="12169"/>
                  <a:pt x="24618" y="12181"/>
                  <a:pt x="24581" y="12254"/>
                </a:cubicBezTo>
                <a:cubicBezTo>
                  <a:pt x="24581" y="12279"/>
                  <a:pt x="24581" y="12303"/>
                  <a:pt x="24581" y="12328"/>
                </a:cubicBezTo>
                <a:cubicBezTo>
                  <a:pt x="24644" y="12407"/>
                  <a:pt x="24765" y="12422"/>
                  <a:pt x="24829" y="12526"/>
                </a:cubicBezTo>
                <a:cubicBezTo>
                  <a:pt x="24829" y="12551"/>
                  <a:pt x="24829" y="12559"/>
                  <a:pt x="24829" y="12576"/>
                </a:cubicBezTo>
                <a:cubicBezTo>
                  <a:pt x="24652" y="12558"/>
                  <a:pt x="24761" y="12433"/>
                  <a:pt x="24805" y="12303"/>
                </a:cubicBezTo>
                <a:cubicBezTo>
                  <a:pt x="24826" y="12238"/>
                  <a:pt x="24844" y="12213"/>
                  <a:pt x="24780" y="12229"/>
                </a:cubicBezTo>
              </a:path>
              <a:path w="4143" h="6475">
                <a:moveTo>
                  <a:pt x="23366" y="8880"/>
                </a:moveTo>
                <a:cubicBezTo>
                  <a:pt x="23246" y="8880"/>
                  <a:pt x="23187" y="8860"/>
                  <a:pt x="23168" y="9004"/>
                </a:cubicBezTo>
                <a:cubicBezTo>
                  <a:pt x="23138" y="9235"/>
                  <a:pt x="23387" y="9256"/>
                  <a:pt x="23515" y="9103"/>
                </a:cubicBezTo>
                <a:cubicBezTo>
                  <a:pt x="23629" y="8966"/>
                  <a:pt x="23488" y="8923"/>
                  <a:pt x="23391" y="8954"/>
                </a:cubicBezTo>
              </a:path>
              <a:path w="4143" h="6475">
                <a:moveTo>
                  <a:pt x="23639" y="9376"/>
                </a:moveTo>
                <a:cubicBezTo>
                  <a:pt x="23704" y="9471"/>
                  <a:pt x="23772" y="9595"/>
                  <a:pt x="23837" y="9699"/>
                </a:cubicBezTo>
                <a:cubicBezTo>
                  <a:pt x="23966" y="9908"/>
                  <a:pt x="24075" y="10056"/>
                  <a:pt x="24135" y="10294"/>
                </a:cubicBezTo>
                <a:cubicBezTo>
                  <a:pt x="24166" y="10417"/>
                  <a:pt x="24188" y="10548"/>
                  <a:pt x="24234" y="10666"/>
                </a:cubicBezTo>
                <a:cubicBezTo>
                  <a:pt x="24256" y="10723"/>
                  <a:pt x="24277" y="10764"/>
                  <a:pt x="24309" y="10815"/>
                </a:cubicBezTo>
                <a:cubicBezTo>
                  <a:pt x="24372" y="10916"/>
                  <a:pt x="24430" y="11020"/>
                  <a:pt x="24507" y="11112"/>
                </a:cubicBezTo>
                <a:cubicBezTo>
                  <a:pt x="24546" y="11159"/>
                  <a:pt x="24598" y="11221"/>
                  <a:pt x="24631" y="11261"/>
                </a:cubicBezTo>
                <a:cubicBezTo>
                  <a:pt x="24670" y="11308"/>
                  <a:pt x="24731" y="11400"/>
                  <a:pt x="24780" y="11460"/>
                </a:cubicBezTo>
                <a:cubicBezTo>
                  <a:pt x="24832" y="11523"/>
                  <a:pt x="24831" y="11543"/>
                  <a:pt x="24854" y="11609"/>
                </a:cubicBezTo>
              </a:path>
              <a:path w="4143" h="6475">
                <a:moveTo>
                  <a:pt x="25127" y="12204"/>
                </a:moveTo>
                <a:cubicBezTo>
                  <a:pt x="25117" y="12175"/>
                  <a:pt x="25069" y="12158"/>
                  <a:pt x="25028" y="12179"/>
                </a:cubicBezTo>
                <a:cubicBezTo>
                  <a:pt x="24950" y="12218"/>
                  <a:pt x="24964" y="12339"/>
                  <a:pt x="25028" y="12378"/>
                </a:cubicBezTo>
                <a:cubicBezTo>
                  <a:pt x="25133" y="12443"/>
                  <a:pt x="25251" y="12308"/>
                  <a:pt x="25251" y="12204"/>
                </a:cubicBezTo>
                <a:cubicBezTo>
                  <a:pt x="25251" y="12084"/>
                  <a:pt x="25090" y="12120"/>
                  <a:pt x="25028" y="12129"/>
                </a:cubicBezTo>
              </a:path>
              <a:path w="4143" h="6475">
                <a:moveTo>
                  <a:pt x="23118" y="8334"/>
                </a:moveTo>
                <a:cubicBezTo>
                  <a:pt x="23118" y="8378"/>
                  <a:pt x="23119" y="8374"/>
                  <a:pt x="23093" y="8409"/>
                </a:cubicBezTo>
                <a:cubicBezTo>
                  <a:pt x="23172" y="8395"/>
                  <a:pt x="23390" y="8298"/>
                  <a:pt x="23341" y="8483"/>
                </a:cubicBezTo>
                <a:cubicBezTo>
                  <a:pt x="23307" y="8611"/>
                  <a:pt x="23164" y="8577"/>
                  <a:pt x="23068" y="8582"/>
                </a:cubicBezTo>
              </a:path>
              <a:path w="4143" h="6475">
                <a:moveTo>
                  <a:pt x="23093" y="8235"/>
                </a:moveTo>
                <a:cubicBezTo>
                  <a:pt x="23217" y="8210"/>
                  <a:pt x="23258" y="8202"/>
                  <a:pt x="23341" y="8186"/>
                </a:cubicBezTo>
              </a:path>
              <a:path w="4143" h="6475">
                <a:moveTo>
                  <a:pt x="22696" y="8880"/>
                </a:moveTo>
                <a:cubicBezTo>
                  <a:pt x="22987" y="8748"/>
                  <a:pt x="23284" y="8655"/>
                  <a:pt x="23589" y="8558"/>
                </a:cubicBezTo>
                <a:cubicBezTo>
                  <a:pt x="23704" y="8519"/>
                  <a:pt x="23718" y="8503"/>
                  <a:pt x="23788" y="8508"/>
                </a:cubicBezTo>
              </a:path>
              <a:path w="4143" h="6475">
                <a:moveTo>
                  <a:pt x="25202" y="12601"/>
                </a:moveTo>
                <a:cubicBezTo>
                  <a:pt x="25152" y="12660"/>
                  <a:pt x="25063" y="12774"/>
                  <a:pt x="25152" y="12849"/>
                </a:cubicBezTo>
                <a:cubicBezTo>
                  <a:pt x="25260" y="12940"/>
                  <a:pt x="25359" y="12827"/>
                  <a:pt x="25375" y="12725"/>
                </a:cubicBezTo>
                <a:cubicBezTo>
                  <a:pt x="25379" y="12700"/>
                  <a:pt x="25358" y="12573"/>
                  <a:pt x="25301" y="12576"/>
                </a:cubicBezTo>
                <a:cubicBezTo>
                  <a:pt x="25243" y="12595"/>
                  <a:pt x="25237" y="12604"/>
                  <a:pt x="25202" y="12601"/>
                </a:cubicBezTo>
              </a:path>
              <a:path w="4143" h="6475">
                <a:moveTo>
                  <a:pt x="25028" y="12750"/>
                </a:moveTo>
                <a:cubicBezTo>
                  <a:pt x="24952" y="12772"/>
                  <a:pt x="24878" y="12812"/>
                  <a:pt x="24805" y="12849"/>
                </a:cubicBezTo>
                <a:cubicBezTo>
                  <a:pt x="24845" y="12930"/>
                  <a:pt x="24956" y="12889"/>
                  <a:pt x="25028" y="12948"/>
                </a:cubicBezTo>
                <a:cubicBezTo>
                  <a:pt x="25068" y="12981"/>
                  <a:pt x="24943" y="13038"/>
                  <a:pt x="24929" y="13047"/>
                </a:cubicBezTo>
                <a:cubicBezTo>
                  <a:pt x="24929" y="12953"/>
                  <a:pt x="24955" y="12887"/>
                  <a:pt x="24978" y="12799"/>
                </a:cubicBezTo>
                <a:cubicBezTo>
                  <a:pt x="24978" y="12766"/>
                  <a:pt x="24970" y="12758"/>
                  <a:pt x="24929" y="12774"/>
                </a:cubicBezTo>
              </a:path>
              <a:path w="4143" h="6475">
                <a:moveTo>
                  <a:pt x="24457" y="13072"/>
                </a:moveTo>
                <a:cubicBezTo>
                  <a:pt x="24563" y="13000"/>
                  <a:pt x="24633" y="12961"/>
                  <a:pt x="24755" y="12923"/>
                </a:cubicBezTo>
              </a:path>
              <a:path w="4143" h="6475">
                <a:moveTo>
                  <a:pt x="24457" y="13295"/>
                </a:moveTo>
                <a:cubicBezTo>
                  <a:pt x="24563" y="13281"/>
                  <a:pt x="25287" y="13044"/>
                  <a:pt x="25326" y="13097"/>
                </a:cubicBezTo>
                <a:cubicBezTo>
                  <a:pt x="25342" y="13221"/>
                  <a:pt x="25359" y="13345"/>
                  <a:pt x="25375" y="13469"/>
                </a:cubicBezTo>
              </a:path>
              <a:path w="4143" h="6475">
                <a:moveTo>
                  <a:pt x="25251" y="13444"/>
                </a:moveTo>
                <a:cubicBezTo>
                  <a:pt x="25259" y="13436"/>
                  <a:pt x="25268" y="13427"/>
                  <a:pt x="25276" y="13419"/>
                </a:cubicBezTo>
                <a:cubicBezTo>
                  <a:pt x="25251" y="13411"/>
                  <a:pt x="25223" y="13373"/>
                  <a:pt x="25177" y="13395"/>
                </a:cubicBezTo>
                <a:cubicBezTo>
                  <a:pt x="25140" y="13413"/>
                  <a:pt x="25089" y="13527"/>
                  <a:pt x="25078" y="13568"/>
                </a:cubicBezTo>
                <a:cubicBezTo>
                  <a:pt x="25078" y="13620"/>
                  <a:pt x="25079" y="13638"/>
                  <a:pt x="25102" y="13667"/>
                </a:cubicBezTo>
                <a:cubicBezTo>
                  <a:pt x="25177" y="13660"/>
                  <a:pt x="25368" y="13652"/>
                  <a:pt x="25375" y="13543"/>
                </a:cubicBezTo>
                <a:cubicBezTo>
                  <a:pt x="25383" y="13405"/>
                  <a:pt x="25327" y="13370"/>
                  <a:pt x="25226" y="133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13320" y="3027240"/>
            <a:ext cx="2108520" cy="938160"/>
          </a:xfrm>
          <a:custGeom>
            <a:avLst/>
            <a:gdLst/>
            <a:ahLst/>
            <a:rect l="l" t="t" r="r" b="b"/>
            <a:pathLst>
              <a:path w="5855" h="2605">
                <a:moveTo>
                  <a:pt x="17884" y="9004"/>
                </a:moveTo>
                <a:cubicBezTo>
                  <a:pt x="17916" y="8988"/>
                  <a:pt x="18160" y="8865"/>
                  <a:pt x="18182" y="8930"/>
                </a:cubicBezTo>
                <a:cubicBezTo>
                  <a:pt x="18206" y="9002"/>
                  <a:pt x="18099" y="9053"/>
                  <a:pt x="18058" y="9079"/>
                </a:cubicBezTo>
                <a:cubicBezTo>
                  <a:pt x="18058" y="9087"/>
                  <a:pt x="18058" y="9095"/>
                  <a:pt x="18058" y="9103"/>
                </a:cubicBezTo>
                <a:cubicBezTo>
                  <a:pt x="18140" y="9116"/>
                  <a:pt x="18351" y="9143"/>
                  <a:pt x="18306" y="9277"/>
                </a:cubicBezTo>
                <a:cubicBezTo>
                  <a:pt x="18273" y="9374"/>
                  <a:pt x="18111" y="9351"/>
                  <a:pt x="18033" y="9351"/>
                </a:cubicBezTo>
              </a:path>
              <a:path w="5855" h="2605">
                <a:moveTo>
                  <a:pt x="17537" y="9575"/>
                </a:moveTo>
                <a:cubicBezTo>
                  <a:pt x="17832" y="9564"/>
                  <a:pt x="18113" y="9515"/>
                  <a:pt x="18405" y="9475"/>
                </a:cubicBezTo>
                <a:cubicBezTo>
                  <a:pt x="18549" y="9455"/>
                  <a:pt x="18683" y="9451"/>
                  <a:pt x="18827" y="9451"/>
                </a:cubicBezTo>
              </a:path>
              <a:path w="5855" h="2605">
                <a:moveTo>
                  <a:pt x="17959" y="9773"/>
                </a:moveTo>
                <a:cubicBezTo>
                  <a:pt x="17981" y="9750"/>
                  <a:pt x="17989" y="9745"/>
                  <a:pt x="17983" y="9723"/>
                </a:cubicBezTo>
                <a:cubicBezTo>
                  <a:pt x="17983" y="9872"/>
                  <a:pt x="17983" y="10021"/>
                  <a:pt x="17983" y="10170"/>
                </a:cubicBezTo>
              </a:path>
              <a:path w="5855" h="2605">
                <a:moveTo>
                  <a:pt x="18306" y="9674"/>
                </a:moveTo>
                <a:cubicBezTo>
                  <a:pt x="18306" y="9608"/>
                  <a:pt x="18318" y="9758"/>
                  <a:pt x="18306" y="9823"/>
                </a:cubicBezTo>
                <a:cubicBezTo>
                  <a:pt x="18296" y="9879"/>
                  <a:pt x="18238" y="10022"/>
                  <a:pt x="18306" y="10071"/>
                </a:cubicBezTo>
                <a:cubicBezTo>
                  <a:pt x="18383" y="10127"/>
                  <a:pt x="18452" y="10103"/>
                  <a:pt x="18529" y="10096"/>
                </a:cubicBezTo>
                <a:cubicBezTo>
                  <a:pt x="18578" y="10091"/>
                  <a:pt x="18611" y="9996"/>
                  <a:pt x="18653" y="9971"/>
                </a:cubicBezTo>
                <a:cubicBezTo>
                  <a:pt x="18620" y="9960"/>
                  <a:pt x="18609" y="9926"/>
                  <a:pt x="18554" y="9922"/>
                </a:cubicBezTo>
                <a:cubicBezTo>
                  <a:pt x="18490" y="9918"/>
                  <a:pt x="18420" y="9981"/>
                  <a:pt x="18405" y="10046"/>
                </a:cubicBezTo>
                <a:cubicBezTo>
                  <a:pt x="18399" y="10072"/>
                  <a:pt x="18405" y="10116"/>
                  <a:pt x="18405" y="10145"/>
                </a:cubicBezTo>
              </a:path>
              <a:path w="5855" h="2605">
                <a:moveTo>
                  <a:pt x="19720" y="9426"/>
                </a:moveTo>
                <a:cubicBezTo>
                  <a:pt x="19815" y="9419"/>
                  <a:pt x="19880" y="9367"/>
                  <a:pt x="19893" y="9451"/>
                </a:cubicBezTo>
              </a:path>
              <a:path w="5855" h="2605">
                <a:moveTo>
                  <a:pt x="19794" y="9723"/>
                </a:moveTo>
                <a:cubicBezTo>
                  <a:pt x="19918" y="9674"/>
                  <a:pt x="19960" y="9658"/>
                  <a:pt x="20042" y="9624"/>
                </a:cubicBezTo>
              </a:path>
              <a:path w="5855" h="2605">
                <a:moveTo>
                  <a:pt x="21059" y="9277"/>
                </a:moveTo>
                <a:cubicBezTo>
                  <a:pt x="21107" y="9263"/>
                  <a:pt x="21394" y="9162"/>
                  <a:pt x="21406" y="9252"/>
                </a:cubicBezTo>
                <a:cubicBezTo>
                  <a:pt x="21380" y="9358"/>
                  <a:pt x="21366" y="9396"/>
                  <a:pt x="21282" y="9426"/>
                </a:cubicBezTo>
                <a:cubicBezTo>
                  <a:pt x="21274" y="9434"/>
                  <a:pt x="21266" y="9443"/>
                  <a:pt x="21258" y="9451"/>
                </a:cubicBezTo>
                <a:cubicBezTo>
                  <a:pt x="21341" y="9367"/>
                  <a:pt x="21426" y="9403"/>
                  <a:pt x="21530" y="9451"/>
                </a:cubicBezTo>
                <a:cubicBezTo>
                  <a:pt x="21492" y="9605"/>
                  <a:pt x="21417" y="9618"/>
                  <a:pt x="21258" y="9649"/>
                </a:cubicBezTo>
                <a:cubicBezTo>
                  <a:pt x="21250" y="9649"/>
                  <a:pt x="21241" y="9649"/>
                  <a:pt x="21233" y="9649"/>
                </a:cubicBezTo>
              </a:path>
              <a:path w="5855" h="2605">
                <a:moveTo>
                  <a:pt x="21059" y="9897"/>
                </a:moveTo>
                <a:cubicBezTo>
                  <a:pt x="21087" y="9706"/>
                  <a:pt x="21013" y="9539"/>
                  <a:pt x="20960" y="9351"/>
                </a:cubicBezTo>
                <a:cubicBezTo>
                  <a:pt x="20938" y="9275"/>
                  <a:pt x="20920" y="9245"/>
                  <a:pt x="20910" y="9178"/>
                </a:cubicBezTo>
                <a:cubicBezTo>
                  <a:pt x="21175" y="9112"/>
                  <a:pt x="21438" y="9039"/>
                  <a:pt x="21704" y="8979"/>
                </a:cubicBezTo>
                <a:cubicBezTo>
                  <a:pt x="21795" y="8961"/>
                  <a:pt x="21802" y="8952"/>
                  <a:pt x="21853" y="8954"/>
                </a:cubicBezTo>
              </a:path>
              <a:path w="5855" h="2605">
                <a:moveTo>
                  <a:pt x="20265" y="9426"/>
                </a:moveTo>
                <a:cubicBezTo>
                  <a:pt x="20265" y="9334"/>
                  <a:pt x="20284" y="9558"/>
                  <a:pt x="20290" y="9649"/>
                </a:cubicBezTo>
                <a:cubicBezTo>
                  <a:pt x="20296" y="9737"/>
                  <a:pt x="20249" y="9861"/>
                  <a:pt x="20315" y="9773"/>
                </a:cubicBezTo>
              </a:path>
              <a:path w="5855" h="2605">
                <a:moveTo>
                  <a:pt x="20513" y="9376"/>
                </a:moveTo>
                <a:cubicBezTo>
                  <a:pt x="20530" y="9478"/>
                  <a:pt x="20538" y="9568"/>
                  <a:pt x="20538" y="9674"/>
                </a:cubicBezTo>
                <a:cubicBezTo>
                  <a:pt x="20538" y="9770"/>
                  <a:pt x="20587" y="9813"/>
                  <a:pt x="20687" y="9798"/>
                </a:cubicBezTo>
                <a:cubicBezTo>
                  <a:pt x="20793" y="9782"/>
                  <a:pt x="20806" y="9719"/>
                  <a:pt x="20811" y="9624"/>
                </a:cubicBezTo>
                <a:cubicBezTo>
                  <a:pt x="20811" y="9608"/>
                  <a:pt x="20811" y="9591"/>
                  <a:pt x="20811" y="9575"/>
                </a:cubicBezTo>
                <a:cubicBezTo>
                  <a:pt x="20718" y="9575"/>
                  <a:pt x="20686" y="9601"/>
                  <a:pt x="20662" y="9699"/>
                </a:cubicBezTo>
                <a:cubicBezTo>
                  <a:pt x="20662" y="9743"/>
                  <a:pt x="20659" y="9757"/>
                  <a:pt x="20687" y="9773"/>
                </a:cubicBezTo>
              </a:path>
              <a:path w="5855" h="2605">
                <a:moveTo>
                  <a:pt x="21183" y="8706"/>
                </a:moveTo>
                <a:cubicBezTo>
                  <a:pt x="21118" y="8679"/>
                  <a:pt x="21025" y="8656"/>
                  <a:pt x="20960" y="8706"/>
                </a:cubicBezTo>
                <a:cubicBezTo>
                  <a:pt x="20882" y="8765"/>
                  <a:pt x="20911" y="8907"/>
                  <a:pt x="20935" y="8979"/>
                </a:cubicBezTo>
                <a:cubicBezTo>
                  <a:pt x="21044" y="8963"/>
                  <a:pt x="21202" y="8928"/>
                  <a:pt x="21208" y="8781"/>
                </a:cubicBezTo>
                <a:cubicBezTo>
                  <a:pt x="21209" y="8752"/>
                  <a:pt x="21143" y="8661"/>
                  <a:pt x="21134" y="8657"/>
                </a:cubicBezTo>
                <a:cubicBezTo>
                  <a:pt x="21109" y="8657"/>
                  <a:pt x="21101" y="8657"/>
                  <a:pt x="21084" y="8657"/>
                </a:cubicBezTo>
              </a:path>
              <a:path w="5855" h="2605">
                <a:moveTo>
                  <a:pt x="21704" y="9426"/>
                </a:moveTo>
                <a:cubicBezTo>
                  <a:pt x="21726" y="9448"/>
                  <a:pt x="21735" y="9453"/>
                  <a:pt x="21729" y="9475"/>
                </a:cubicBezTo>
              </a:path>
              <a:path w="5855" h="2605">
                <a:moveTo>
                  <a:pt x="22076" y="9128"/>
                </a:moveTo>
                <a:cubicBezTo>
                  <a:pt x="22025" y="9162"/>
                  <a:pt x="22030" y="9299"/>
                  <a:pt x="22027" y="9376"/>
                </a:cubicBezTo>
                <a:cubicBezTo>
                  <a:pt x="22027" y="9393"/>
                  <a:pt x="22027" y="9409"/>
                  <a:pt x="22027" y="9426"/>
                </a:cubicBezTo>
                <a:cubicBezTo>
                  <a:pt x="22156" y="9448"/>
                  <a:pt x="22287" y="9420"/>
                  <a:pt x="22299" y="9252"/>
                </a:cubicBezTo>
                <a:cubicBezTo>
                  <a:pt x="22307" y="9138"/>
                  <a:pt x="22171" y="9145"/>
                  <a:pt x="22101" y="9128"/>
                </a:cubicBezTo>
              </a:path>
              <a:path w="5855" h="2605">
                <a:moveTo>
                  <a:pt x="21506" y="8954"/>
                </a:moveTo>
                <a:cubicBezTo>
                  <a:pt x="21542" y="8920"/>
                  <a:pt x="21573" y="8955"/>
                  <a:pt x="21530" y="8930"/>
                </a:cubicBezTo>
                <a:cubicBezTo>
                  <a:pt x="21522" y="8930"/>
                  <a:pt x="21514" y="8930"/>
                  <a:pt x="21506" y="8930"/>
                </a:cubicBezTo>
              </a:path>
              <a:path w="5855" h="2605">
                <a:moveTo>
                  <a:pt x="21828" y="8979"/>
                </a:moveTo>
                <a:cubicBezTo>
                  <a:pt x="21979" y="8960"/>
                  <a:pt x="22128" y="8877"/>
                  <a:pt x="22275" y="8830"/>
                </a:cubicBezTo>
                <a:cubicBezTo>
                  <a:pt x="22402" y="8789"/>
                  <a:pt x="22515" y="8756"/>
                  <a:pt x="22647" y="8756"/>
                </a:cubicBezTo>
              </a:path>
              <a:path w="5855" h="2605">
                <a:moveTo>
                  <a:pt x="21754" y="8558"/>
                </a:moveTo>
                <a:cubicBezTo>
                  <a:pt x="21746" y="8550"/>
                  <a:pt x="21737" y="8541"/>
                  <a:pt x="21729" y="8533"/>
                </a:cubicBezTo>
                <a:cubicBezTo>
                  <a:pt x="21744" y="8634"/>
                  <a:pt x="21769" y="8734"/>
                  <a:pt x="21803" y="8830"/>
                </a:cubicBezTo>
              </a:path>
              <a:path w="5855" h="2605">
                <a:moveTo>
                  <a:pt x="21555" y="9798"/>
                </a:moveTo>
                <a:cubicBezTo>
                  <a:pt x="21555" y="9758"/>
                  <a:pt x="21534" y="9718"/>
                  <a:pt x="21555" y="9748"/>
                </a:cubicBezTo>
                <a:cubicBezTo>
                  <a:pt x="21600" y="9811"/>
                  <a:pt x="21616" y="9954"/>
                  <a:pt x="21630" y="9996"/>
                </a:cubicBezTo>
                <a:cubicBezTo>
                  <a:pt x="21630" y="10004"/>
                  <a:pt x="21630" y="10013"/>
                  <a:pt x="21630" y="10021"/>
                </a:cubicBezTo>
              </a:path>
              <a:path w="5855" h="2605">
                <a:moveTo>
                  <a:pt x="22101" y="9624"/>
                </a:moveTo>
                <a:cubicBezTo>
                  <a:pt x="22101" y="9694"/>
                  <a:pt x="22067" y="9826"/>
                  <a:pt x="22126" y="9872"/>
                </a:cubicBezTo>
                <a:cubicBezTo>
                  <a:pt x="22201" y="9931"/>
                  <a:pt x="22344" y="9851"/>
                  <a:pt x="22374" y="9773"/>
                </a:cubicBezTo>
                <a:cubicBezTo>
                  <a:pt x="22374" y="9721"/>
                  <a:pt x="22373" y="9703"/>
                  <a:pt x="22349" y="9674"/>
                </a:cubicBezTo>
                <a:cubicBezTo>
                  <a:pt x="22257" y="9674"/>
                  <a:pt x="22200" y="9676"/>
                  <a:pt x="22200" y="9798"/>
                </a:cubicBezTo>
                <a:cubicBezTo>
                  <a:pt x="22219" y="9855"/>
                  <a:pt x="22228" y="9862"/>
                  <a:pt x="22225" y="9897"/>
                </a:cubicBezTo>
              </a:path>
              <a:path w="5855" h="2605">
                <a:moveTo>
                  <a:pt x="21034" y="10071"/>
                </a:moveTo>
                <a:cubicBezTo>
                  <a:pt x="21149" y="10022"/>
                  <a:pt x="21257" y="9941"/>
                  <a:pt x="21382" y="9922"/>
                </a:cubicBezTo>
                <a:cubicBezTo>
                  <a:pt x="21390" y="9922"/>
                  <a:pt x="21398" y="9922"/>
                  <a:pt x="21406" y="9922"/>
                </a:cubicBezTo>
              </a:path>
              <a:path w="5855" h="2605">
                <a:moveTo>
                  <a:pt x="21307" y="10368"/>
                </a:moveTo>
                <a:cubicBezTo>
                  <a:pt x="21649" y="10234"/>
                  <a:pt x="22001" y="10139"/>
                  <a:pt x="22349" y="10021"/>
                </a:cubicBezTo>
                <a:cubicBezTo>
                  <a:pt x="22457" y="9984"/>
                  <a:pt x="22459" y="9971"/>
                  <a:pt x="22547" y="9971"/>
                </a:cubicBezTo>
              </a:path>
              <a:path w="5855" h="2605">
                <a:moveTo>
                  <a:pt x="21779" y="10344"/>
                </a:moveTo>
                <a:cubicBezTo>
                  <a:pt x="21821" y="10397"/>
                  <a:pt x="21856" y="10552"/>
                  <a:pt x="21878" y="10641"/>
                </a:cubicBezTo>
                <a:cubicBezTo>
                  <a:pt x="21878" y="10649"/>
                  <a:pt x="21878" y="10658"/>
                  <a:pt x="21878" y="10666"/>
                </a:cubicBezTo>
              </a:path>
              <a:path w="5855" h="2605">
                <a:moveTo>
                  <a:pt x="22225" y="10294"/>
                </a:moveTo>
                <a:cubicBezTo>
                  <a:pt x="22240" y="10338"/>
                  <a:pt x="22228" y="10470"/>
                  <a:pt x="22299" y="10468"/>
                </a:cubicBezTo>
                <a:cubicBezTo>
                  <a:pt x="22388" y="10465"/>
                  <a:pt x="22534" y="10419"/>
                  <a:pt x="22572" y="10344"/>
                </a:cubicBezTo>
              </a:path>
              <a:path w="5855" h="2605">
                <a:moveTo>
                  <a:pt x="22448" y="10195"/>
                </a:moveTo>
                <a:cubicBezTo>
                  <a:pt x="22458" y="10318"/>
                  <a:pt x="22500" y="10426"/>
                  <a:pt x="22523" y="10542"/>
                </a:cubicBezTo>
                <a:cubicBezTo>
                  <a:pt x="22523" y="10592"/>
                  <a:pt x="22523" y="10609"/>
                  <a:pt x="22523" y="10542"/>
                </a:cubicBezTo>
              </a:path>
              <a:path w="5855" h="2605">
                <a:moveTo>
                  <a:pt x="22597" y="9054"/>
                </a:moveTo>
                <a:cubicBezTo>
                  <a:pt x="22495" y="9028"/>
                  <a:pt x="22406" y="9088"/>
                  <a:pt x="22423" y="9227"/>
                </a:cubicBezTo>
                <a:cubicBezTo>
                  <a:pt x="22441" y="9377"/>
                  <a:pt x="22572" y="9517"/>
                  <a:pt x="22647" y="9327"/>
                </a:cubicBezTo>
                <a:cubicBezTo>
                  <a:pt x="22683" y="9234"/>
                  <a:pt x="22647" y="9165"/>
                  <a:pt x="22572" y="9203"/>
                </a:cubicBezTo>
              </a:path>
              <a:path w="5855" h="2605">
                <a:moveTo>
                  <a:pt x="22622" y="9525"/>
                </a:moveTo>
                <a:cubicBezTo>
                  <a:pt x="22655" y="9600"/>
                  <a:pt x="22703" y="9864"/>
                  <a:pt x="22771" y="9897"/>
                </a:cubicBezTo>
                <a:cubicBezTo>
                  <a:pt x="22771" y="9889"/>
                  <a:pt x="22771" y="9880"/>
                  <a:pt x="22771" y="9872"/>
                </a:cubicBezTo>
              </a:path>
              <a:path w="5855" h="2605">
                <a:moveTo>
                  <a:pt x="22969" y="10120"/>
                </a:moveTo>
                <a:cubicBezTo>
                  <a:pt x="22902" y="10227"/>
                  <a:pt x="22882" y="10279"/>
                  <a:pt x="22920" y="10393"/>
                </a:cubicBezTo>
                <a:cubicBezTo>
                  <a:pt x="23043" y="10342"/>
                  <a:pt x="23173" y="10296"/>
                  <a:pt x="23068" y="10145"/>
                </a:cubicBezTo>
                <a:cubicBezTo>
                  <a:pt x="23006" y="10113"/>
                  <a:pt x="22975" y="10105"/>
                  <a:pt x="22920" y="10120"/>
                </a:cubicBezTo>
              </a:path>
              <a:path w="5855" h="2605">
                <a:moveTo>
                  <a:pt x="22151" y="8409"/>
                </a:moveTo>
                <a:cubicBezTo>
                  <a:pt x="22075" y="8449"/>
                  <a:pt x="22016" y="8467"/>
                  <a:pt x="21977" y="8533"/>
                </a:cubicBezTo>
                <a:cubicBezTo>
                  <a:pt x="22063" y="8572"/>
                  <a:pt x="22190" y="8595"/>
                  <a:pt x="22225" y="8682"/>
                </a:cubicBezTo>
                <a:cubicBezTo>
                  <a:pt x="22265" y="8782"/>
                  <a:pt x="22213" y="8819"/>
                  <a:pt x="22126" y="8806"/>
                </a:cubicBezTo>
                <a:cubicBezTo>
                  <a:pt x="22106" y="8707"/>
                  <a:pt x="22177" y="8605"/>
                  <a:pt x="22151" y="8508"/>
                </a:cubicBezTo>
                <a:cubicBezTo>
                  <a:pt x="22143" y="8500"/>
                  <a:pt x="22134" y="8491"/>
                  <a:pt x="22126" y="8483"/>
                </a:cubicBezTo>
              </a:path>
              <a:path w="5855" h="2605">
                <a:moveTo>
                  <a:pt x="23217" y="10641"/>
                </a:moveTo>
                <a:cubicBezTo>
                  <a:pt x="23142" y="10671"/>
                  <a:pt x="23094" y="10720"/>
                  <a:pt x="23068" y="10790"/>
                </a:cubicBezTo>
                <a:cubicBezTo>
                  <a:pt x="23175" y="10839"/>
                  <a:pt x="23367" y="10859"/>
                  <a:pt x="23391" y="10988"/>
                </a:cubicBezTo>
                <a:cubicBezTo>
                  <a:pt x="23383" y="10996"/>
                  <a:pt x="23374" y="11005"/>
                  <a:pt x="23366" y="11013"/>
                </a:cubicBezTo>
                <a:cubicBezTo>
                  <a:pt x="23234" y="10996"/>
                  <a:pt x="23238" y="10890"/>
                  <a:pt x="23267" y="10765"/>
                </a:cubicBezTo>
                <a:cubicBezTo>
                  <a:pt x="23275" y="10757"/>
                  <a:pt x="23284" y="10748"/>
                  <a:pt x="23292" y="10740"/>
                </a:cubicBezTo>
              </a:path>
              <a:path w="5855" h="2605">
                <a:moveTo>
                  <a:pt x="19496" y="8830"/>
                </a:moveTo>
                <a:cubicBezTo>
                  <a:pt x="19532" y="8854"/>
                  <a:pt x="19518" y="8916"/>
                  <a:pt x="19596" y="8930"/>
                </a:cubicBezTo>
                <a:cubicBezTo>
                  <a:pt x="19684" y="8946"/>
                  <a:pt x="19710" y="8907"/>
                  <a:pt x="19769" y="8855"/>
                </a:cubicBezTo>
              </a:path>
              <a:path w="5855" h="2605">
                <a:moveTo>
                  <a:pt x="19695" y="8731"/>
                </a:moveTo>
                <a:cubicBezTo>
                  <a:pt x="19733" y="8858"/>
                  <a:pt x="19772" y="8941"/>
                  <a:pt x="19844" y="9054"/>
                </a:cubicBezTo>
              </a:path>
              <a:path w="5855" h="2605">
                <a:moveTo>
                  <a:pt x="19323" y="8781"/>
                </a:moveTo>
                <a:cubicBezTo>
                  <a:pt x="19428" y="8781"/>
                  <a:pt x="19473" y="8721"/>
                  <a:pt x="19571" y="8682"/>
                </a:cubicBezTo>
                <a:cubicBezTo>
                  <a:pt x="19751" y="8611"/>
                  <a:pt x="19724" y="8714"/>
                  <a:pt x="19670" y="8830"/>
                </a:cubicBezTo>
                <a:cubicBezTo>
                  <a:pt x="19654" y="8863"/>
                  <a:pt x="19637" y="8897"/>
                  <a:pt x="19621" y="8930"/>
                </a:cubicBezTo>
                <a:cubicBezTo>
                  <a:pt x="19613" y="8930"/>
                  <a:pt x="19604" y="8930"/>
                  <a:pt x="19596" y="8930"/>
                </a:cubicBezTo>
                <a:cubicBezTo>
                  <a:pt x="19666" y="8922"/>
                  <a:pt x="19859" y="8836"/>
                  <a:pt x="19844" y="8979"/>
                </a:cubicBezTo>
                <a:cubicBezTo>
                  <a:pt x="19831" y="9101"/>
                  <a:pt x="19691" y="9188"/>
                  <a:pt x="19621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742160" y="3867120"/>
            <a:ext cx="857160" cy="339840"/>
          </a:xfrm>
          <a:custGeom>
            <a:avLst/>
            <a:gdLst/>
            <a:ahLst/>
            <a:rect l="l" t="t" r="r" b="b"/>
            <a:pathLst>
              <a:path w="2382" h="944">
                <a:moveTo>
                  <a:pt x="22225" y="10988"/>
                </a:moveTo>
                <a:cubicBezTo>
                  <a:pt x="22275" y="10940"/>
                  <a:pt x="22355" y="11129"/>
                  <a:pt x="22399" y="11187"/>
                </a:cubicBezTo>
                <a:cubicBezTo>
                  <a:pt x="22421" y="11210"/>
                  <a:pt x="22429" y="11221"/>
                  <a:pt x="22423" y="11187"/>
                </a:cubicBezTo>
              </a:path>
              <a:path w="2382" h="944">
                <a:moveTo>
                  <a:pt x="22572" y="10815"/>
                </a:moveTo>
                <a:cubicBezTo>
                  <a:pt x="22643" y="10726"/>
                  <a:pt x="22803" y="10734"/>
                  <a:pt x="22870" y="10864"/>
                </a:cubicBezTo>
                <a:cubicBezTo>
                  <a:pt x="22945" y="11009"/>
                  <a:pt x="22760" y="11073"/>
                  <a:pt x="22671" y="11088"/>
                </a:cubicBezTo>
                <a:cubicBezTo>
                  <a:pt x="22663" y="10995"/>
                  <a:pt x="22679" y="10914"/>
                  <a:pt x="22796" y="10964"/>
                </a:cubicBezTo>
                <a:cubicBezTo>
                  <a:pt x="22812" y="10972"/>
                  <a:pt x="22829" y="10980"/>
                  <a:pt x="22845" y="10988"/>
                </a:cubicBezTo>
              </a:path>
              <a:path w="2382" h="944">
                <a:moveTo>
                  <a:pt x="22324" y="11435"/>
                </a:moveTo>
                <a:cubicBezTo>
                  <a:pt x="22750" y="11255"/>
                  <a:pt x="23178" y="11093"/>
                  <a:pt x="23614" y="10939"/>
                </a:cubicBezTo>
                <a:cubicBezTo>
                  <a:pt x="23639" y="10931"/>
                  <a:pt x="23663" y="10922"/>
                  <a:pt x="23688" y="10914"/>
                </a:cubicBezTo>
              </a:path>
              <a:path w="2382" h="944">
                <a:moveTo>
                  <a:pt x="21506" y="11311"/>
                </a:moveTo>
                <a:cubicBezTo>
                  <a:pt x="21593" y="11277"/>
                  <a:pt x="21720" y="11214"/>
                  <a:pt x="21779" y="11187"/>
                </a:cubicBezTo>
                <a:cubicBezTo>
                  <a:pt x="21787" y="11187"/>
                  <a:pt x="21795" y="11187"/>
                  <a:pt x="21803" y="11187"/>
                </a:cubicBezTo>
              </a:path>
              <a:path w="2382" h="944">
                <a:moveTo>
                  <a:pt x="23143" y="11460"/>
                </a:moveTo>
                <a:cubicBezTo>
                  <a:pt x="23120" y="11437"/>
                  <a:pt x="23112" y="11433"/>
                  <a:pt x="23118" y="11410"/>
                </a:cubicBezTo>
                <a:cubicBezTo>
                  <a:pt x="23162" y="11497"/>
                  <a:pt x="23223" y="11589"/>
                  <a:pt x="23242" y="11683"/>
                </a:cubicBezTo>
              </a:path>
              <a:path w="2382" h="944">
                <a:moveTo>
                  <a:pt x="23465" y="11286"/>
                </a:moveTo>
                <a:cubicBezTo>
                  <a:pt x="23550" y="11265"/>
                  <a:pt x="23577" y="11187"/>
                  <a:pt x="23688" y="11212"/>
                </a:cubicBezTo>
                <a:cubicBezTo>
                  <a:pt x="23860" y="11251"/>
                  <a:pt x="23893" y="11457"/>
                  <a:pt x="23763" y="11559"/>
                </a:cubicBezTo>
                <a:cubicBezTo>
                  <a:pt x="23681" y="11586"/>
                  <a:pt x="23648" y="11593"/>
                  <a:pt x="23589" y="11559"/>
                </a:cubicBezTo>
                <a:cubicBezTo>
                  <a:pt x="23589" y="11442"/>
                  <a:pt x="23698" y="11465"/>
                  <a:pt x="23788" y="11460"/>
                </a:cubicBezTo>
                <a:cubicBezTo>
                  <a:pt x="23855" y="11456"/>
                  <a:pt x="23873" y="11443"/>
                  <a:pt x="23887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0800" y="5205240"/>
            <a:ext cx="1600200" cy="179640"/>
          </a:xfrm>
          <a:custGeom>
            <a:avLst/>
            <a:gdLst/>
            <a:ahLst/>
            <a:rect l="l" t="t" r="r" b="b"/>
            <a:pathLst>
              <a:path w="4441" h="497">
                <a:moveTo>
                  <a:pt x="2307" y="14684"/>
                </a:moveTo>
                <a:cubicBezTo>
                  <a:pt x="2288" y="14627"/>
                  <a:pt x="2279" y="14620"/>
                  <a:pt x="2282" y="14585"/>
                </a:cubicBezTo>
                <a:cubicBezTo>
                  <a:pt x="2401" y="14658"/>
                  <a:pt x="2525" y="14797"/>
                  <a:pt x="2654" y="14858"/>
                </a:cubicBezTo>
                <a:cubicBezTo>
                  <a:pt x="2777" y="14916"/>
                  <a:pt x="2848" y="14707"/>
                  <a:pt x="2877" y="14660"/>
                </a:cubicBezTo>
                <a:cubicBezTo>
                  <a:pt x="3035" y="14733"/>
                  <a:pt x="3185" y="14887"/>
                  <a:pt x="3373" y="14858"/>
                </a:cubicBezTo>
                <a:cubicBezTo>
                  <a:pt x="3622" y="14820"/>
                  <a:pt x="3597" y="14654"/>
                  <a:pt x="3845" y="14858"/>
                </a:cubicBezTo>
                <a:cubicBezTo>
                  <a:pt x="4067" y="15041"/>
                  <a:pt x="4005" y="14898"/>
                  <a:pt x="4217" y="14808"/>
                </a:cubicBezTo>
                <a:cubicBezTo>
                  <a:pt x="4383" y="14738"/>
                  <a:pt x="4522" y="14872"/>
                  <a:pt x="4688" y="14808"/>
                </a:cubicBezTo>
                <a:cubicBezTo>
                  <a:pt x="4943" y="14710"/>
                  <a:pt x="5108" y="14790"/>
                  <a:pt x="5333" y="14734"/>
                </a:cubicBezTo>
                <a:cubicBezTo>
                  <a:pt x="5454" y="14704"/>
                  <a:pt x="5616" y="14560"/>
                  <a:pt x="5755" y="14585"/>
                </a:cubicBezTo>
                <a:cubicBezTo>
                  <a:pt x="6057" y="14641"/>
                  <a:pt x="6067" y="14637"/>
                  <a:pt x="6350" y="14536"/>
                </a:cubicBezTo>
                <a:cubicBezTo>
                  <a:pt x="6467" y="14495"/>
                  <a:pt x="6617" y="14587"/>
                  <a:pt x="6697" y="14536"/>
                </a:cubicBezTo>
                <a:cubicBezTo>
                  <a:pt x="6705" y="14511"/>
                  <a:pt x="6714" y="14486"/>
                  <a:pt x="6722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63920" y="4795920"/>
            <a:ext cx="1652760" cy="1749240"/>
          </a:xfrm>
          <a:custGeom>
            <a:avLst/>
            <a:gdLst/>
            <a:ahLst/>
            <a:rect l="l" t="t" r="r" b="b"/>
            <a:pathLst>
              <a:path w="4590" h="4863">
                <a:moveTo>
                  <a:pt x="9649" y="14784"/>
                </a:moveTo>
                <a:cubicBezTo>
                  <a:pt x="9641" y="14784"/>
                  <a:pt x="9632" y="14784"/>
                  <a:pt x="9624" y="14784"/>
                </a:cubicBezTo>
                <a:cubicBezTo>
                  <a:pt x="9717" y="14728"/>
                  <a:pt x="9838" y="14777"/>
                  <a:pt x="9947" y="14759"/>
                </a:cubicBezTo>
                <a:cubicBezTo>
                  <a:pt x="9987" y="14739"/>
                  <a:pt x="10003" y="14720"/>
                  <a:pt x="9996" y="14759"/>
                </a:cubicBezTo>
              </a:path>
              <a:path w="4590" h="4863">
                <a:moveTo>
                  <a:pt x="10170" y="13841"/>
                </a:moveTo>
                <a:cubicBezTo>
                  <a:pt x="10170" y="13816"/>
                  <a:pt x="10170" y="13808"/>
                  <a:pt x="10170" y="13791"/>
                </a:cubicBezTo>
                <a:cubicBezTo>
                  <a:pt x="10153" y="13894"/>
                  <a:pt x="10096" y="13973"/>
                  <a:pt x="10046" y="14064"/>
                </a:cubicBezTo>
                <a:cubicBezTo>
                  <a:pt x="10196" y="14042"/>
                  <a:pt x="10359" y="14008"/>
                  <a:pt x="10492" y="13940"/>
                </a:cubicBezTo>
              </a:path>
              <a:path w="4590" h="4863">
                <a:moveTo>
                  <a:pt x="10542" y="13717"/>
                </a:moveTo>
                <a:cubicBezTo>
                  <a:pt x="10473" y="13938"/>
                  <a:pt x="10231" y="14575"/>
                  <a:pt x="10368" y="14387"/>
                </a:cubicBezTo>
                <a:cubicBezTo>
                  <a:pt x="10393" y="14337"/>
                  <a:pt x="10418" y="14288"/>
                  <a:pt x="10443" y="14238"/>
                </a:cubicBezTo>
              </a:path>
              <a:path w="4590" h="4863">
                <a:moveTo>
                  <a:pt x="10840" y="13717"/>
                </a:moveTo>
                <a:cubicBezTo>
                  <a:pt x="10978" y="13717"/>
                  <a:pt x="11125" y="13746"/>
                  <a:pt x="11162" y="13915"/>
                </a:cubicBezTo>
                <a:cubicBezTo>
                  <a:pt x="11218" y="14173"/>
                  <a:pt x="10925" y="14299"/>
                  <a:pt x="10765" y="14263"/>
                </a:cubicBezTo>
                <a:cubicBezTo>
                  <a:pt x="10863" y="14089"/>
                  <a:pt x="11008" y="14043"/>
                  <a:pt x="11137" y="14263"/>
                </a:cubicBezTo>
                <a:cubicBezTo>
                  <a:pt x="11156" y="14320"/>
                  <a:pt x="11165" y="14363"/>
                  <a:pt x="11162" y="14312"/>
                </a:cubicBezTo>
              </a:path>
              <a:path w="4590" h="4863">
                <a:moveTo>
                  <a:pt x="11361" y="14337"/>
                </a:moveTo>
                <a:cubicBezTo>
                  <a:pt x="11361" y="14411"/>
                  <a:pt x="11336" y="14444"/>
                  <a:pt x="11385" y="14436"/>
                </a:cubicBezTo>
              </a:path>
              <a:path w="4590" h="4863">
                <a:moveTo>
                  <a:pt x="11385" y="14436"/>
                </a:moveTo>
                <a:lnTo>
                  <a:pt x="11385" y="14436"/>
                </a:lnTo>
              </a:path>
              <a:path w="4590" h="4863">
                <a:moveTo>
                  <a:pt x="11832" y="13742"/>
                </a:moveTo>
                <a:cubicBezTo>
                  <a:pt x="11547" y="13912"/>
                  <a:pt x="11657" y="13892"/>
                  <a:pt x="11881" y="14064"/>
                </a:cubicBezTo>
                <a:cubicBezTo>
                  <a:pt x="11906" y="14089"/>
                  <a:pt x="11931" y="14114"/>
                  <a:pt x="11956" y="14139"/>
                </a:cubicBezTo>
                <a:cubicBezTo>
                  <a:pt x="11870" y="14223"/>
                  <a:pt x="11831" y="14251"/>
                  <a:pt x="11733" y="14238"/>
                </a:cubicBezTo>
                <a:cubicBezTo>
                  <a:pt x="11697" y="14017"/>
                  <a:pt x="11765" y="13957"/>
                  <a:pt x="11931" y="13791"/>
                </a:cubicBezTo>
              </a:path>
              <a:path w="4590" h="4863">
                <a:moveTo>
                  <a:pt x="12353" y="13742"/>
                </a:moveTo>
                <a:cubicBezTo>
                  <a:pt x="12228" y="13887"/>
                  <a:pt x="12168" y="13955"/>
                  <a:pt x="12129" y="14139"/>
                </a:cubicBezTo>
                <a:cubicBezTo>
                  <a:pt x="12242" y="14155"/>
                  <a:pt x="12636" y="14142"/>
                  <a:pt x="12526" y="13891"/>
                </a:cubicBezTo>
                <a:cubicBezTo>
                  <a:pt x="12433" y="13820"/>
                  <a:pt x="12407" y="13797"/>
                  <a:pt x="12328" y="13791"/>
                </a:cubicBezTo>
              </a:path>
              <a:path w="4590" h="4863">
                <a:moveTo>
                  <a:pt x="12948" y="13742"/>
                </a:moveTo>
                <a:cubicBezTo>
                  <a:pt x="12770" y="13856"/>
                  <a:pt x="12768" y="13867"/>
                  <a:pt x="12725" y="14064"/>
                </a:cubicBezTo>
                <a:cubicBezTo>
                  <a:pt x="12836" y="14139"/>
                  <a:pt x="13123" y="14255"/>
                  <a:pt x="13146" y="13990"/>
                </a:cubicBezTo>
                <a:cubicBezTo>
                  <a:pt x="13166" y="13755"/>
                  <a:pt x="12967" y="13765"/>
                  <a:pt x="12824" y="13742"/>
                </a:cubicBezTo>
              </a:path>
              <a:path w="4590" h="4863">
                <a:moveTo>
                  <a:pt x="10468" y="14536"/>
                </a:moveTo>
                <a:cubicBezTo>
                  <a:pt x="10438" y="14536"/>
                  <a:pt x="10401" y="14543"/>
                  <a:pt x="10393" y="14560"/>
                </a:cubicBezTo>
                <a:cubicBezTo>
                  <a:pt x="10380" y="14586"/>
                  <a:pt x="10475" y="14581"/>
                  <a:pt x="10492" y="14635"/>
                </a:cubicBezTo>
                <a:cubicBezTo>
                  <a:pt x="10522" y="14752"/>
                  <a:pt x="10518" y="14800"/>
                  <a:pt x="10418" y="14858"/>
                </a:cubicBezTo>
                <a:cubicBezTo>
                  <a:pt x="10324" y="14889"/>
                  <a:pt x="10589" y="14764"/>
                  <a:pt x="10641" y="14957"/>
                </a:cubicBezTo>
                <a:cubicBezTo>
                  <a:pt x="10633" y="14990"/>
                  <a:pt x="10624" y="15023"/>
                  <a:pt x="10616" y="15056"/>
                </a:cubicBezTo>
                <a:cubicBezTo>
                  <a:pt x="10342" y="15148"/>
                  <a:pt x="10237" y="15170"/>
                  <a:pt x="10393" y="14883"/>
                </a:cubicBezTo>
              </a:path>
              <a:path w="4590" h="4863">
                <a:moveTo>
                  <a:pt x="11063" y="14560"/>
                </a:moveTo>
                <a:cubicBezTo>
                  <a:pt x="10929" y="14605"/>
                  <a:pt x="10886" y="14608"/>
                  <a:pt x="10864" y="14709"/>
                </a:cubicBezTo>
                <a:cubicBezTo>
                  <a:pt x="10973" y="14811"/>
                  <a:pt x="11068" y="14874"/>
                  <a:pt x="11162" y="14982"/>
                </a:cubicBezTo>
                <a:cubicBezTo>
                  <a:pt x="10946" y="15026"/>
                  <a:pt x="10824" y="15003"/>
                  <a:pt x="10964" y="14759"/>
                </a:cubicBezTo>
                <a:cubicBezTo>
                  <a:pt x="11004" y="14689"/>
                  <a:pt x="11063" y="14590"/>
                  <a:pt x="11063" y="14635"/>
                </a:cubicBezTo>
              </a:path>
              <a:path w="4590" h="4863">
                <a:moveTo>
                  <a:pt x="11410" y="15131"/>
                </a:moveTo>
                <a:cubicBezTo>
                  <a:pt x="11410" y="15192"/>
                  <a:pt x="11401" y="15226"/>
                  <a:pt x="11435" y="15180"/>
                </a:cubicBezTo>
              </a:path>
              <a:path w="4590" h="4863">
                <a:moveTo>
                  <a:pt x="11733" y="14610"/>
                </a:moveTo>
                <a:cubicBezTo>
                  <a:pt x="11696" y="14790"/>
                  <a:pt x="11879" y="14741"/>
                  <a:pt x="12005" y="14833"/>
                </a:cubicBezTo>
                <a:cubicBezTo>
                  <a:pt x="12170" y="14954"/>
                  <a:pt x="11738" y="14871"/>
                  <a:pt x="11708" y="14858"/>
                </a:cubicBezTo>
              </a:path>
              <a:path w="4590" h="4863">
                <a:moveTo>
                  <a:pt x="11807" y="14560"/>
                </a:moveTo>
                <a:cubicBezTo>
                  <a:pt x="12024" y="14525"/>
                  <a:pt x="12210" y="14565"/>
                  <a:pt x="12427" y="14585"/>
                </a:cubicBezTo>
                <a:cubicBezTo>
                  <a:pt x="12452" y="14585"/>
                  <a:pt x="12477" y="14585"/>
                  <a:pt x="12502" y="14585"/>
                </a:cubicBezTo>
              </a:path>
              <a:path w="4590" h="4863">
                <a:moveTo>
                  <a:pt x="12452" y="14585"/>
                </a:moveTo>
                <a:cubicBezTo>
                  <a:pt x="12336" y="14694"/>
                  <a:pt x="12303" y="14707"/>
                  <a:pt x="12303" y="14858"/>
                </a:cubicBezTo>
                <a:cubicBezTo>
                  <a:pt x="12397" y="14879"/>
                  <a:pt x="12854" y="14830"/>
                  <a:pt x="12650" y="14610"/>
                </a:cubicBezTo>
                <a:cubicBezTo>
                  <a:pt x="12601" y="14593"/>
                  <a:pt x="12551" y="14577"/>
                  <a:pt x="12502" y="14560"/>
                </a:cubicBezTo>
              </a:path>
              <a:path w="4590" h="4863">
                <a:moveTo>
                  <a:pt x="13022" y="14412"/>
                </a:moveTo>
                <a:cubicBezTo>
                  <a:pt x="12855" y="14508"/>
                  <a:pt x="12801" y="14535"/>
                  <a:pt x="12750" y="14660"/>
                </a:cubicBezTo>
                <a:cubicBezTo>
                  <a:pt x="12857" y="14767"/>
                  <a:pt x="13204" y="14948"/>
                  <a:pt x="13271" y="14635"/>
                </a:cubicBezTo>
                <a:cubicBezTo>
                  <a:pt x="13216" y="14498"/>
                  <a:pt x="13185" y="14455"/>
                  <a:pt x="13047" y="14486"/>
                </a:cubicBezTo>
              </a:path>
              <a:path w="4590" h="4863">
                <a:moveTo>
                  <a:pt x="10120" y="15404"/>
                </a:moveTo>
                <a:cubicBezTo>
                  <a:pt x="10799" y="15277"/>
                  <a:pt x="11490" y="15204"/>
                  <a:pt x="12179" y="15131"/>
                </a:cubicBezTo>
                <a:cubicBezTo>
                  <a:pt x="12495" y="15097"/>
                  <a:pt x="12762" y="15081"/>
                  <a:pt x="13072" y="15081"/>
                </a:cubicBezTo>
              </a:path>
              <a:path w="4590" h="4863">
                <a:moveTo>
                  <a:pt x="13419" y="15255"/>
                </a:moveTo>
                <a:cubicBezTo>
                  <a:pt x="13293" y="15281"/>
                  <a:pt x="13135" y="15405"/>
                  <a:pt x="13146" y="15553"/>
                </a:cubicBezTo>
                <a:cubicBezTo>
                  <a:pt x="13171" y="15586"/>
                  <a:pt x="13196" y="15619"/>
                  <a:pt x="13221" y="15652"/>
                </a:cubicBezTo>
                <a:cubicBezTo>
                  <a:pt x="13408" y="15598"/>
                  <a:pt x="13728" y="15485"/>
                  <a:pt x="13469" y="15255"/>
                </a:cubicBezTo>
                <a:cubicBezTo>
                  <a:pt x="13428" y="15238"/>
                  <a:pt x="13386" y="15222"/>
                  <a:pt x="13345" y="15205"/>
                </a:cubicBezTo>
              </a:path>
              <a:path w="4590" h="4863">
                <a:moveTo>
                  <a:pt x="12675" y="15453"/>
                </a:moveTo>
                <a:cubicBezTo>
                  <a:pt x="12553" y="15484"/>
                  <a:pt x="12467" y="15616"/>
                  <a:pt x="12452" y="15751"/>
                </a:cubicBezTo>
                <a:cubicBezTo>
                  <a:pt x="12460" y="15776"/>
                  <a:pt x="12469" y="15800"/>
                  <a:pt x="12477" y="15825"/>
                </a:cubicBezTo>
                <a:cubicBezTo>
                  <a:pt x="12651" y="15852"/>
                  <a:pt x="12800" y="15770"/>
                  <a:pt x="12750" y="15553"/>
                </a:cubicBezTo>
                <a:cubicBezTo>
                  <a:pt x="12687" y="15448"/>
                  <a:pt x="12683" y="15414"/>
                  <a:pt x="12601" y="15404"/>
                </a:cubicBezTo>
              </a:path>
              <a:path w="4590" h="4863">
                <a:moveTo>
                  <a:pt x="11881" y="15404"/>
                </a:moveTo>
                <a:cubicBezTo>
                  <a:pt x="11815" y="15404"/>
                  <a:pt x="12085" y="15373"/>
                  <a:pt x="12105" y="15379"/>
                </a:cubicBezTo>
                <a:cubicBezTo>
                  <a:pt x="12256" y="15427"/>
                  <a:pt x="12031" y="15640"/>
                  <a:pt x="12005" y="15677"/>
                </a:cubicBezTo>
                <a:cubicBezTo>
                  <a:pt x="11989" y="15685"/>
                  <a:pt x="11972" y="15693"/>
                  <a:pt x="11956" y="15701"/>
                </a:cubicBezTo>
                <a:cubicBezTo>
                  <a:pt x="12018" y="15691"/>
                  <a:pt x="12258" y="15643"/>
                  <a:pt x="12254" y="15776"/>
                </a:cubicBezTo>
                <a:cubicBezTo>
                  <a:pt x="12249" y="15928"/>
                  <a:pt x="11881" y="16152"/>
                  <a:pt x="11782" y="15974"/>
                </a:cubicBezTo>
                <a:cubicBezTo>
                  <a:pt x="11790" y="15941"/>
                  <a:pt x="11799" y="15908"/>
                  <a:pt x="11807" y="15875"/>
                </a:cubicBezTo>
              </a:path>
              <a:path w="4590" h="4863">
                <a:moveTo>
                  <a:pt x="10195" y="13791"/>
                </a:moveTo>
                <a:cubicBezTo>
                  <a:pt x="10291" y="13964"/>
                  <a:pt x="10394" y="14203"/>
                  <a:pt x="10592" y="14288"/>
                </a:cubicBezTo>
                <a:cubicBezTo>
                  <a:pt x="10592" y="14280"/>
                  <a:pt x="10592" y="14271"/>
                  <a:pt x="10592" y="14263"/>
                </a:cubicBezTo>
              </a:path>
              <a:path w="4590" h="4863">
                <a:moveTo>
                  <a:pt x="9773" y="13370"/>
                </a:moveTo>
                <a:cubicBezTo>
                  <a:pt x="9867" y="13343"/>
                  <a:pt x="10036" y="13303"/>
                  <a:pt x="9971" y="13494"/>
                </a:cubicBezTo>
                <a:cubicBezTo>
                  <a:pt x="9946" y="13527"/>
                  <a:pt x="9922" y="13560"/>
                  <a:pt x="9897" y="13593"/>
                </a:cubicBezTo>
                <a:cubicBezTo>
                  <a:pt x="9862" y="13646"/>
                  <a:pt x="10011" y="13557"/>
                  <a:pt x="10096" y="13643"/>
                </a:cubicBezTo>
                <a:cubicBezTo>
                  <a:pt x="10244" y="13792"/>
                  <a:pt x="9879" y="13957"/>
                  <a:pt x="9773" y="13891"/>
                </a:cubicBezTo>
                <a:cubicBezTo>
                  <a:pt x="9773" y="13866"/>
                  <a:pt x="9773" y="13841"/>
                  <a:pt x="9773" y="13816"/>
                </a:cubicBezTo>
              </a:path>
              <a:path w="4590" h="4863">
                <a:moveTo>
                  <a:pt x="10592" y="13469"/>
                </a:moveTo>
                <a:cubicBezTo>
                  <a:pt x="10563" y="13527"/>
                  <a:pt x="10613" y="13696"/>
                  <a:pt x="10616" y="13791"/>
                </a:cubicBezTo>
                <a:cubicBezTo>
                  <a:pt x="10616" y="13808"/>
                  <a:pt x="10616" y="13824"/>
                  <a:pt x="10616" y="13841"/>
                </a:cubicBezTo>
              </a:path>
              <a:path w="4590" h="4863">
                <a:moveTo>
                  <a:pt x="10964" y="15577"/>
                </a:moveTo>
                <a:cubicBezTo>
                  <a:pt x="11005" y="15577"/>
                  <a:pt x="11001" y="15587"/>
                  <a:pt x="11013" y="15553"/>
                </a:cubicBezTo>
              </a:path>
              <a:path w="4590" h="4863">
                <a:moveTo>
                  <a:pt x="11013" y="15577"/>
                </a:moveTo>
                <a:lnTo>
                  <a:pt x="11013" y="15577"/>
                </a:lnTo>
              </a:path>
              <a:path w="4590" h="4863">
                <a:moveTo>
                  <a:pt x="10988" y="15677"/>
                </a:moveTo>
                <a:cubicBezTo>
                  <a:pt x="10950" y="15791"/>
                  <a:pt x="10934" y="15806"/>
                  <a:pt x="10939" y="15875"/>
                </a:cubicBezTo>
                <a:cubicBezTo>
                  <a:pt x="11067" y="15853"/>
                  <a:pt x="11199" y="15813"/>
                  <a:pt x="11311" y="15751"/>
                </a:cubicBezTo>
              </a:path>
              <a:path w="4590" h="4863">
                <a:moveTo>
                  <a:pt x="11286" y="15379"/>
                </a:moveTo>
                <a:cubicBezTo>
                  <a:pt x="11257" y="15610"/>
                  <a:pt x="11229" y="15841"/>
                  <a:pt x="11212" y="16073"/>
                </a:cubicBezTo>
              </a:path>
              <a:path w="4590" h="4863">
                <a:moveTo>
                  <a:pt x="11584" y="15974"/>
                </a:moveTo>
                <a:cubicBezTo>
                  <a:pt x="11643" y="16130"/>
                  <a:pt x="11664" y="16129"/>
                  <a:pt x="11609" y="16297"/>
                </a:cubicBezTo>
              </a:path>
              <a:path w="4590" h="4863">
                <a:moveTo>
                  <a:pt x="13146" y="18107"/>
                </a:moveTo>
                <a:cubicBezTo>
                  <a:pt x="13175" y="18129"/>
                  <a:pt x="13232" y="18176"/>
                  <a:pt x="13271" y="18182"/>
                </a:cubicBezTo>
                <a:cubicBezTo>
                  <a:pt x="13402" y="18202"/>
                  <a:pt x="13573" y="18148"/>
                  <a:pt x="13667" y="18058"/>
                </a:cubicBezTo>
                <a:cubicBezTo>
                  <a:pt x="13720" y="18007"/>
                  <a:pt x="13730" y="17909"/>
                  <a:pt x="13767" y="17884"/>
                </a:cubicBezTo>
                <a:cubicBezTo>
                  <a:pt x="13767" y="17938"/>
                  <a:pt x="13778" y="17956"/>
                  <a:pt x="13791" y="18008"/>
                </a:cubicBezTo>
                <a:cubicBezTo>
                  <a:pt x="13800" y="18044"/>
                  <a:pt x="13919" y="18042"/>
                  <a:pt x="13965" y="18033"/>
                </a:cubicBezTo>
                <a:cubicBezTo>
                  <a:pt x="13998" y="18026"/>
                  <a:pt x="14139" y="17983"/>
                  <a:pt x="14163" y="17959"/>
                </a:cubicBezTo>
                <a:cubicBezTo>
                  <a:pt x="14170" y="17952"/>
                  <a:pt x="14234" y="17886"/>
                  <a:pt x="14213" y="17859"/>
                </a:cubicBezTo>
                <a:cubicBezTo>
                  <a:pt x="14194" y="17836"/>
                  <a:pt x="14168" y="17852"/>
                  <a:pt x="14163" y="17810"/>
                </a:cubicBezTo>
                <a:cubicBezTo>
                  <a:pt x="14158" y="17766"/>
                  <a:pt x="14148" y="17781"/>
                  <a:pt x="14139" y="17810"/>
                </a:cubicBezTo>
                <a:cubicBezTo>
                  <a:pt x="14178" y="17756"/>
                  <a:pt x="14125" y="17724"/>
                  <a:pt x="14089" y="17760"/>
                </a:cubicBezTo>
                <a:cubicBezTo>
                  <a:pt x="14037" y="17812"/>
                  <a:pt x="14078" y="17801"/>
                  <a:pt x="14089" y="178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91080" y="4599000"/>
            <a:ext cx="1305000" cy="992160"/>
          </a:xfrm>
          <a:custGeom>
            <a:avLst/>
            <a:gdLst/>
            <a:ahLst/>
            <a:rect l="l" t="t" r="r" b="b"/>
            <a:pathLst>
              <a:path w="3622" h="2755">
                <a:moveTo>
                  <a:pt x="16173" y="13742"/>
                </a:moveTo>
                <a:cubicBezTo>
                  <a:pt x="16173" y="13657"/>
                  <a:pt x="16151" y="13860"/>
                  <a:pt x="16123" y="13940"/>
                </a:cubicBezTo>
                <a:cubicBezTo>
                  <a:pt x="16106" y="13981"/>
                  <a:pt x="16090" y="14023"/>
                  <a:pt x="16073" y="14064"/>
                </a:cubicBezTo>
                <a:cubicBezTo>
                  <a:pt x="16189" y="14051"/>
                  <a:pt x="16305" y="14027"/>
                  <a:pt x="16421" y="14015"/>
                </a:cubicBezTo>
              </a:path>
              <a:path w="3622" h="2755">
                <a:moveTo>
                  <a:pt x="16396" y="13816"/>
                </a:moveTo>
                <a:cubicBezTo>
                  <a:pt x="16381" y="13971"/>
                  <a:pt x="16346" y="14365"/>
                  <a:pt x="16346" y="14436"/>
                </a:cubicBezTo>
              </a:path>
              <a:path w="3622" h="2755">
                <a:moveTo>
                  <a:pt x="16619" y="14213"/>
                </a:moveTo>
                <a:cubicBezTo>
                  <a:pt x="16619" y="14289"/>
                  <a:pt x="16574" y="14523"/>
                  <a:pt x="16644" y="14362"/>
                </a:cubicBezTo>
              </a:path>
              <a:path w="3622" h="2755">
                <a:moveTo>
                  <a:pt x="16644" y="14362"/>
                </a:moveTo>
                <a:lnTo>
                  <a:pt x="16644" y="14362"/>
                </a:lnTo>
              </a:path>
              <a:path w="3622" h="2755">
                <a:moveTo>
                  <a:pt x="16867" y="13767"/>
                </a:moveTo>
                <a:cubicBezTo>
                  <a:pt x="17010" y="13709"/>
                  <a:pt x="17269" y="13668"/>
                  <a:pt x="17066" y="13915"/>
                </a:cubicBezTo>
                <a:cubicBezTo>
                  <a:pt x="17041" y="13932"/>
                  <a:pt x="17016" y="13948"/>
                  <a:pt x="16991" y="13965"/>
                </a:cubicBezTo>
                <a:cubicBezTo>
                  <a:pt x="17171" y="13935"/>
                  <a:pt x="17452" y="13951"/>
                  <a:pt x="17239" y="14213"/>
                </a:cubicBezTo>
                <a:cubicBezTo>
                  <a:pt x="17058" y="14435"/>
                  <a:pt x="17023" y="14168"/>
                  <a:pt x="16991" y="14064"/>
                </a:cubicBezTo>
              </a:path>
              <a:path w="3622" h="2755">
                <a:moveTo>
                  <a:pt x="17587" y="13667"/>
                </a:moveTo>
                <a:cubicBezTo>
                  <a:pt x="17533" y="13835"/>
                  <a:pt x="17518" y="13899"/>
                  <a:pt x="17562" y="14064"/>
                </a:cubicBezTo>
                <a:cubicBezTo>
                  <a:pt x="17690" y="14058"/>
                  <a:pt x="18121" y="13947"/>
                  <a:pt x="17859" y="13742"/>
                </a:cubicBezTo>
                <a:cubicBezTo>
                  <a:pt x="17779" y="13679"/>
                  <a:pt x="17452" y="13693"/>
                  <a:pt x="17735" y="13667"/>
                </a:cubicBezTo>
              </a:path>
              <a:path w="3622" h="2755">
                <a:moveTo>
                  <a:pt x="18355" y="13593"/>
                </a:moveTo>
                <a:cubicBezTo>
                  <a:pt x="18258" y="13676"/>
                  <a:pt x="18107" y="13957"/>
                  <a:pt x="18380" y="13990"/>
                </a:cubicBezTo>
                <a:cubicBezTo>
                  <a:pt x="18548" y="14010"/>
                  <a:pt x="18591" y="13819"/>
                  <a:pt x="18628" y="13717"/>
                </a:cubicBezTo>
                <a:cubicBezTo>
                  <a:pt x="18506" y="13625"/>
                  <a:pt x="18445" y="13611"/>
                  <a:pt x="18331" y="13717"/>
                </a:cubicBezTo>
              </a:path>
              <a:path w="3622" h="2755">
                <a:moveTo>
                  <a:pt x="16098" y="14610"/>
                </a:moveTo>
                <a:cubicBezTo>
                  <a:pt x="16685" y="14531"/>
                  <a:pt x="17268" y="14452"/>
                  <a:pt x="17859" y="14412"/>
                </a:cubicBezTo>
                <a:cubicBezTo>
                  <a:pt x="18176" y="14390"/>
                  <a:pt x="18469" y="14380"/>
                  <a:pt x="18777" y="14412"/>
                </a:cubicBezTo>
                <a:cubicBezTo>
                  <a:pt x="18785" y="14412"/>
                  <a:pt x="18794" y="14412"/>
                  <a:pt x="18802" y="14412"/>
                </a:cubicBezTo>
              </a:path>
              <a:path w="3622" h="2755">
                <a:moveTo>
                  <a:pt x="16321" y="14957"/>
                </a:moveTo>
                <a:cubicBezTo>
                  <a:pt x="16293" y="14957"/>
                  <a:pt x="16288" y="14954"/>
                  <a:pt x="16321" y="14932"/>
                </a:cubicBezTo>
                <a:cubicBezTo>
                  <a:pt x="16489" y="14896"/>
                  <a:pt x="16478" y="14996"/>
                  <a:pt x="16421" y="15131"/>
                </a:cubicBezTo>
                <a:cubicBezTo>
                  <a:pt x="16384" y="15204"/>
                  <a:pt x="16396" y="15237"/>
                  <a:pt x="16346" y="15230"/>
                </a:cubicBezTo>
                <a:cubicBezTo>
                  <a:pt x="16447" y="15213"/>
                  <a:pt x="16604" y="15156"/>
                  <a:pt x="16594" y="15329"/>
                </a:cubicBezTo>
                <a:cubicBezTo>
                  <a:pt x="16582" y="15529"/>
                  <a:pt x="16403" y="15503"/>
                  <a:pt x="16297" y="15429"/>
                </a:cubicBezTo>
              </a:path>
              <a:path w="3622" h="2755">
                <a:moveTo>
                  <a:pt x="16991" y="14833"/>
                </a:moveTo>
                <a:cubicBezTo>
                  <a:pt x="16835" y="14892"/>
                  <a:pt x="16683" y="14958"/>
                  <a:pt x="16842" y="15131"/>
                </a:cubicBezTo>
                <a:cubicBezTo>
                  <a:pt x="16987" y="15290"/>
                  <a:pt x="17016" y="15229"/>
                  <a:pt x="16966" y="15429"/>
                </a:cubicBezTo>
                <a:cubicBezTo>
                  <a:pt x="16828" y="15369"/>
                  <a:pt x="16919" y="15172"/>
                  <a:pt x="16942" y="15032"/>
                </a:cubicBezTo>
              </a:path>
              <a:path w="3622" h="2755">
                <a:moveTo>
                  <a:pt x="17264" y="15404"/>
                </a:moveTo>
                <a:cubicBezTo>
                  <a:pt x="17264" y="15472"/>
                  <a:pt x="17261" y="15491"/>
                  <a:pt x="17289" y="15528"/>
                </a:cubicBezTo>
              </a:path>
              <a:path w="3622" h="2755">
                <a:moveTo>
                  <a:pt x="17388" y="14982"/>
                </a:moveTo>
                <a:cubicBezTo>
                  <a:pt x="17388" y="15078"/>
                  <a:pt x="17404" y="15060"/>
                  <a:pt x="17512" y="15106"/>
                </a:cubicBezTo>
                <a:cubicBezTo>
                  <a:pt x="17655" y="15167"/>
                  <a:pt x="17720" y="15359"/>
                  <a:pt x="17487" y="15304"/>
                </a:cubicBezTo>
                <a:cubicBezTo>
                  <a:pt x="17446" y="15279"/>
                  <a:pt x="17404" y="15255"/>
                  <a:pt x="17363" y="15230"/>
                </a:cubicBezTo>
              </a:path>
              <a:path w="3622" h="2755">
                <a:moveTo>
                  <a:pt x="17413" y="14982"/>
                </a:moveTo>
                <a:cubicBezTo>
                  <a:pt x="17550" y="14903"/>
                  <a:pt x="17653" y="14868"/>
                  <a:pt x="17810" y="14858"/>
                </a:cubicBezTo>
              </a:path>
              <a:path w="3622" h="2755">
                <a:moveTo>
                  <a:pt x="17810" y="14858"/>
                </a:moveTo>
                <a:lnTo>
                  <a:pt x="17810" y="14858"/>
                </a:lnTo>
              </a:path>
              <a:path w="3622" h="2755">
                <a:moveTo>
                  <a:pt x="17959" y="14833"/>
                </a:moveTo>
                <a:cubicBezTo>
                  <a:pt x="17898" y="14918"/>
                  <a:pt x="17777" y="15101"/>
                  <a:pt x="17909" y="15180"/>
                </a:cubicBezTo>
                <a:cubicBezTo>
                  <a:pt x="18095" y="15292"/>
                  <a:pt x="18250" y="15031"/>
                  <a:pt x="18132" y="14883"/>
                </a:cubicBezTo>
                <a:cubicBezTo>
                  <a:pt x="18099" y="14866"/>
                  <a:pt x="18066" y="14850"/>
                  <a:pt x="18033" y="14833"/>
                </a:cubicBezTo>
              </a:path>
              <a:path w="3622" h="2755">
                <a:moveTo>
                  <a:pt x="18479" y="14734"/>
                </a:moveTo>
                <a:cubicBezTo>
                  <a:pt x="18436" y="14853"/>
                  <a:pt x="18298" y="15228"/>
                  <a:pt x="18604" y="15131"/>
                </a:cubicBezTo>
                <a:cubicBezTo>
                  <a:pt x="18834" y="15058"/>
                  <a:pt x="18712" y="14871"/>
                  <a:pt x="18579" y="14833"/>
                </a:cubicBezTo>
              </a:path>
              <a:path w="3622" h="2755">
                <a:moveTo>
                  <a:pt x="15354" y="13196"/>
                </a:moveTo>
                <a:cubicBezTo>
                  <a:pt x="15386" y="13154"/>
                  <a:pt x="15288" y="13188"/>
                  <a:pt x="15379" y="13171"/>
                </a:cubicBezTo>
                <a:cubicBezTo>
                  <a:pt x="15501" y="13149"/>
                  <a:pt x="15621" y="13126"/>
                  <a:pt x="15751" y="13122"/>
                </a:cubicBezTo>
                <a:cubicBezTo>
                  <a:pt x="15863" y="13119"/>
                  <a:pt x="15962" y="13100"/>
                  <a:pt x="16073" y="13097"/>
                </a:cubicBezTo>
                <a:cubicBezTo>
                  <a:pt x="16249" y="13092"/>
                  <a:pt x="16419" y="13038"/>
                  <a:pt x="16594" y="13022"/>
                </a:cubicBezTo>
                <a:cubicBezTo>
                  <a:pt x="16709" y="13011"/>
                  <a:pt x="16829" y="12992"/>
                  <a:pt x="16942" y="12973"/>
                </a:cubicBezTo>
                <a:cubicBezTo>
                  <a:pt x="17091" y="12948"/>
                  <a:pt x="17237" y="12889"/>
                  <a:pt x="17388" y="12874"/>
                </a:cubicBezTo>
                <a:cubicBezTo>
                  <a:pt x="17518" y="12861"/>
                  <a:pt x="17655" y="12867"/>
                  <a:pt x="17785" y="12849"/>
                </a:cubicBezTo>
                <a:cubicBezTo>
                  <a:pt x="17935" y="12828"/>
                  <a:pt x="18078" y="12802"/>
                  <a:pt x="18231" y="12799"/>
                </a:cubicBezTo>
                <a:cubicBezTo>
                  <a:pt x="18399" y="12795"/>
                  <a:pt x="18563" y="12787"/>
                  <a:pt x="18728" y="12774"/>
                </a:cubicBezTo>
                <a:cubicBezTo>
                  <a:pt x="18810" y="12774"/>
                  <a:pt x="18827" y="12774"/>
                  <a:pt x="18876" y="12774"/>
                </a:cubicBezTo>
              </a:path>
              <a:path w="3622" h="2755">
                <a:moveTo>
                  <a:pt x="15255" y="13593"/>
                </a:moveTo>
                <a:cubicBezTo>
                  <a:pt x="15403" y="13535"/>
                  <a:pt x="15561" y="13501"/>
                  <a:pt x="15726" y="13469"/>
                </a:cubicBezTo>
                <a:cubicBezTo>
                  <a:pt x="16243" y="13369"/>
                  <a:pt x="16765" y="13395"/>
                  <a:pt x="17289" y="13395"/>
                </a:cubicBezTo>
                <a:cubicBezTo>
                  <a:pt x="17610" y="13395"/>
                  <a:pt x="17938" y="13417"/>
                  <a:pt x="18256" y="13370"/>
                </a:cubicBezTo>
                <a:cubicBezTo>
                  <a:pt x="18347" y="13357"/>
                  <a:pt x="18440" y="13337"/>
                  <a:pt x="18529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0000" y="6411960"/>
            <a:ext cx="71280" cy="106200"/>
          </a:xfrm>
          <a:custGeom>
            <a:avLst/>
            <a:gdLst/>
            <a:ahLst/>
            <a:rect l="l" t="t" r="r" b="b"/>
            <a:pathLst>
              <a:path w="199" h="298">
                <a:moveTo>
                  <a:pt x="13097" y="18008"/>
                </a:moveTo>
                <a:lnTo>
                  <a:pt x="13097" y="18008"/>
                </a:lnTo>
              </a:path>
              <a:path w="199" h="298">
                <a:moveTo>
                  <a:pt x="13097" y="17810"/>
                </a:moveTo>
                <a:cubicBezTo>
                  <a:pt x="13079" y="17899"/>
                  <a:pt x="13001" y="18019"/>
                  <a:pt x="13072" y="18107"/>
                </a:cubicBezTo>
                <a:cubicBezTo>
                  <a:pt x="13089" y="18107"/>
                  <a:pt x="13105" y="18107"/>
                  <a:pt x="13122" y="18107"/>
                </a:cubicBezTo>
                <a:cubicBezTo>
                  <a:pt x="13149" y="18072"/>
                  <a:pt x="13257" y="17814"/>
                  <a:pt x="13097" y="17909"/>
                </a:cubicBezTo>
                <a:cubicBezTo>
                  <a:pt x="13058" y="17932"/>
                  <a:pt x="12966" y="18165"/>
                  <a:pt x="13072" y="18107"/>
                </a:cubicBezTo>
                <a:cubicBezTo>
                  <a:pt x="13089" y="18091"/>
                  <a:pt x="13105" y="18074"/>
                  <a:pt x="13122" y="18058"/>
                </a:cubicBezTo>
                <a:cubicBezTo>
                  <a:pt x="13148" y="17885"/>
                  <a:pt x="13018" y="17911"/>
                  <a:pt x="12998" y="18033"/>
                </a:cubicBezTo>
                <a:cubicBezTo>
                  <a:pt x="13021" y="18105"/>
                  <a:pt x="13027" y="18131"/>
                  <a:pt x="13072" y="180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94200" y="6232680"/>
            <a:ext cx="258840" cy="152280"/>
          </a:xfrm>
          <a:custGeom>
            <a:avLst/>
            <a:gdLst/>
            <a:ahLst/>
            <a:rect l="l" t="t" r="r" b="b"/>
            <a:pathLst>
              <a:path w="720" h="422">
                <a:moveTo>
                  <a:pt x="13593" y="17363"/>
                </a:moveTo>
                <a:cubicBezTo>
                  <a:pt x="13598" y="17496"/>
                  <a:pt x="13546" y="17827"/>
                  <a:pt x="13643" y="17735"/>
                </a:cubicBezTo>
                <a:cubicBezTo>
                  <a:pt x="13643" y="17727"/>
                  <a:pt x="13643" y="17719"/>
                  <a:pt x="13643" y="17711"/>
                </a:cubicBezTo>
              </a:path>
              <a:path w="720" h="422">
                <a:moveTo>
                  <a:pt x="13841" y="17338"/>
                </a:moveTo>
                <a:cubicBezTo>
                  <a:pt x="13873" y="17438"/>
                  <a:pt x="13901" y="17539"/>
                  <a:pt x="13940" y="17636"/>
                </a:cubicBezTo>
              </a:path>
              <a:path w="720" h="422">
                <a:moveTo>
                  <a:pt x="14213" y="17314"/>
                </a:moveTo>
                <a:cubicBezTo>
                  <a:pt x="14238" y="17437"/>
                  <a:pt x="14227" y="17612"/>
                  <a:pt x="14312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68960" y="6089760"/>
            <a:ext cx="795240" cy="268200"/>
          </a:xfrm>
          <a:custGeom>
            <a:avLst/>
            <a:gdLst/>
            <a:ahLst/>
            <a:rect l="l" t="t" r="r" b="b"/>
            <a:pathLst>
              <a:path w="2208" h="745">
                <a:moveTo>
                  <a:pt x="14709" y="17190"/>
                </a:moveTo>
                <a:cubicBezTo>
                  <a:pt x="14692" y="17327"/>
                  <a:pt x="14650" y="17451"/>
                  <a:pt x="14635" y="17587"/>
                </a:cubicBezTo>
                <a:cubicBezTo>
                  <a:pt x="14783" y="17650"/>
                  <a:pt x="14935" y="17675"/>
                  <a:pt x="15007" y="17487"/>
                </a:cubicBezTo>
                <a:cubicBezTo>
                  <a:pt x="15007" y="17462"/>
                  <a:pt x="15007" y="17438"/>
                  <a:pt x="15007" y="17413"/>
                </a:cubicBezTo>
                <a:cubicBezTo>
                  <a:pt x="14992" y="17420"/>
                  <a:pt x="14715" y="17627"/>
                  <a:pt x="14858" y="17661"/>
                </a:cubicBezTo>
                <a:cubicBezTo>
                  <a:pt x="14883" y="17653"/>
                  <a:pt x="14907" y="17644"/>
                  <a:pt x="14932" y="17636"/>
                </a:cubicBezTo>
              </a:path>
              <a:path w="2208" h="745">
                <a:moveTo>
                  <a:pt x="15478" y="17115"/>
                </a:moveTo>
                <a:cubicBezTo>
                  <a:pt x="15410" y="17098"/>
                  <a:pt x="15165" y="17141"/>
                  <a:pt x="15255" y="17289"/>
                </a:cubicBezTo>
                <a:cubicBezTo>
                  <a:pt x="15326" y="17405"/>
                  <a:pt x="15426" y="17373"/>
                  <a:pt x="15478" y="17487"/>
                </a:cubicBezTo>
                <a:cubicBezTo>
                  <a:pt x="15364" y="17533"/>
                  <a:pt x="15333" y="17552"/>
                  <a:pt x="15255" y="17512"/>
                </a:cubicBezTo>
                <a:cubicBezTo>
                  <a:pt x="15317" y="17348"/>
                  <a:pt x="15416" y="17272"/>
                  <a:pt x="15528" y="17140"/>
                </a:cubicBezTo>
              </a:path>
              <a:path w="2208" h="745">
                <a:moveTo>
                  <a:pt x="16073" y="17041"/>
                </a:moveTo>
                <a:cubicBezTo>
                  <a:pt x="15937" y="17097"/>
                  <a:pt x="15881" y="17090"/>
                  <a:pt x="15825" y="17214"/>
                </a:cubicBezTo>
                <a:cubicBezTo>
                  <a:pt x="15885" y="17263"/>
                  <a:pt x="16140" y="17365"/>
                  <a:pt x="16049" y="17462"/>
                </a:cubicBezTo>
                <a:cubicBezTo>
                  <a:pt x="16024" y="17470"/>
                  <a:pt x="15999" y="17479"/>
                  <a:pt x="15974" y="17487"/>
                </a:cubicBezTo>
                <a:cubicBezTo>
                  <a:pt x="15861" y="17353"/>
                  <a:pt x="15998" y="17279"/>
                  <a:pt x="16073" y="17140"/>
                </a:cubicBezTo>
                <a:cubicBezTo>
                  <a:pt x="16097" y="17096"/>
                  <a:pt x="16057" y="17065"/>
                  <a:pt x="16049" y="17041"/>
                </a:cubicBezTo>
              </a:path>
              <a:path w="2208" h="745">
                <a:moveTo>
                  <a:pt x="16321" y="16966"/>
                </a:moveTo>
                <a:cubicBezTo>
                  <a:pt x="16368" y="16953"/>
                  <a:pt x="16740" y="16843"/>
                  <a:pt x="16570" y="17066"/>
                </a:cubicBezTo>
                <a:cubicBezTo>
                  <a:pt x="16537" y="17091"/>
                  <a:pt x="16503" y="17115"/>
                  <a:pt x="16470" y="17140"/>
                </a:cubicBezTo>
                <a:cubicBezTo>
                  <a:pt x="16484" y="17182"/>
                  <a:pt x="16713" y="17136"/>
                  <a:pt x="16768" y="17165"/>
                </a:cubicBezTo>
                <a:cubicBezTo>
                  <a:pt x="17021" y="17298"/>
                  <a:pt x="16626" y="17450"/>
                  <a:pt x="16520" y="17438"/>
                </a:cubicBezTo>
                <a:cubicBezTo>
                  <a:pt x="16487" y="17421"/>
                  <a:pt x="16454" y="17405"/>
                  <a:pt x="16421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59680" y="6126120"/>
            <a:ext cx="161640" cy="98640"/>
          </a:xfrm>
          <a:custGeom>
            <a:avLst/>
            <a:gdLst/>
            <a:ahLst/>
            <a:rect l="l" t="t" r="r" b="b"/>
            <a:pathLst>
              <a:path w="448" h="274">
                <a:moveTo>
                  <a:pt x="17388" y="17066"/>
                </a:moveTo>
                <a:cubicBezTo>
                  <a:pt x="17508" y="17012"/>
                  <a:pt x="17609" y="17006"/>
                  <a:pt x="17735" y="17041"/>
                </a:cubicBezTo>
              </a:path>
              <a:path w="448" h="274">
                <a:moveTo>
                  <a:pt x="17462" y="17289"/>
                </a:moveTo>
                <a:cubicBezTo>
                  <a:pt x="17586" y="17239"/>
                  <a:pt x="17711" y="17190"/>
                  <a:pt x="17835" y="171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59720" y="6010200"/>
            <a:ext cx="44280" cy="258840"/>
          </a:xfrm>
          <a:custGeom>
            <a:avLst/>
            <a:gdLst/>
            <a:ahLst/>
            <a:rect l="l" t="t" r="r" b="b"/>
            <a:pathLst>
              <a:path w="125" h="720">
                <a:moveTo>
                  <a:pt x="18777" y="16694"/>
                </a:moveTo>
                <a:cubicBezTo>
                  <a:pt x="18902" y="16879"/>
                  <a:pt x="18897" y="17045"/>
                  <a:pt x="18901" y="17264"/>
                </a:cubicBezTo>
                <a:cubicBezTo>
                  <a:pt x="18901" y="17355"/>
                  <a:pt x="18901" y="17363"/>
                  <a:pt x="18901" y="174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29280" y="5991120"/>
            <a:ext cx="44640" cy="268560"/>
          </a:xfrm>
          <a:custGeom>
            <a:avLst/>
            <a:gdLst/>
            <a:ahLst/>
            <a:rect l="l" t="t" r="r" b="b"/>
            <a:pathLst>
              <a:path w="125" h="745">
                <a:moveTo>
                  <a:pt x="19248" y="16644"/>
                </a:moveTo>
                <a:cubicBezTo>
                  <a:pt x="19327" y="16670"/>
                  <a:pt x="19336" y="16871"/>
                  <a:pt x="19348" y="16942"/>
                </a:cubicBezTo>
                <a:cubicBezTo>
                  <a:pt x="19373" y="17094"/>
                  <a:pt x="19348" y="17214"/>
                  <a:pt x="19348" y="17363"/>
                </a:cubicBezTo>
                <a:cubicBezTo>
                  <a:pt x="19348" y="17398"/>
                  <a:pt x="19352" y="17397"/>
                  <a:pt x="19372" y="173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08920" y="5956200"/>
            <a:ext cx="374400" cy="285840"/>
          </a:xfrm>
          <a:custGeom>
            <a:avLst/>
            <a:gdLst/>
            <a:ahLst/>
            <a:rect l="l" t="t" r="r" b="b"/>
            <a:pathLst>
              <a:path w="1042" h="794">
                <a:moveTo>
                  <a:pt x="19794" y="17239"/>
                </a:moveTo>
                <a:cubicBezTo>
                  <a:pt x="19758" y="17251"/>
                  <a:pt x="19754" y="17290"/>
                  <a:pt x="19745" y="17338"/>
                </a:cubicBezTo>
                <a:cubicBezTo>
                  <a:pt x="19791" y="17327"/>
                  <a:pt x="19825" y="17302"/>
                  <a:pt x="19844" y="17264"/>
                </a:cubicBezTo>
                <a:cubicBezTo>
                  <a:pt x="19792" y="17271"/>
                  <a:pt x="19759" y="17271"/>
                  <a:pt x="19745" y="17314"/>
                </a:cubicBezTo>
              </a:path>
              <a:path w="1042" h="794">
                <a:moveTo>
                  <a:pt x="20141" y="16743"/>
                </a:moveTo>
                <a:cubicBezTo>
                  <a:pt x="20141" y="16702"/>
                  <a:pt x="20141" y="16694"/>
                  <a:pt x="20141" y="16669"/>
                </a:cubicBezTo>
                <a:cubicBezTo>
                  <a:pt x="20141" y="16528"/>
                  <a:pt x="20141" y="16900"/>
                  <a:pt x="20141" y="17041"/>
                </a:cubicBezTo>
                <a:cubicBezTo>
                  <a:pt x="20141" y="17148"/>
                  <a:pt x="20141" y="17173"/>
                  <a:pt x="20141" y="17239"/>
                </a:cubicBezTo>
              </a:path>
              <a:path w="1042" h="794">
                <a:moveTo>
                  <a:pt x="20365" y="16644"/>
                </a:moveTo>
                <a:cubicBezTo>
                  <a:pt x="20410" y="16552"/>
                  <a:pt x="20520" y="16585"/>
                  <a:pt x="20613" y="16570"/>
                </a:cubicBezTo>
                <a:cubicBezTo>
                  <a:pt x="20683" y="16559"/>
                  <a:pt x="20719" y="16545"/>
                  <a:pt x="20786" y="16545"/>
                </a:cubicBezTo>
                <a:cubicBezTo>
                  <a:pt x="20768" y="16713"/>
                  <a:pt x="20690" y="16874"/>
                  <a:pt x="20662" y="17041"/>
                </a:cubicBezTo>
                <a:cubicBezTo>
                  <a:pt x="20652" y="17100"/>
                  <a:pt x="20687" y="17173"/>
                  <a:pt x="20638" y="171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43880" y="5902200"/>
            <a:ext cx="303120" cy="304920"/>
          </a:xfrm>
          <a:custGeom>
            <a:avLst/>
            <a:gdLst/>
            <a:ahLst/>
            <a:rect l="l" t="t" r="r" b="b"/>
            <a:pathLst>
              <a:path w="844" h="844">
                <a:moveTo>
                  <a:pt x="21258" y="16545"/>
                </a:moveTo>
                <a:cubicBezTo>
                  <a:pt x="21242" y="16623"/>
                  <a:pt x="21225" y="16667"/>
                  <a:pt x="21258" y="16743"/>
                </a:cubicBezTo>
                <a:cubicBezTo>
                  <a:pt x="21394" y="16718"/>
                  <a:pt x="21400" y="16692"/>
                  <a:pt x="21332" y="16594"/>
                </a:cubicBezTo>
                <a:cubicBezTo>
                  <a:pt x="21308" y="16546"/>
                  <a:pt x="21299" y="16532"/>
                  <a:pt x="21307" y="16495"/>
                </a:cubicBezTo>
                <a:cubicBezTo>
                  <a:pt x="21504" y="16408"/>
                  <a:pt x="21653" y="16334"/>
                  <a:pt x="21704" y="16619"/>
                </a:cubicBezTo>
                <a:cubicBezTo>
                  <a:pt x="21744" y="16842"/>
                  <a:pt x="21602" y="17018"/>
                  <a:pt x="21530" y="17214"/>
                </a:cubicBezTo>
                <a:cubicBezTo>
                  <a:pt x="21503" y="17289"/>
                  <a:pt x="21638" y="17160"/>
                  <a:pt x="21704" y="17115"/>
                </a:cubicBezTo>
              </a:path>
              <a:path w="844" h="844">
                <a:moveTo>
                  <a:pt x="21977" y="16966"/>
                </a:moveTo>
                <a:cubicBezTo>
                  <a:pt x="21966" y="16981"/>
                  <a:pt x="21828" y="17245"/>
                  <a:pt x="22002" y="17140"/>
                </a:cubicBezTo>
                <a:cubicBezTo>
                  <a:pt x="22112" y="17074"/>
                  <a:pt x="22064" y="17026"/>
                  <a:pt x="21977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24000" y="6626160"/>
            <a:ext cx="428760" cy="34920"/>
          </a:xfrm>
          <a:custGeom>
            <a:avLst/>
            <a:gdLst/>
            <a:ahLst/>
            <a:rect l="l" t="t" r="r" b="b"/>
            <a:pathLst>
              <a:path w="1192" h="100">
                <a:moveTo>
                  <a:pt x="4589" y="18504"/>
                </a:moveTo>
                <a:cubicBezTo>
                  <a:pt x="4483" y="18483"/>
                  <a:pt x="4378" y="18419"/>
                  <a:pt x="4266" y="18405"/>
                </a:cubicBezTo>
                <a:cubicBezTo>
                  <a:pt x="4107" y="18386"/>
                  <a:pt x="3924" y="18389"/>
                  <a:pt x="3770" y="18430"/>
                </a:cubicBezTo>
                <a:cubicBezTo>
                  <a:pt x="3686" y="18453"/>
                  <a:pt x="3583" y="18474"/>
                  <a:pt x="3497" y="18479"/>
                </a:cubicBezTo>
                <a:cubicBezTo>
                  <a:pt x="3408" y="18484"/>
                  <a:pt x="3427" y="18525"/>
                  <a:pt x="3398" y="184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 Amount: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mount: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0 meters to 475 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33,300 to $31,0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0920" y="15228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find the percentage of increase or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3680" y="1366920"/>
            <a:ext cx="1285560" cy="384120"/>
          </a:xfrm>
          <a:custGeom>
            <a:avLst/>
            <a:gdLst/>
            <a:ahLst/>
            <a:rect l="l" t="t" r="r" b="b"/>
            <a:pathLst>
              <a:path w="3572" h="1068">
                <a:moveTo>
                  <a:pt x="14461" y="4440"/>
                </a:moveTo>
                <a:cubicBezTo>
                  <a:pt x="14448" y="4492"/>
                  <a:pt x="14413" y="4563"/>
                  <a:pt x="14387" y="4589"/>
                </a:cubicBezTo>
                <a:cubicBezTo>
                  <a:pt x="14460" y="4614"/>
                  <a:pt x="14484" y="4622"/>
                  <a:pt x="14536" y="4614"/>
                </a:cubicBezTo>
                <a:cubicBezTo>
                  <a:pt x="14558" y="4704"/>
                  <a:pt x="14530" y="4924"/>
                  <a:pt x="14362" y="4862"/>
                </a:cubicBezTo>
                <a:cubicBezTo>
                  <a:pt x="14337" y="4837"/>
                  <a:pt x="14313" y="4812"/>
                  <a:pt x="14288" y="4787"/>
                </a:cubicBezTo>
              </a:path>
              <a:path w="3572" h="1068">
                <a:moveTo>
                  <a:pt x="14387" y="4440"/>
                </a:moveTo>
                <a:cubicBezTo>
                  <a:pt x="14525" y="4371"/>
                  <a:pt x="14636" y="4328"/>
                  <a:pt x="14784" y="4291"/>
                </a:cubicBezTo>
              </a:path>
              <a:path w="3572" h="1068">
                <a:moveTo>
                  <a:pt x="14908" y="4291"/>
                </a:moveTo>
                <a:cubicBezTo>
                  <a:pt x="14885" y="4471"/>
                  <a:pt x="14870" y="4588"/>
                  <a:pt x="14908" y="4762"/>
                </a:cubicBezTo>
                <a:cubicBezTo>
                  <a:pt x="15117" y="4763"/>
                  <a:pt x="15194" y="4637"/>
                  <a:pt x="15131" y="4415"/>
                </a:cubicBezTo>
                <a:cubicBezTo>
                  <a:pt x="15083" y="4344"/>
                  <a:pt x="15070" y="4318"/>
                  <a:pt x="15007" y="4366"/>
                </a:cubicBezTo>
              </a:path>
              <a:path w="3572" h="1068">
                <a:moveTo>
                  <a:pt x="15329" y="4465"/>
                </a:moveTo>
                <a:cubicBezTo>
                  <a:pt x="15446" y="4465"/>
                  <a:pt x="15495" y="4462"/>
                  <a:pt x="15577" y="4440"/>
                </a:cubicBezTo>
              </a:path>
              <a:path w="3572" h="1068">
                <a:moveTo>
                  <a:pt x="15652" y="4291"/>
                </a:moveTo>
                <a:cubicBezTo>
                  <a:pt x="15714" y="4236"/>
                  <a:pt x="15734" y="4206"/>
                  <a:pt x="15801" y="4217"/>
                </a:cubicBezTo>
                <a:cubicBezTo>
                  <a:pt x="15814" y="4279"/>
                  <a:pt x="15812" y="4299"/>
                  <a:pt x="15801" y="4366"/>
                </a:cubicBezTo>
                <a:cubicBezTo>
                  <a:pt x="15912" y="4366"/>
                  <a:pt x="16053" y="4331"/>
                  <a:pt x="16049" y="4490"/>
                </a:cubicBezTo>
                <a:cubicBezTo>
                  <a:pt x="16042" y="4746"/>
                  <a:pt x="15801" y="4721"/>
                  <a:pt x="15726" y="4589"/>
                </a:cubicBezTo>
              </a:path>
              <a:path w="3572" h="1068">
                <a:moveTo>
                  <a:pt x="16098" y="4142"/>
                </a:moveTo>
                <a:cubicBezTo>
                  <a:pt x="16115" y="4295"/>
                  <a:pt x="16108" y="4523"/>
                  <a:pt x="16173" y="4663"/>
                </a:cubicBezTo>
                <a:cubicBezTo>
                  <a:pt x="16294" y="4926"/>
                  <a:pt x="16462" y="4517"/>
                  <a:pt x="16495" y="4440"/>
                </a:cubicBezTo>
                <a:cubicBezTo>
                  <a:pt x="16487" y="4432"/>
                  <a:pt x="16478" y="4423"/>
                  <a:pt x="16470" y="4415"/>
                </a:cubicBezTo>
                <a:cubicBezTo>
                  <a:pt x="16371" y="4478"/>
                  <a:pt x="16282" y="4567"/>
                  <a:pt x="16371" y="4638"/>
                </a:cubicBezTo>
              </a:path>
              <a:path w="3572" h="1068">
                <a:moveTo>
                  <a:pt x="16669" y="4242"/>
                </a:moveTo>
                <a:cubicBezTo>
                  <a:pt x="16762" y="4215"/>
                  <a:pt x="16846" y="4199"/>
                  <a:pt x="16942" y="4192"/>
                </a:cubicBezTo>
              </a:path>
              <a:path w="3572" h="1068">
                <a:moveTo>
                  <a:pt x="16718" y="4440"/>
                </a:moveTo>
                <a:cubicBezTo>
                  <a:pt x="16842" y="4407"/>
                  <a:pt x="16950" y="4333"/>
                  <a:pt x="17066" y="4266"/>
                </a:cubicBezTo>
              </a:path>
              <a:path w="3572" h="1068">
                <a:moveTo>
                  <a:pt x="17165" y="4018"/>
                </a:moveTo>
                <a:cubicBezTo>
                  <a:pt x="17165" y="4161"/>
                  <a:pt x="17202" y="4298"/>
                  <a:pt x="17214" y="4440"/>
                </a:cubicBezTo>
                <a:cubicBezTo>
                  <a:pt x="17214" y="4532"/>
                  <a:pt x="17212" y="4572"/>
                  <a:pt x="17239" y="4465"/>
                </a:cubicBezTo>
              </a:path>
              <a:path w="3572" h="1068">
                <a:moveTo>
                  <a:pt x="17438" y="3994"/>
                </a:moveTo>
                <a:cubicBezTo>
                  <a:pt x="17473" y="4047"/>
                  <a:pt x="17496" y="4163"/>
                  <a:pt x="17562" y="4192"/>
                </a:cubicBezTo>
                <a:cubicBezTo>
                  <a:pt x="17724" y="4264"/>
                  <a:pt x="17756" y="4171"/>
                  <a:pt x="17859" y="4068"/>
                </a:cubicBezTo>
              </a:path>
              <a:path w="3572" h="1068">
                <a:moveTo>
                  <a:pt x="17785" y="3795"/>
                </a:moveTo>
                <a:cubicBezTo>
                  <a:pt x="17785" y="4027"/>
                  <a:pt x="17785" y="4258"/>
                  <a:pt x="17785" y="44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1880" y="1554120"/>
            <a:ext cx="1347840" cy="357120"/>
          </a:xfrm>
          <a:custGeom>
            <a:avLst/>
            <a:gdLst/>
            <a:ahLst/>
            <a:rect l="l" t="t" r="r" b="b"/>
            <a:pathLst>
              <a:path w="3747" h="993">
                <a:moveTo>
                  <a:pt x="18802" y="4986"/>
                </a:moveTo>
                <a:cubicBezTo>
                  <a:pt x="18788" y="4848"/>
                  <a:pt x="18776" y="4861"/>
                  <a:pt x="18678" y="4762"/>
                </a:cubicBezTo>
                <a:cubicBezTo>
                  <a:pt x="18350" y="4817"/>
                  <a:pt x="18317" y="4930"/>
                  <a:pt x="18306" y="5259"/>
                </a:cubicBezTo>
                <a:cubicBezTo>
                  <a:pt x="18668" y="5277"/>
                  <a:pt x="18660" y="4969"/>
                  <a:pt x="18579" y="4638"/>
                </a:cubicBezTo>
                <a:cubicBezTo>
                  <a:pt x="18503" y="4449"/>
                  <a:pt x="18489" y="4426"/>
                  <a:pt x="18455" y="4316"/>
                </a:cubicBezTo>
                <a:cubicBezTo>
                  <a:pt x="18620" y="4552"/>
                  <a:pt x="18681" y="4860"/>
                  <a:pt x="18852" y="5085"/>
                </a:cubicBezTo>
                <a:cubicBezTo>
                  <a:pt x="18860" y="5077"/>
                  <a:pt x="18868" y="5068"/>
                  <a:pt x="18876" y="5060"/>
                </a:cubicBezTo>
              </a:path>
              <a:path w="3747" h="993">
                <a:moveTo>
                  <a:pt x="18951" y="4762"/>
                </a:moveTo>
                <a:cubicBezTo>
                  <a:pt x="19073" y="4742"/>
                  <a:pt x="19159" y="4660"/>
                  <a:pt x="19273" y="4614"/>
                </a:cubicBezTo>
                <a:cubicBezTo>
                  <a:pt x="19281" y="4614"/>
                  <a:pt x="19290" y="4614"/>
                  <a:pt x="19298" y="4614"/>
                </a:cubicBezTo>
                <a:cubicBezTo>
                  <a:pt x="19203" y="4614"/>
                  <a:pt x="19077" y="4614"/>
                  <a:pt x="19050" y="4738"/>
                </a:cubicBezTo>
                <a:cubicBezTo>
                  <a:pt x="18988" y="5022"/>
                  <a:pt x="19211" y="5044"/>
                  <a:pt x="19397" y="5011"/>
                </a:cubicBezTo>
              </a:path>
              <a:path w="3747" h="993">
                <a:moveTo>
                  <a:pt x="19819" y="4638"/>
                </a:moveTo>
                <a:cubicBezTo>
                  <a:pt x="19867" y="4688"/>
                  <a:pt x="19824" y="4565"/>
                  <a:pt x="19819" y="4539"/>
                </a:cubicBezTo>
                <a:cubicBezTo>
                  <a:pt x="19670" y="4539"/>
                  <a:pt x="19466" y="4796"/>
                  <a:pt x="19621" y="5011"/>
                </a:cubicBezTo>
                <a:cubicBezTo>
                  <a:pt x="19775" y="5225"/>
                  <a:pt x="19996" y="4886"/>
                  <a:pt x="20067" y="4812"/>
                </a:cubicBezTo>
              </a:path>
              <a:path w="3747" h="993">
                <a:moveTo>
                  <a:pt x="20092" y="4688"/>
                </a:moveTo>
                <a:cubicBezTo>
                  <a:pt x="20126" y="4762"/>
                  <a:pt x="20157" y="4837"/>
                  <a:pt x="20191" y="4911"/>
                </a:cubicBezTo>
                <a:cubicBezTo>
                  <a:pt x="20173" y="4784"/>
                  <a:pt x="20160" y="4724"/>
                  <a:pt x="20241" y="4614"/>
                </a:cubicBezTo>
                <a:cubicBezTo>
                  <a:pt x="20303" y="4530"/>
                  <a:pt x="20355" y="4568"/>
                  <a:pt x="20439" y="4589"/>
                </a:cubicBezTo>
              </a:path>
              <a:path w="3747" h="993">
                <a:moveTo>
                  <a:pt x="20538" y="4738"/>
                </a:moveTo>
                <a:cubicBezTo>
                  <a:pt x="20604" y="4712"/>
                  <a:pt x="20695" y="4630"/>
                  <a:pt x="20737" y="4564"/>
                </a:cubicBezTo>
                <a:cubicBezTo>
                  <a:pt x="20737" y="4556"/>
                  <a:pt x="20737" y="4547"/>
                  <a:pt x="20737" y="4539"/>
                </a:cubicBezTo>
                <a:cubicBezTo>
                  <a:pt x="20586" y="4526"/>
                  <a:pt x="20509" y="4610"/>
                  <a:pt x="20538" y="4787"/>
                </a:cubicBezTo>
                <a:cubicBezTo>
                  <a:pt x="20582" y="4919"/>
                  <a:pt x="20581" y="4964"/>
                  <a:pt x="20687" y="4961"/>
                </a:cubicBezTo>
              </a:path>
              <a:path w="3747" h="993">
                <a:moveTo>
                  <a:pt x="21059" y="4514"/>
                </a:moveTo>
                <a:cubicBezTo>
                  <a:pt x="20940" y="4594"/>
                  <a:pt x="20873" y="4761"/>
                  <a:pt x="20935" y="4911"/>
                </a:cubicBezTo>
                <a:cubicBezTo>
                  <a:pt x="20952" y="4919"/>
                  <a:pt x="20968" y="4928"/>
                  <a:pt x="20985" y="4936"/>
                </a:cubicBezTo>
                <a:cubicBezTo>
                  <a:pt x="21072" y="4849"/>
                  <a:pt x="21109" y="4725"/>
                  <a:pt x="21109" y="4688"/>
                </a:cubicBezTo>
                <a:cubicBezTo>
                  <a:pt x="21164" y="4835"/>
                  <a:pt x="21168" y="4847"/>
                  <a:pt x="21307" y="4911"/>
                </a:cubicBezTo>
              </a:path>
              <a:path w="3747" h="993">
                <a:moveTo>
                  <a:pt x="21431" y="4564"/>
                </a:moveTo>
                <a:cubicBezTo>
                  <a:pt x="21384" y="4588"/>
                  <a:pt x="21367" y="4594"/>
                  <a:pt x="21382" y="4638"/>
                </a:cubicBezTo>
                <a:cubicBezTo>
                  <a:pt x="21462" y="4690"/>
                  <a:pt x="21708" y="4712"/>
                  <a:pt x="21605" y="4862"/>
                </a:cubicBezTo>
                <a:cubicBezTo>
                  <a:pt x="21481" y="5043"/>
                  <a:pt x="21437" y="4946"/>
                  <a:pt x="21406" y="4837"/>
                </a:cubicBezTo>
              </a:path>
              <a:path w="3747" h="993">
                <a:moveTo>
                  <a:pt x="21704" y="4614"/>
                </a:moveTo>
                <a:cubicBezTo>
                  <a:pt x="21772" y="4576"/>
                  <a:pt x="21838" y="4515"/>
                  <a:pt x="21903" y="4490"/>
                </a:cubicBezTo>
                <a:cubicBezTo>
                  <a:pt x="21794" y="4454"/>
                  <a:pt x="21606" y="4486"/>
                  <a:pt x="21654" y="4663"/>
                </a:cubicBezTo>
                <a:cubicBezTo>
                  <a:pt x="21709" y="4866"/>
                  <a:pt x="21867" y="4847"/>
                  <a:pt x="22027" y="48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64080" y="2276640"/>
            <a:ext cx="590760" cy="572760"/>
          </a:xfrm>
          <a:custGeom>
            <a:avLst/>
            <a:gdLst/>
            <a:ahLst/>
            <a:rect l="l" t="t" r="r" b="b"/>
            <a:pathLst>
              <a:path w="1639" h="1589">
                <a:moveTo>
                  <a:pt x="15404" y="6524"/>
                </a:moveTo>
                <a:cubicBezTo>
                  <a:pt x="15379" y="6524"/>
                  <a:pt x="15371" y="6524"/>
                  <a:pt x="15379" y="6499"/>
                </a:cubicBezTo>
                <a:cubicBezTo>
                  <a:pt x="15397" y="6641"/>
                  <a:pt x="15423" y="6778"/>
                  <a:pt x="15429" y="6921"/>
                </a:cubicBezTo>
                <a:cubicBezTo>
                  <a:pt x="15431" y="6971"/>
                  <a:pt x="15408" y="7018"/>
                  <a:pt x="15453" y="6896"/>
                </a:cubicBezTo>
              </a:path>
              <a:path w="1639" h="1589">
                <a:moveTo>
                  <a:pt x="15627" y="6548"/>
                </a:moveTo>
                <a:cubicBezTo>
                  <a:pt x="15627" y="6658"/>
                  <a:pt x="15671" y="6701"/>
                  <a:pt x="15801" y="6697"/>
                </a:cubicBezTo>
                <a:cubicBezTo>
                  <a:pt x="15902" y="6694"/>
                  <a:pt x="15928" y="6685"/>
                  <a:pt x="15949" y="6623"/>
                </a:cubicBezTo>
              </a:path>
              <a:path w="1639" h="1589">
                <a:moveTo>
                  <a:pt x="15925" y="6325"/>
                </a:moveTo>
                <a:cubicBezTo>
                  <a:pt x="15937" y="6511"/>
                  <a:pt x="15957" y="6716"/>
                  <a:pt x="15999" y="6896"/>
                </a:cubicBezTo>
                <a:cubicBezTo>
                  <a:pt x="16019" y="6936"/>
                  <a:pt x="16038" y="6952"/>
                  <a:pt x="15999" y="6945"/>
                </a:cubicBezTo>
              </a:path>
              <a:path w="1639" h="1589">
                <a:moveTo>
                  <a:pt x="15180" y="7144"/>
                </a:moveTo>
                <a:cubicBezTo>
                  <a:pt x="15498" y="7098"/>
                  <a:pt x="15801" y="7069"/>
                  <a:pt x="16123" y="7069"/>
                </a:cubicBezTo>
                <a:cubicBezTo>
                  <a:pt x="16182" y="7069"/>
                  <a:pt x="16162" y="7055"/>
                  <a:pt x="16173" y="7119"/>
                </a:cubicBezTo>
              </a:path>
              <a:path w="1639" h="1589">
                <a:moveTo>
                  <a:pt x="15602" y="7317"/>
                </a:moveTo>
                <a:cubicBezTo>
                  <a:pt x="15520" y="7317"/>
                  <a:pt x="15439" y="7286"/>
                  <a:pt x="15404" y="7367"/>
                </a:cubicBezTo>
                <a:cubicBezTo>
                  <a:pt x="15374" y="7436"/>
                  <a:pt x="15379" y="7493"/>
                  <a:pt x="15379" y="7565"/>
                </a:cubicBezTo>
                <a:cubicBezTo>
                  <a:pt x="15459" y="7565"/>
                  <a:pt x="15525" y="7519"/>
                  <a:pt x="15602" y="7565"/>
                </a:cubicBezTo>
                <a:cubicBezTo>
                  <a:pt x="15827" y="7702"/>
                  <a:pt x="15523" y="7843"/>
                  <a:pt x="15404" y="7863"/>
                </a:cubicBezTo>
                <a:cubicBezTo>
                  <a:pt x="15326" y="7863"/>
                  <a:pt x="15308" y="7879"/>
                  <a:pt x="15280" y="7838"/>
                </a:cubicBezTo>
              </a:path>
              <a:path w="1639" h="1589">
                <a:moveTo>
                  <a:pt x="16049" y="7417"/>
                </a:moveTo>
                <a:cubicBezTo>
                  <a:pt x="15936" y="7546"/>
                  <a:pt x="15853" y="7660"/>
                  <a:pt x="15900" y="7838"/>
                </a:cubicBezTo>
                <a:cubicBezTo>
                  <a:pt x="15916" y="7863"/>
                  <a:pt x="15933" y="7888"/>
                  <a:pt x="15949" y="7913"/>
                </a:cubicBezTo>
                <a:cubicBezTo>
                  <a:pt x="16171" y="7879"/>
                  <a:pt x="16367" y="7762"/>
                  <a:pt x="16222" y="7491"/>
                </a:cubicBezTo>
                <a:cubicBezTo>
                  <a:pt x="16150" y="7357"/>
                  <a:pt x="15965" y="7435"/>
                  <a:pt x="15850" y="7441"/>
                </a:cubicBezTo>
              </a:path>
              <a:path w="1639" h="1589">
                <a:moveTo>
                  <a:pt x="16545" y="7069"/>
                </a:moveTo>
                <a:cubicBezTo>
                  <a:pt x="16619" y="7069"/>
                  <a:pt x="16694" y="7069"/>
                  <a:pt x="16768" y="7069"/>
                </a:cubicBezTo>
              </a:path>
              <a:path w="1639" h="1589">
                <a:moveTo>
                  <a:pt x="16594" y="7193"/>
                </a:moveTo>
                <a:cubicBezTo>
                  <a:pt x="16669" y="7193"/>
                  <a:pt x="16743" y="7193"/>
                  <a:pt x="16818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92880" y="2347920"/>
            <a:ext cx="509400" cy="268200"/>
          </a:xfrm>
          <a:custGeom>
            <a:avLst/>
            <a:gdLst/>
            <a:ahLst/>
            <a:rect l="l" t="t" r="r" b="b"/>
            <a:pathLst>
              <a:path w="1415" h="745">
                <a:moveTo>
                  <a:pt x="17760" y="7243"/>
                </a:moveTo>
                <a:cubicBezTo>
                  <a:pt x="17760" y="7218"/>
                  <a:pt x="17760" y="7210"/>
                  <a:pt x="17785" y="7218"/>
                </a:cubicBezTo>
              </a:path>
              <a:path w="1415" h="745">
                <a:moveTo>
                  <a:pt x="18256" y="6697"/>
                </a:moveTo>
                <a:cubicBezTo>
                  <a:pt x="18159" y="6761"/>
                  <a:pt x="18376" y="6600"/>
                  <a:pt x="18380" y="6598"/>
                </a:cubicBezTo>
                <a:cubicBezTo>
                  <a:pt x="18560" y="6767"/>
                  <a:pt x="18636" y="7004"/>
                  <a:pt x="18380" y="7193"/>
                </a:cubicBezTo>
                <a:cubicBezTo>
                  <a:pt x="18268" y="7216"/>
                  <a:pt x="18234" y="7234"/>
                  <a:pt x="18207" y="7144"/>
                </a:cubicBezTo>
                <a:cubicBezTo>
                  <a:pt x="18317" y="7033"/>
                  <a:pt x="18450" y="6999"/>
                  <a:pt x="18579" y="7144"/>
                </a:cubicBezTo>
                <a:cubicBezTo>
                  <a:pt x="18601" y="7209"/>
                  <a:pt x="18609" y="7224"/>
                  <a:pt x="18604" y="7268"/>
                </a:cubicBezTo>
              </a:path>
              <a:path w="1415" h="745">
                <a:moveTo>
                  <a:pt x="19050" y="6524"/>
                </a:moveTo>
                <a:cubicBezTo>
                  <a:pt x="18925" y="6614"/>
                  <a:pt x="18750" y="6702"/>
                  <a:pt x="18926" y="6846"/>
                </a:cubicBezTo>
                <a:cubicBezTo>
                  <a:pt x="19069" y="6963"/>
                  <a:pt x="19278" y="7026"/>
                  <a:pt x="19075" y="7169"/>
                </a:cubicBezTo>
                <a:cubicBezTo>
                  <a:pt x="18924" y="7003"/>
                  <a:pt x="19049" y="6885"/>
                  <a:pt x="19100" y="6648"/>
                </a:cubicBezTo>
                <a:cubicBezTo>
                  <a:pt x="19100" y="6605"/>
                  <a:pt x="19083" y="6602"/>
                  <a:pt x="19025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08920" y="2482920"/>
            <a:ext cx="177840" cy="81000"/>
          </a:xfrm>
          <a:custGeom>
            <a:avLst/>
            <a:gdLst/>
            <a:ahLst/>
            <a:rect l="l" t="t" r="r" b="b"/>
            <a:pathLst>
              <a:path w="497" h="224">
                <a:moveTo>
                  <a:pt x="19745" y="6921"/>
                </a:moveTo>
                <a:cubicBezTo>
                  <a:pt x="19860" y="6901"/>
                  <a:pt x="19928" y="6896"/>
                  <a:pt x="20042" y="6921"/>
                </a:cubicBezTo>
              </a:path>
              <a:path w="497" h="224">
                <a:moveTo>
                  <a:pt x="19918" y="7119"/>
                </a:moveTo>
                <a:cubicBezTo>
                  <a:pt x="20073" y="7088"/>
                  <a:pt x="20143" y="7065"/>
                  <a:pt x="20241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46960" y="2330280"/>
            <a:ext cx="1357200" cy="312840"/>
          </a:xfrm>
          <a:custGeom>
            <a:avLst/>
            <a:gdLst/>
            <a:ahLst/>
            <a:rect l="l" t="t" r="r" b="b"/>
            <a:pathLst>
              <a:path w="3771" h="869">
                <a:moveTo>
                  <a:pt x="20712" y="6648"/>
                </a:moveTo>
                <a:cubicBezTo>
                  <a:pt x="20884" y="6702"/>
                  <a:pt x="21245" y="6833"/>
                  <a:pt x="21034" y="7094"/>
                </a:cubicBezTo>
                <a:cubicBezTo>
                  <a:pt x="20903" y="7255"/>
                  <a:pt x="20776" y="7207"/>
                  <a:pt x="20687" y="7119"/>
                </a:cubicBezTo>
                <a:cubicBezTo>
                  <a:pt x="20795" y="7074"/>
                  <a:pt x="21063" y="6978"/>
                  <a:pt x="21109" y="7193"/>
                </a:cubicBezTo>
                <a:cubicBezTo>
                  <a:pt x="21101" y="7201"/>
                  <a:pt x="21092" y="7210"/>
                  <a:pt x="21084" y="7218"/>
                </a:cubicBezTo>
              </a:path>
              <a:path w="3771" h="869">
                <a:moveTo>
                  <a:pt x="21704" y="6573"/>
                </a:moveTo>
                <a:cubicBezTo>
                  <a:pt x="21557" y="6615"/>
                  <a:pt x="21475" y="6652"/>
                  <a:pt x="21357" y="6747"/>
                </a:cubicBezTo>
                <a:cubicBezTo>
                  <a:pt x="21452" y="6842"/>
                  <a:pt x="21755" y="6946"/>
                  <a:pt x="21779" y="7094"/>
                </a:cubicBezTo>
                <a:cubicBezTo>
                  <a:pt x="21762" y="7119"/>
                  <a:pt x="21746" y="7144"/>
                  <a:pt x="21729" y="7169"/>
                </a:cubicBezTo>
                <a:cubicBezTo>
                  <a:pt x="21480" y="7113"/>
                  <a:pt x="21512" y="7013"/>
                  <a:pt x="21580" y="6772"/>
                </a:cubicBezTo>
                <a:cubicBezTo>
                  <a:pt x="21600" y="6711"/>
                  <a:pt x="21598" y="6696"/>
                  <a:pt x="21630" y="6672"/>
                </a:cubicBezTo>
              </a:path>
              <a:path w="3771" h="869">
                <a:moveTo>
                  <a:pt x="22101" y="6499"/>
                </a:moveTo>
                <a:cubicBezTo>
                  <a:pt x="21983" y="6542"/>
                  <a:pt x="21994" y="6563"/>
                  <a:pt x="21952" y="6697"/>
                </a:cubicBezTo>
                <a:cubicBezTo>
                  <a:pt x="22055" y="6759"/>
                  <a:pt x="22057" y="6638"/>
                  <a:pt x="22101" y="6548"/>
                </a:cubicBezTo>
                <a:cubicBezTo>
                  <a:pt x="22225" y="6291"/>
                  <a:pt x="22421" y="6671"/>
                  <a:pt x="22423" y="6796"/>
                </a:cubicBezTo>
                <a:cubicBezTo>
                  <a:pt x="22425" y="6961"/>
                  <a:pt x="22200" y="7305"/>
                  <a:pt x="22200" y="7317"/>
                </a:cubicBezTo>
              </a:path>
              <a:path w="3771" h="869">
                <a:moveTo>
                  <a:pt x="22572" y="7069"/>
                </a:moveTo>
                <a:cubicBezTo>
                  <a:pt x="22556" y="7094"/>
                  <a:pt x="22539" y="7119"/>
                  <a:pt x="22523" y="7144"/>
                </a:cubicBezTo>
                <a:cubicBezTo>
                  <a:pt x="22564" y="7152"/>
                  <a:pt x="22891" y="7133"/>
                  <a:pt x="22746" y="7020"/>
                </a:cubicBezTo>
                <a:cubicBezTo>
                  <a:pt x="22671" y="7020"/>
                  <a:pt x="22647" y="7020"/>
                  <a:pt x="22597" y="7020"/>
                </a:cubicBezTo>
              </a:path>
              <a:path w="3771" h="869">
                <a:moveTo>
                  <a:pt x="23490" y="6970"/>
                </a:moveTo>
                <a:cubicBezTo>
                  <a:pt x="23466" y="6899"/>
                  <a:pt x="23317" y="6876"/>
                  <a:pt x="23242" y="6921"/>
                </a:cubicBezTo>
                <a:cubicBezTo>
                  <a:pt x="23124" y="7039"/>
                  <a:pt x="23083" y="7071"/>
                  <a:pt x="23118" y="7193"/>
                </a:cubicBezTo>
                <a:cubicBezTo>
                  <a:pt x="23414" y="7273"/>
                  <a:pt x="23443" y="7075"/>
                  <a:pt x="23440" y="6796"/>
                </a:cubicBezTo>
                <a:cubicBezTo>
                  <a:pt x="23421" y="6662"/>
                  <a:pt x="23431" y="6640"/>
                  <a:pt x="23391" y="6573"/>
                </a:cubicBezTo>
                <a:cubicBezTo>
                  <a:pt x="23418" y="6782"/>
                  <a:pt x="23485" y="6950"/>
                  <a:pt x="23564" y="7144"/>
                </a:cubicBezTo>
              </a:path>
              <a:path w="3771" h="869">
                <a:moveTo>
                  <a:pt x="23713" y="7020"/>
                </a:moveTo>
                <a:cubicBezTo>
                  <a:pt x="23814" y="6972"/>
                  <a:pt x="23887" y="6981"/>
                  <a:pt x="23887" y="6871"/>
                </a:cubicBezTo>
                <a:cubicBezTo>
                  <a:pt x="23772" y="6852"/>
                  <a:pt x="23575" y="6914"/>
                  <a:pt x="23664" y="7094"/>
                </a:cubicBezTo>
                <a:cubicBezTo>
                  <a:pt x="23770" y="7174"/>
                  <a:pt x="23811" y="7199"/>
                  <a:pt x="23912" y="7169"/>
                </a:cubicBezTo>
              </a:path>
              <a:path w="3771" h="869">
                <a:moveTo>
                  <a:pt x="24160" y="6821"/>
                </a:moveTo>
                <a:cubicBezTo>
                  <a:pt x="24160" y="6838"/>
                  <a:pt x="24160" y="6854"/>
                  <a:pt x="24160" y="6871"/>
                </a:cubicBezTo>
                <a:cubicBezTo>
                  <a:pt x="24139" y="6864"/>
                  <a:pt x="24099" y="6776"/>
                  <a:pt x="24061" y="6846"/>
                </a:cubicBezTo>
                <a:cubicBezTo>
                  <a:pt x="23980" y="6995"/>
                  <a:pt x="24075" y="7082"/>
                  <a:pt x="24209" y="7094"/>
                </a:cubicBezTo>
                <a:cubicBezTo>
                  <a:pt x="24226" y="7094"/>
                  <a:pt x="24242" y="7094"/>
                  <a:pt x="24259" y="7094"/>
                </a:cubicBezTo>
              </a:path>
              <a:path w="3771" h="869">
                <a:moveTo>
                  <a:pt x="24433" y="7069"/>
                </a:moveTo>
                <a:cubicBezTo>
                  <a:pt x="24441" y="7069"/>
                  <a:pt x="24449" y="7069"/>
                  <a:pt x="24457" y="7069"/>
                </a:cubicBezTo>
              </a:path>
              <a:path w="3771" h="869">
                <a:moveTo>
                  <a:pt x="23341" y="7342"/>
                </a:moveTo>
                <a:cubicBezTo>
                  <a:pt x="23356" y="7298"/>
                  <a:pt x="23524" y="7298"/>
                  <a:pt x="23564" y="7293"/>
                </a:cubicBezTo>
                <a:cubicBezTo>
                  <a:pt x="23740" y="7270"/>
                  <a:pt x="23890" y="7264"/>
                  <a:pt x="24061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49920" y="3384720"/>
            <a:ext cx="411120" cy="258480"/>
          </a:xfrm>
          <a:custGeom>
            <a:avLst/>
            <a:gdLst/>
            <a:ahLst/>
            <a:rect l="l" t="t" r="r" b="b"/>
            <a:pathLst>
              <a:path w="1142" h="720">
                <a:moveTo>
                  <a:pt x="15999" y="9401"/>
                </a:moveTo>
                <a:cubicBezTo>
                  <a:pt x="15942" y="9420"/>
                  <a:pt x="16023" y="9844"/>
                  <a:pt x="16024" y="9872"/>
                </a:cubicBezTo>
                <a:cubicBezTo>
                  <a:pt x="16027" y="9933"/>
                  <a:pt x="16081" y="10208"/>
                  <a:pt x="15999" y="10046"/>
                </a:cubicBezTo>
              </a:path>
              <a:path w="1142" h="720">
                <a:moveTo>
                  <a:pt x="16346" y="9451"/>
                </a:moveTo>
                <a:cubicBezTo>
                  <a:pt x="16571" y="9464"/>
                  <a:pt x="16694" y="9623"/>
                  <a:pt x="16570" y="9872"/>
                </a:cubicBezTo>
                <a:cubicBezTo>
                  <a:pt x="16485" y="10043"/>
                  <a:pt x="16400" y="10068"/>
                  <a:pt x="16272" y="10021"/>
                </a:cubicBezTo>
                <a:cubicBezTo>
                  <a:pt x="16307" y="9891"/>
                  <a:pt x="16425" y="9726"/>
                  <a:pt x="16545" y="9947"/>
                </a:cubicBezTo>
                <a:cubicBezTo>
                  <a:pt x="16577" y="10006"/>
                  <a:pt x="16570" y="10162"/>
                  <a:pt x="16570" y="10096"/>
                </a:cubicBezTo>
              </a:path>
              <a:path w="1142" h="720">
                <a:moveTo>
                  <a:pt x="16966" y="9426"/>
                </a:moveTo>
                <a:cubicBezTo>
                  <a:pt x="16834" y="9470"/>
                  <a:pt x="16806" y="9442"/>
                  <a:pt x="16768" y="9575"/>
                </a:cubicBezTo>
                <a:cubicBezTo>
                  <a:pt x="16749" y="9649"/>
                  <a:pt x="16741" y="9656"/>
                  <a:pt x="16743" y="9699"/>
                </a:cubicBezTo>
                <a:cubicBezTo>
                  <a:pt x="16889" y="9662"/>
                  <a:pt x="17059" y="9597"/>
                  <a:pt x="17115" y="9798"/>
                </a:cubicBezTo>
                <a:cubicBezTo>
                  <a:pt x="17171" y="9996"/>
                  <a:pt x="16981" y="10047"/>
                  <a:pt x="16842" y="10021"/>
                </a:cubicBezTo>
                <a:cubicBezTo>
                  <a:pt x="16817" y="10013"/>
                  <a:pt x="16793" y="10004"/>
                  <a:pt x="16768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04080" y="3313080"/>
            <a:ext cx="1117800" cy="268200"/>
          </a:xfrm>
          <a:custGeom>
            <a:avLst/>
            <a:gdLst/>
            <a:ahLst/>
            <a:rect l="l" t="t" r="r" b="b"/>
            <a:pathLst>
              <a:path w="3102" h="745">
                <a:moveTo>
                  <a:pt x="21729" y="9475"/>
                </a:moveTo>
                <a:cubicBezTo>
                  <a:pt x="21742" y="9600"/>
                  <a:pt x="21754" y="9719"/>
                  <a:pt x="21754" y="9847"/>
                </a:cubicBezTo>
              </a:path>
              <a:path w="3102" h="745">
                <a:moveTo>
                  <a:pt x="21679" y="9252"/>
                </a:moveTo>
                <a:lnTo>
                  <a:pt x="21679" y="9252"/>
                </a:lnTo>
                <a:lnTo>
                  <a:pt x="21679" y="9252"/>
                </a:lnTo>
              </a:path>
              <a:path w="3102" h="745">
                <a:moveTo>
                  <a:pt x="21679" y="9252"/>
                </a:moveTo>
                <a:lnTo>
                  <a:pt x="21679" y="9252"/>
                </a:lnTo>
              </a:path>
              <a:path w="3102" h="745">
                <a:moveTo>
                  <a:pt x="22076" y="9699"/>
                </a:moveTo>
                <a:cubicBezTo>
                  <a:pt x="22076" y="9724"/>
                  <a:pt x="22076" y="9748"/>
                  <a:pt x="22076" y="9773"/>
                </a:cubicBezTo>
                <a:cubicBezTo>
                  <a:pt x="22076" y="9674"/>
                  <a:pt x="22081" y="9514"/>
                  <a:pt x="22175" y="9451"/>
                </a:cubicBezTo>
                <a:cubicBezTo>
                  <a:pt x="22333" y="9346"/>
                  <a:pt x="22430" y="9640"/>
                  <a:pt x="22448" y="9723"/>
                </a:cubicBezTo>
              </a:path>
              <a:path w="3102" h="745">
                <a:moveTo>
                  <a:pt x="22721" y="9451"/>
                </a:moveTo>
                <a:cubicBezTo>
                  <a:pt x="22721" y="9384"/>
                  <a:pt x="22717" y="9350"/>
                  <a:pt x="22696" y="9302"/>
                </a:cubicBezTo>
                <a:cubicBezTo>
                  <a:pt x="22592" y="9360"/>
                  <a:pt x="22434" y="9652"/>
                  <a:pt x="22597" y="9773"/>
                </a:cubicBezTo>
                <a:cubicBezTo>
                  <a:pt x="22778" y="9907"/>
                  <a:pt x="22935" y="9561"/>
                  <a:pt x="22994" y="9475"/>
                </a:cubicBezTo>
              </a:path>
              <a:path w="3102" h="745">
                <a:moveTo>
                  <a:pt x="22994" y="9475"/>
                </a:moveTo>
                <a:cubicBezTo>
                  <a:pt x="23033" y="9570"/>
                  <a:pt x="23081" y="9661"/>
                  <a:pt x="23118" y="9748"/>
                </a:cubicBezTo>
                <a:cubicBezTo>
                  <a:pt x="23101" y="9594"/>
                  <a:pt x="23056" y="9463"/>
                  <a:pt x="23192" y="9351"/>
                </a:cubicBezTo>
                <a:cubicBezTo>
                  <a:pt x="23225" y="9335"/>
                  <a:pt x="23259" y="9318"/>
                  <a:pt x="23292" y="9302"/>
                </a:cubicBezTo>
              </a:path>
              <a:path w="3102" h="745">
                <a:moveTo>
                  <a:pt x="23515" y="9451"/>
                </a:moveTo>
                <a:cubicBezTo>
                  <a:pt x="23611" y="9386"/>
                  <a:pt x="23640" y="9389"/>
                  <a:pt x="23688" y="9277"/>
                </a:cubicBezTo>
                <a:cubicBezTo>
                  <a:pt x="23498" y="9437"/>
                  <a:pt x="23361" y="9547"/>
                  <a:pt x="23614" y="9674"/>
                </a:cubicBezTo>
              </a:path>
              <a:path w="3102" h="745">
                <a:moveTo>
                  <a:pt x="24036" y="9327"/>
                </a:moveTo>
                <a:cubicBezTo>
                  <a:pt x="23885" y="9447"/>
                  <a:pt x="23810" y="9540"/>
                  <a:pt x="23887" y="9723"/>
                </a:cubicBezTo>
                <a:cubicBezTo>
                  <a:pt x="23992" y="9645"/>
                  <a:pt x="24016" y="9584"/>
                  <a:pt x="24061" y="9451"/>
                </a:cubicBezTo>
                <a:cubicBezTo>
                  <a:pt x="24132" y="9631"/>
                  <a:pt x="24099" y="9605"/>
                  <a:pt x="24284" y="9575"/>
                </a:cubicBezTo>
              </a:path>
              <a:path w="3102" h="745">
                <a:moveTo>
                  <a:pt x="24259" y="9302"/>
                </a:moveTo>
                <a:cubicBezTo>
                  <a:pt x="24199" y="9322"/>
                  <a:pt x="24185" y="9321"/>
                  <a:pt x="24160" y="9351"/>
                </a:cubicBezTo>
                <a:cubicBezTo>
                  <a:pt x="24248" y="9427"/>
                  <a:pt x="24335" y="9487"/>
                  <a:pt x="24433" y="9550"/>
                </a:cubicBezTo>
                <a:cubicBezTo>
                  <a:pt x="24310" y="9684"/>
                  <a:pt x="24265" y="9704"/>
                  <a:pt x="24135" y="9575"/>
                </a:cubicBezTo>
              </a:path>
              <a:path w="3102" h="745">
                <a:moveTo>
                  <a:pt x="24631" y="9351"/>
                </a:moveTo>
                <a:cubicBezTo>
                  <a:pt x="24719" y="9283"/>
                  <a:pt x="24692" y="9315"/>
                  <a:pt x="24730" y="9227"/>
                </a:cubicBezTo>
                <a:cubicBezTo>
                  <a:pt x="24625" y="9213"/>
                  <a:pt x="24478" y="9330"/>
                  <a:pt x="24532" y="9475"/>
                </a:cubicBezTo>
                <a:cubicBezTo>
                  <a:pt x="24576" y="9593"/>
                  <a:pt x="24696" y="9565"/>
                  <a:pt x="24780" y="9550"/>
                </a:cubicBezTo>
              </a:path>
              <a:path w="3102" h="745">
                <a:moveTo>
                  <a:pt x="22200" y="9947"/>
                </a:moveTo>
                <a:cubicBezTo>
                  <a:pt x="22291" y="9947"/>
                  <a:pt x="22332" y="9955"/>
                  <a:pt x="22423" y="9947"/>
                </a:cubicBezTo>
                <a:cubicBezTo>
                  <a:pt x="22735" y="9921"/>
                  <a:pt x="23050" y="9947"/>
                  <a:pt x="23366" y="9947"/>
                </a:cubicBezTo>
                <a:cubicBezTo>
                  <a:pt x="23705" y="9947"/>
                  <a:pt x="24044" y="9947"/>
                  <a:pt x="24383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05640" y="3705120"/>
            <a:ext cx="696600" cy="385920"/>
          </a:xfrm>
          <a:custGeom>
            <a:avLst/>
            <a:gdLst/>
            <a:ahLst/>
            <a:rect l="l" t="t" r="r" b="b"/>
            <a:pathLst>
              <a:path w="1936" h="1068">
                <a:moveTo>
                  <a:pt x="16024" y="10418"/>
                </a:moveTo>
                <a:cubicBezTo>
                  <a:pt x="15909" y="10476"/>
                  <a:pt x="16217" y="10467"/>
                  <a:pt x="16346" y="10468"/>
                </a:cubicBezTo>
                <a:cubicBezTo>
                  <a:pt x="16646" y="10471"/>
                  <a:pt x="16941" y="10456"/>
                  <a:pt x="17239" y="10443"/>
                </a:cubicBezTo>
                <a:cubicBezTo>
                  <a:pt x="17247" y="10443"/>
                  <a:pt x="17256" y="10443"/>
                  <a:pt x="17264" y="10443"/>
                </a:cubicBezTo>
              </a:path>
              <a:path w="1936" h="1068">
                <a:moveTo>
                  <a:pt x="16073" y="10790"/>
                </a:moveTo>
                <a:cubicBezTo>
                  <a:pt x="16024" y="10790"/>
                  <a:pt x="16124" y="10790"/>
                  <a:pt x="16173" y="10790"/>
                </a:cubicBezTo>
                <a:cubicBezTo>
                  <a:pt x="16181" y="10897"/>
                  <a:pt x="16164" y="11028"/>
                  <a:pt x="16024" y="11063"/>
                </a:cubicBezTo>
                <a:cubicBezTo>
                  <a:pt x="16032" y="11055"/>
                  <a:pt x="16041" y="11046"/>
                  <a:pt x="16049" y="11038"/>
                </a:cubicBezTo>
                <a:cubicBezTo>
                  <a:pt x="16218" y="11038"/>
                  <a:pt x="16251" y="11151"/>
                  <a:pt x="16098" y="11286"/>
                </a:cubicBezTo>
                <a:cubicBezTo>
                  <a:pt x="15914" y="11449"/>
                  <a:pt x="15866" y="11316"/>
                  <a:pt x="15875" y="11162"/>
                </a:cubicBezTo>
              </a:path>
              <a:path w="1936" h="1068">
                <a:moveTo>
                  <a:pt x="16594" y="10790"/>
                </a:moveTo>
                <a:cubicBezTo>
                  <a:pt x="16543" y="10790"/>
                  <a:pt x="16411" y="10820"/>
                  <a:pt x="16396" y="10864"/>
                </a:cubicBezTo>
                <a:cubicBezTo>
                  <a:pt x="16416" y="10905"/>
                  <a:pt x="16425" y="10911"/>
                  <a:pt x="16421" y="10939"/>
                </a:cubicBezTo>
                <a:cubicBezTo>
                  <a:pt x="16459" y="10977"/>
                  <a:pt x="16574" y="10972"/>
                  <a:pt x="16644" y="11013"/>
                </a:cubicBezTo>
                <a:cubicBezTo>
                  <a:pt x="16635" y="11129"/>
                  <a:pt x="16526" y="11317"/>
                  <a:pt x="16346" y="11261"/>
                </a:cubicBezTo>
                <a:cubicBezTo>
                  <a:pt x="16305" y="11181"/>
                  <a:pt x="16319" y="11138"/>
                  <a:pt x="16421" y="11088"/>
                </a:cubicBezTo>
              </a:path>
              <a:path w="1936" h="1068">
                <a:moveTo>
                  <a:pt x="16917" y="10815"/>
                </a:moveTo>
                <a:cubicBezTo>
                  <a:pt x="16862" y="10972"/>
                  <a:pt x="16807" y="11071"/>
                  <a:pt x="16892" y="11212"/>
                </a:cubicBezTo>
                <a:cubicBezTo>
                  <a:pt x="17039" y="11153"/>
                  <a:pt x="17188" y="11042"/>
                  <a:pt x="17016" y="10889"/>
                </a:cubicBezTo>
                <a:cubicBezTo>
                  <a:pt x="16920" y="10842"/>
                  <a:pt x="16891" y="10825"/>
                  <a:pt x="16818" y="10840"/>
                </a:cubicBezTo>
              </a:path>
              <a:path w="1936" h="1068">
                <a:moveTo>
                  <a:pt x="17562" y="10344"/>
                </a:moveTo>
                <a:cubicBezTo>
                  <a:pt x="17599" y="10316"/>
                  <a:pt x="17714" y="10259"/>
                  <a:pt x="17760" y="10294"/>
                </a:cubicBezTo>
                <a:cubicBezTo>
                  <a:pt x="17760" y="10311"/>
                  <a:pt x="17760" y="10327"/>
                  <a:pt x="17760" y="10344"/>
                </a:cubicBezTo>
              </a:path>
              <a:path w="1936" h="1068">
                <a:moveTo>
                  <a:pt x="17636" y="10542"/>
                </a:moveTo>
                <a:cubicBezTo>
                  <a:pt x="17712" y="10542"/>
                  <a:pt x="17738" y="10542"/>
                  <a:pt x="17785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3160" y="3589200"/>
            <a:ext cx="973080" cy="277920"/>
          </a:xfrm>
          <a:custGeom>
            <a:avLst/>
            <a:gdLst/>
            <a:ahLst/>
            <a:rect l="l" t="t" r="r" b="b"/>
            <a:pathLst>
              <a:path w="2705" h="770">
                <a:moveTo>
                  <a:pt x="18529" y="10244"/>
                </a:moveTo>
                <a:cubicBezTo>
                  <a:pt x="18475" y="10244"/>
                  <a:pt x="18574" y="10193"/>
                  <a:pt x="18628" y="10195"/>
                </a:cubicBezTo>
                <a:cubicBezTo>
                  <a:pt x="18832" y="10204"/>
                  <a:pt x="18673" y="10389"/>
                  <a:pt x="18604" y="10443"/>
                </a:cubicBezTo>
                <a:cubicBezTo>
                  <a:pt x="18644" y="10360"/>
                  <a:pt x="18763" y="10363"/>
                  <a:pt x="18777" y="10492"/>
                </a:cubicBezTo>
                <a:cubicBezTo>
                  <a:pt x="18796" y="10675"/>
                  <a:pt x="18473" y="10796"/>
                  <a:pt x="18479" y="10691"/>
                </a:cubicBezTo>
                <a:cubicBezTo>
                  <a:pt x="18504" y="10641"/>
                  <a:pt x="18529" y="10592"/>
                  <a:pt x="18554" y="10542"/>
                </a:cubicBezTo>
              </a:path>
              <a:path w="2705" h="770">
                <a:moveTo>
                  <a:pt x="19075" y="10145"/>
                </a:moveTo>
                <a:cubicBezTo>
                  <a:pt x="19022" y="10185"/>
                  <a:pt x="18943" y="10246"/>
                  <a:pt x="18926" y="10319"/>
                </a:cubicBezTo>
                <a:cubicBezTo>
                  <a:pt x="18926" y="10370"/>
                  <a:pt x="18927" y="10389"/>
                  <a:pt x="18951" y="10418"/>
                </a:cubicBezTo>
                <a:cubicBezTo>
                  <a:pt x="19062" y="10394"/>
                  <a:pt x="19287" y="10344"/>
                  <a:pt x="19199" y="10542"/>
                </a:cubicBezTo>
                <a:cubicBezTo>
                  <a:pt x="19133" y="10691"/>
                  <a:pt x="18996" y="10727"/>
                  <a:pt x="18901" y="10616"/>
                </a:cubicBezTo>
              </a:path>
              <a:path w="2705" h="770">
                <a:moveTo>
                  <a:pt x="19248" y="10616"/>
                </a:moveTo>
                <a:cubicBezTo>
                  <a:pt x="19258" y="10587"/>
                  <a:pt x="19292" y="10572"/>
                  <a:pt x="19298" y="10616"/>
                </a:cubicBezTo>
                <a:cubicBezTo>
                  <a:pt x="19309" y="10703"/>
                  <a:pt x="19288" y="10714"/>
                  <a:pt x="19372" y="10641"/>
                </a:cubicBezTo>
              </a:path>
              <a:path w="2705" h="770">
                <a:moveTo>
                  <a:pt x="19124" y="10220"/>
                </a:moveTo>
                <a:cubicBezTo>
                  <a:pt x="19124" y="10187"/>
                  <a:pt x="19124" y="10153"/>
                  <a:pt x="19124" y="10120"/>
                </a:cubicBezTo>
                <a:cubicBezTo>
                  <a:pt x="19188" y="10120"/>
                  <a:pt x="19236" y="10103"/>
                  <a:pt x="19298" y="10096"/>
                </a:cubicBezTo>
              </a:path>
              <a:path w="2705" h="770">
                <a:moveTo>
                  <a:pt x="19794" y="10071"/>
                </a:moveTo>
                <a:cubicBezTo>
                  <a:pt x="19794" y="10104"/>
                  <a:pt x="19794" y="10137"/>
                  <a:pt x="19794" y="10170"/>
                </a:cubicBezTo>
                <a:cubicBezTo>
                  <a:pt x="19767" y="10161"/>
                  <a:pt x="19735" y="10134"/>
                  <a:pt x="19769" y="10120"/>
                </a:cubicBezTo>
                <a:cubicBezTo>
                  <a:pt x="19845" y="10089"/>
                  <a:pt x="19942" y="10040"/>
                  <a:pt x="20017" y="10021"/>
                </a:cubicBezTo>
                <a:cubicBezTo>
                  <a:pt x="20034" y="10190"/>
                  <a:pt x="20011" y="10304"/>
                  <a:pt x="19943" y="10468"/>
                </a:cubicBezTo>
                <a:cubicBezTo>
                  <a:pt x="19926" y="10501"/>
                  <a:pt x="19910" y="10534"/>
                  <a:pt x="19893" y="10567"/>
                </a:cubicBezTo>
              </a:path>
              <a:path w="2705" h="770">
                <a:moveTo>
                  <a:pt x="20340" y="10096"/>
                </a:moveTo>
                <a:cubicBezTo>
                  <a:pt x="20340" y="10265"/>
                  <a:pt x="20320" y="10406"/>
                  <a:pt x="20265" y="10567"/>
                </a:cubicBezTo>
                <a:cubicBezTo>
                  <a:pt x="20257" y="10583"/>
                  <a:pt x="20249" y="10600"/>
                  <a:pt x="20241" y="10616"/>
                </a:cubicBezTo>
              </a:path>
              <a:path w="2705" h="770">
                <a:moveTo>
                  <a:pt x="20786" y="10021"/>
                </a:moveTo>
                <a:cubicBezTo>
                  <a:pt x="20758" y="9935"/>
                  <a:pt x="20654" y="10105"/>
                  <a:pt x="20638" y="10145"/>
                </a:cubicBezTo>
                <a:cubicBezTo>
                  <a:pt x="20638" y="10162"/>
                  <a:pt x="20638" y="10178"/>
                  <a:pt x="20638" y="10195"/>
                </a:cubicBezTo>
                <a:cubicBezTo>
                  <a:pt x="20775" y="10164"/>
                  <a:pt x="20718" y="10146"/>
                  <a:pt x="20762" y="10046"/>
                </a:cubicBezTo>
                <a:cubicBezTo>
                  <a:pt x="20794" y="10012"/>
                  <a:pt x="20811" y="9995"/>
                  <a:pt x="20836" y="9971"/>
                </a:cubicBezTo>
                <a:cubicBezTo>
                  <a:pt x="21018" y="10071"/>
                  <a:pt x="20985" y="10252"/>
                  <a:pt x="20910" y="10443"/>
                </a:cubicBezTo>
                <a:cubicBezTo>
                  <a:pt x="20873" y="10537"/>
                  <a:pt x="20656" y="10732"/>
                  <a:pt x="20836" y="10691"/>
                </a:cubicBezTo>
              </a:path>
              <a:path w="2705" h="770">
                <a:moveTo>
                  <a:pt x="21084" y="10542"/>
                </a:moveTo>
                <a:cubicBezTo>
                  <a:pt x="21092" y="10559"/>
                  <a:pt x="21101" y="10575"/>
                  <a:pt x="21109" y="10592"/>
                </a:cubicBezTo>
                <a:cubicBezTo>
                  <a:pt x="21169" y="10531"/>
                  <a:pt x="21205" y="10506"/>
                  <a:pt x="21134" y="10468"/>
                </a:cubicBezTo>
                <a:cubicBezTo>
                  <a:pt x="21117" y="10460"/>
                  <a:pt x="21101" y="10451"/>
                  <a:pt x="21084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96040" y="5187960"/>
            <a:ext cx="1125360" cy="366840"/>
          </a:xfrm>
          <a:custGeom>
            <a:avLst/>
            <a:gdLst/>
            <a:ahLst/>
            <a:rect l="l" t="t" r="r" b="b"/>
            <a:pathLst>
              <a:path w="3127" h="1018">
                <a:moveTo>
                  <a:pt x="17686" y="14412"/>
                </a:moveTo>
                <a:cubicBezTo>
                  <a:pt x="17646" y="14608"/>
                  <a:pt x="17551" y="14807"/>
                  <a:pt x="17512" y="15007"/>
                </a:cubicBezTo>
                <a:cubicBezTo>
                  <a:pt x="17490" y="15200"/>
                  <a:pt x="17471" y="15246"/>
                  <a:pt x="17537" y="15354"/>
                </a:cubicBezTo>
                <a:cubicBezTo>
                  <a:pt x="17812" y="15333"/>
                  <a:pt x="17903" y="15277"/>
                  <a:pt x="18008" y="15007"/>
                </a:cubicBezTo>
                <a:cubicBezTo>
                  <a:pt x="17843" y="15045"/>
                  <a:pt x="17711" y="15180"/>
                  <a:pt x="17735" y="15379"/>
                </a:cubicBezTo>
                <a:cubicBezTo>
                  <a:pt x="17752" y="15396"/>
                  <a:pt x="17768" y="15412"/>
                  <a:pt x="17785" y="15429"/>
                </a:cubicBezTo>
              </a:path>
              <a:path w="3127" h="1018">
                <a:moveTo>
                  <a:pt x="18281" y="15205"/>
                </a:moveTo>
                <a:cubicBezTo>
                  <a:pt x="18281" y="15222"/>
                  <a:pt x="18281" y="15238"/>
                  <a:pt x="18281" y="15255"/>
                </a:cubicBezTo>
              </a:path>
              <a:path w="3127" h="1018">
                <a:moveTo>
                  <a:pt x="18703" y="14511"/>
                </a:moveTo>
                <a:cubicBezTo>
                  <a:pt x="18659" y="14709"/>
                  <a:pt x="18563" y="14926"/>
                  <a:pt x="18554" y="15131"/>
                </a:cubicBezTo>
                <a:cubicBezTo>
                  <a:pt x="18562" y="15181"/>
                  <a:pt x="18571" y="15230"/>
                  <a:pt x="18579" y="15280"/>
                </a:cubicBezTo>
                <a:cubicBezTo>
                  <a:pt x="18812" y="15290"/>
                  <a:pt x="18970" y="15253"/>
                  <a:pt x="19000" y="14982"/>
                </a:cubicBezTo>
                <a:cubicBezTo>
                  <a:pt x="18967" y="14947"/>
                  <a:pt x="18945" y="14939"/>
                  <a:pt x="18901" y="14957"/>
                </a:cubicBezTo>
                <a:cubicBezTo>
                  <a:pt x="18834" y="15067"/>
                  <a:pt x="18672" y="15251"/>
                  <a:pt x="18876" y="15230"/>
                </a:cubicBezTo>
              </a:path>
              <a:path w="3127" h="1018">
                <a:moveTo>
                  <a:pt x="19199" y="14610"/>
                </a:moveTo>
                <a:cubicBezTo>
                  <a:pt x="19154" y="14633"/>
                  <a:pt x="19172" y="14658"/>
                  <a:pt x="19149" y="14635"/>
                </a:cubicBezTo>
                <a:cubicBezTo>
                  <a:pt x="19225" y="14521"/>
                  <a:pt x="19169" y="14547"/>
                  <a:pt x="19298" y="14560"/>
                </a:cubicBezTo>
                <a:cubicBezTo>
                  <a:pt x="19422" y="14572"/>
                  <a:pt x="19492" y="14499"/>
                  <a:pt x="19596" y="14461"/>
                </a:cubicBezTo>
                <a:cubicBezTo>
                  <a:pt x="19604" y="14461"/>
                  <a:pt x="19613" y="14461"/>
                  <a:pt x="19621" y="14461"/>
                </a:cubicBezTo>
                <a:cubicBezTo>
                  <a:pt x="19574" y="14712"/>
                  <a:pt x="19498" y="14956"/>
                  <a:pt x="19447" y="15205"/>
                </a:cubicBezTo>
                <a:cubicBezTo>
                  <a:pt x="19447" y="15222"/>
                  <a:pt x="19447" y="15238"/>
                  <a:pt x="19447" y="15255"/>
                </a:cubicBezTo>
              </a:path>
              <a:path w="3127" h="1018">
                <a:moveTo>
                  <a:pt x="20042" y="14536"/>
                </a:moveTo>
                <a:cubicBezTo>
                  <a:pt x="19992" y="14607"/>
                  <a:pt x="19977" y="14644"/>
                  <a:pt x="19968" y="14734"/>
                </a:cubicBezTo>
                <a:cubicBezTo>
                  <a:pt x="20104" y="14700"/>
                  <a:pt x="20181" y="14616"/>
                  <a:pt x="20092" y="14461"/>
                </a:cubicBezTo>
                <a:cubicBezTo>
                  <a:pt x="20084" y="14461"/>
                  <a:pt x="20075" y="14461"/>
                  <a:pt x="20067" y="14461"/>
                </a:cubicBezTo>
                <a:cubicBezTo>
                  <a:pt x="20281" y="14384"/>
                  <a:pt x="20392" y="14433"/>
                  <a:pt x="20340" y="14709"/>
                </a:cubicBezTo>
                <a:cubicBezTo>
                  <a:pt x="20307" y="14884"/>
                  <a:pt x="20066" y="15177"/>
                  <a:pt x="20092" y="15304"/>
                </a:cubicBezTo>
              </a:path>
              <a:path w="3127" h="1018">
                <a:moveTo>
                  <a:pt x="20414" y="15156"/>
                </a:moveTo>
                <a:cubicBezTo>
                  <a:pt x="20444" y="15347"/>
                  <a:pt x="20516" y="15281"/>
                  <a:pt x="20613" y="15156"/>
                </a:cubicBezTo>
                <a:cubicBezTo>
                  <a:pt x="20572" y="15115"/>
                  <a:pt x="20542" y="15101"/>
                  <a:pt x="20489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32800" y="5224320"/>
            <a:ext cx="554040" cy="374760"/>
          </a:xfrm>
          <a:custGeom>
            <a:avLst/>
            <a:gdLst/>
            <a:ahLst/>
            <a:rect l="l" t="t" r="r" b="b"/>
            <a:pathLst>
              <a:path w="1539" h="1043">
                <a:moveTo>
                  <a:pt x="21779" y="15230"/>
                </a:moveTo>
                <a:cubicBezTo>
                  <a:pt x="21816" y="15127"/>
                  <a:pt x="21803" y="15081"/>
                  <a:pt x="21729" y="15007"/>
                </a:cubicBezTo>
                <a:cubicBezTo>
                  <a:pt x="21669" y="15030"/>
                  <a:pt x="21299" y="15327"/>
                  <a:pt x="21580" y="15354"/>
                </a:cubicBezTo>
                <a:cubicBezTo>
                  <a:pt x="21729" y="15304"/>
                  <a:pt x="21779" y="15287"/>
                  <a:pt x="21828" y="15180"/>
                </a:cubicBezTo>
              </a:path>
              <a:path w="1539" h="1043">
                <a:moveTo>
                  <a:pt x="21803" y="14511"/>
                </a:moveTo>
                <a:cubicBezTo>
                  <a:pt x="21840" y="14801"/>
                  <a:pt x="21854" y="15064"/>
                  <a:pt x="21828" y="15354"/>
                </a:cubicBezTo>
                <a:cubicBezTo>
                  <a:pt x="21828" y="15362"/>
                  <a:pt x="21828" y="15371"/>
                  <a:pt x="21828" y="15379"/>
                </a:cubicBezTo>
              </a:path>
              <a:path w="1539" h="1043">
                <a:moveTo>
                  <a:pt x="22101" y="15056"/>
                </a:moveTo>
                <a:cubicBezTo>
                  <a:pt x="22157" y="15056"/>
                  <a:pt x="22262" y="15053"/>
                  <a:pt x="22275" y="15056"/>
                </a:cubicBezTo>
                <a:cubicBezTo>
                  <a:pt x="22283" y="15056"/>
                  <a:pt x="22291" y="15056"/>
                  <a:pt x="22299" y="15056"/>
                </a:cubicBezTo>
                <a:cubicBezTo>
                  <a:pt x="22266" y="14956"/>
                  <a:pt x="22251" y="14916"/>
                  <a:pt x="22151" y="14908"/>
                </a:cubicBezTo>
                <a:cubicBezTo>
                  <a:pt x="21972" y="14894"/>
                  <a:pt x="22005" y="15154"/>
                  <a:pt x="22076" y="15255"/>
                </a:cubicBezTo>
                <a:cubicBezTo>
                  <a:pt x="22156" y="15369"/>
                  <a:pt x="22255" y="15251"/>
                  <a:pt x="22324" y="15205"/>
                </a:cubicBezTo>
              </a:path>
              <a:path w="1539" h="1043">
                <a:moveTo>
                  <a:pt x="22547" y="15032"/>
                </a:moveTo>
                <a:cubicBezTo>
                  <a:pt x="22572" y="15032"/>
                  <a:pt x="22580" y="15032"/>
                  <a:pt x="22572" y="15007"/>
                </a:cubicBezTo>
                <a:cubicBezTo>
                  <a:pt x="22528" y="14874"/>
                  <a:pt x="22420" y="15196"/>
                  <a:pt x="22423" y="15230"/>
                </a:cubicBezTo>
                <a:cubicBezTo>
                  <a:pt x="22435" y="15380"/>
                  <a:pt x="22641" y="15293"/>
                  <a:pt x="22721" y="15280"/>
                </a:cubicBezTo>
              </a:path>
              <a:path w="1539" h="1043">
                <a:moveTo>
                  <a:pt x="22994" y="15255"/>
                </a:moveTo>
                <a:cubicBezTo>
                  <a:pt x="23016" y="15277"/>
                  <a:pt x="23025" y="15282"/>
                  <a:pt x="23019" y="15304"/>
                </a:cubicBezTo>
              </a:path>
              <a:path w="1539" h="1043">
                <a:moveTo>
                  <a:pt x="21481" y="15528"/>
                </a:moveTo>
                <a:cubicBezTo>
                  <a:pt x="21923" y="15528"/>
                  <a:pt x="22445" y="15446"/>
                  <a:pt x="22870" y="15553"/>
                </a:cubicBezTo>
                <a:cubicBezTo>
                  <a:pt x="22895" y="15553"/>
                  <a:pt x="22903" y="15553"/>
                  <a:pt x="22920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nding the new am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Multiply the percent as a decimal and the old amount to find the increase or decr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Add or subtract that amount from the old am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dre sold 32.5% more dog toys this year that last year.  Last year he sold 8,500 dog toys.  How many did he sell this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71800" y="7632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find the percentage of increase or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24000" y="2232000"/>
            <a:ext cx="7153200" cy="1741680"/>
          </a:xfrm>
          <a:custGeom>
            <a:avLst/>
            <a:gdLst/>
            <a:ahLst/>
            <a:rect l="l" t="t" r="r" b="b"/>
            <a:pathLst>
              <a:path w="19870" h="4838">
                <a:moveTo>
                  <a:pt x="10889" y="6375"/>
                </a:moveTo>
                <a:cubicBezTo>
                  <a:pt x="11191" y="6299"/>
                  <a:pt x="11469" y="6261"/>
                  <a:pt x="11782" y="6251"/>
                </a:cubicBezTo>
                <a:cubicBezTo>
                  <a:pt x="12138" y="6240"/>
                  <a:pt x="12494" y="6238"/>
                  <a:pt x="12849" y="6226"/>
                </a:cubicBezTo>
                <a:cubicBezTo>
                  <a:pt x="13209" y="6214"/>
                  <a:pt x="13609" y="6185"/>
                  <a:pt x="13965" y="6201"/>
                </a:cubicBezTo>
                <a:cubicBezTo>
                  <a:pt x="14146" y="6209"/>
                  <a:pt x="14326" y="6226"/>
                  <a:pt x="14511" y="6226"/>
                </a:cubicBezTo>
                <a:cubicBezTo>
                  <a:pt x="15213" y="6226"/>
                  <a:pt x="15962" y="6175"/>
                  <a:pt x="16644" y="6251"/>
                </a:cubicBezTo>
                <a:cubicBezTo>
                  <a:pt x="16652" y="6251"/>
                  <a:pt x="16661" y="6251"/>
                  <a:pt x="16669" y="6251"/>
                </a:cubicBezTo>
              </a:path>
              <a:path w="19870" h="4838">
                <a:moveTo>
                  <a:pt x="22275" y="6226"/>
                </a:moveTo>
                <a:cubicBezTo>
                  <a:pt x="22472" y="6251"/>
                  <a:pt x="22670" y="6263"/>
                  <a:pt x="22870" y="6251"/>
                </a:cubicBezTo>
                <a:cubicBezTo>
                  <a:pt x="23015" y="6242"/>
                  <a:pt x="23136" y="6202"/>
                  <a:pt x="23267" y="6226"/>
                </a:cubicBezTo>
              </a:path>
              <a:path w="19870" h="4838">
                <a:moveTo>
                  <a:pt x="3398" y="7913"/>
                </a:moveTo>
                <a:cubicBezTo>
                  <a:pt x="3421" y="7909"/>
                  <a:pt x="3535" y="7888"/>
                  <a:pt x="3597" y="7888"/>
                </a:cubicBezTo>
                <a:cubicBezTo>
                  <a:pt x="3773" y="7888"/>
                  <a:pt x="3943" y="7872"/>
                  <a:pt x="4118" y="7863"/>
                </a:cubicBezTo>
                <a:cubicBezTo>
                  <a:pt x="4271" y="7855"/>
                  <a:pt x="4437" y="7859"/>
                  <a:pt x="4589" y="7838"/>
                </a:cubicBezTo>
                <a:cubicBezTo>
                  <a:pt x="4784" y="7811"/>
                  <a:pt x="4986" y="7780"/>
                  <a:pt x="5184" y="7764"/>
                </a:cubicBezTo>
                <a:cubicBezTo>
                  <a:pt x="5350" y="7751"/>
                  <a:pt x="5516" y="7727"/>
                  <a:pt x="5680" y="7714"/>
                </a:cubicBezTo>
                <a:cubicBezTo>
                  <a:pt x="5858" y="7699"/>
                  <a:pt x="6023" y="7726"/>
                  <a:pt x="6201" y="7714"/>
                </a:cubicBezTo>
                <a:cubicBezTo>
                  <a:pt x="6360" y="7703"/>
                  <a:pt x="6512" y="7689"/>
                  <a:pt x="6672" y="7689"/>
                </a:cubicBezTo>
              </a:path>
              <a:path w="19870" h="4838">
                <a:moveTo>
                  <a:pt x="3522" y="9401"/>
                </a:moveTo>
                <a:cubicBezTo>
                  <a:pt x="3561" y="9389"/>
                  <a:pt x="3648" y="9361"/>
                  <a:pt x="3721" y="9351"/>
                </a:cubicBezTo>
                <a:cubicBezTo>
                  <a:pt x="3899" y="9327"/>
                  <a:pt x="4090" y="9356"/>
                  <a:pt x="4266" y="9327"/>
                </a:cubicBezTo>
                <a:cubicBezTo>
                  <a:pt x="4480" y="9292"/>
                  <a:pt x="4692" y="9219"/>
                  <a:pt x="4911" y="9203"/>
                </a:cubicBezTo>
                <a:cubicBezTo>
                  <a:pt x="5101" y="9189"/>
                  <a:pt x="5292" y="9165"/>
                  <a:pt x="5482" y="9153"/>
                </a:cubicBezTo>
                <a:cubicBezTo>
                  <a:pt x="5845" y="9130"/>
                  <a:pt x="6211" y="9150"/>
                  <a:pt x="6573" y="9128"/>
                </a:cubicBezTo>
                <a:cubicBezTo>
                  <a:pt x="6779" y="9115"/>
                  <a:pt x="6987" y="9119"/>
                  <a:pt x="7193" y="9103"/>
                </a:cubicBezTo>
                <a:cubicBezTo>
                  <a:pt x="7407" y="9087"/>
                  <a:pt x="7625" y="9099"/>
                  <a:pt x="7838" y="9079"/>
                </a:cubicBezTo>
                <a:cubicBezTo>
                  <a:pt x="8011" y="9063"/>
                  <a:pt x="8184" y="9038"/>
                  <a:pt x="8359" y="9054"/>
                </a:cubicBezTo>
                <a:cubicBezTo>
                  <a:pt x="8555" y="9072"/>
                  <a:pt x="8760" y="9075"/>
                  <a:pt x="8954" y="9103"/>
                </a:cubicBezTo>
                <a:cubicBezTo>
                  <a:pt x="9125" y="9128"/>
                  <a:pt x="9304" y="9161"/>
                  <a:pt x="9475" y="9178"/>
                </a:cubicBezTo>
                <a:cubicBezTo>
                  <a:pt x="9603" y="9191"/>
                  <a:pt x="9750" y="9194"/>
                  <a:pt x="9872" y="9203"/>
                </a:cubicBezTo>
                <a:cubicBezTo>
                  <a:pt x="9904" y="9205"/>
                  <a:pt x="9939" y="9199"/>
                  <a:pt x="9971" y="9203"/>
                </a:cubicBezTo>
              </a:path>
              <a:path w="19870" h="4838">
                <a:moveTo>
                  <a:pt x="13568" y="7590"/>
                </a:moveTo>
                <a:cubicBezTo>
                  <a:pt x="13568" y="7562"/>
                  <a:pt x="13570" y="7551"/>
                  <a:pt x="13593" y="7541"/>
                </a:cubicBezTo>
                <a:cubicBezTo>
                  <a:pt x="13593" y="7499"/>
                  <a:pt x="13615" y="7708"/>
                  <a:pt x="13618" y="7764"/>
                </a:cubicBezTo>
                <a:cubicBezTo>
                  <a:pt x="13618" y="7799"/>
                  <a:pt x="13613" y="7798"/>
                  <a:pt x="13593" y="7739"/>
                </a:cubicBezTo>
              </a:path>
              <a:path w="19870" h="4838">
                <a:moveTo>
                  <a:pt x="13494" y="7640"/>
                </a:moveTo>
                <a:cubicBezTo>
                  <a:pt x="13613" y="7668"/>
                  <a:pt x="13718" y="7689"/>
                  <a:pt x="13841" y="7689"/>
                </a:cubicBezTo>
              </a:path>
              <a:path w="19870" h="4838">
                <a:moveTo>
                  <a:pt x="19075" y="7565"/>
                </a:moveTo>
                <a:cubicBezTo>
                  <a:pt x="19143" y="7565"/>
                  <a:pt x="19204" y="7545"/>
                  <a:pt x="19273" y="7541"/>
                </a:cubicBezTo>
                <a:cubicBezTo>
                  <a:pt x="19304" y="7539"/>
                  <a:pt x="19319" y="7558"/>
                  <a:pt x="19348" y="7565"/>
                </a:cubicBezTo>
              </a:path>
              <a:path w="19870" h="4838">
                <a:moveTo>
                  <a:pt x="20141" y="9475"/>
                </a:moveTo>
                <a:cubicBezTo>
                  <a:pt x="20303" y="9507"/>
                  <a:pt x="20466" y="9459"/>
                  <a:pt x="20638" y="9451"/>
                </a:cubicBezTo>
                <a:cubicBezTo>
                  <a:pt x="20831" y="9442"/>
                  <a:pt x="21019" y="9435"/>
                  <a:pt x="21208" y="9451"/>
                </a:cubicBezTo>
              </a:path>
              <a:path w="19870" h="4838">
                <a:moveTo>
                  <a:pt x="3522" y="11038"/>
                </a:moveTo>
                <a:cubicBezTo>
                  <a:pt x="3683" y="11007"/>
                  <a:pt x="3855" y="10959"/>
                  <a:pt x="4018" y="10939"/>
                </a:cubicBezTo>
                <a:cubicBezTo>
                  <a:pt x="4513" y="10879"/>
                  <a:pt x="5012" y="10869"/>
                  <a:pt x="5507" y="10815"/>
                </a:cubicBezTo>
                <a:cubicBezTo>
                  <a:pt x="5818" y="10781"/>
                  <a:pt x="6118" y="10721"/>
                  <a:pt x="6424" y="10666"/>
                </a:cubicBezTo>
                <a:cubicBezTo>
                  <a:pt x="6432" y="10666"/>
                  <a:pt x="6441" y="10666"/>
                  <a:pt x="6449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03800" y="4179960"/>
            <a:ext cx="696960" cy="258840"/>
          </a:xfrm>
          <a:custGeom>
            <a:avLst/>
            <a:gdLst/>
            <a:ahLst/>
            <a:rect l="l" t="t" r="r" b="b"/>
            <a:pathLst>
              <a:path w="1936" h="720">
                <a:moveTo>
                  <a:pt x="12030" y="12154"/>
                </a:moveTo>
                <a:cubicBezTo>
                  <a:pt x="11994" y="12208"/>
                  <a:pt x="11977" y="12264"/>
                  <a:pt x="11956" y="12328"/>
                </a:cubicBezTo>
                <a:cubicBezTo>
                  <a:pt x="11996" y="12324"/>
                  <a:pt x="12219" y="12257"/>
                  <a:pt x="12105" y="12229"/>
                </a:cubicBezTo>
                <a:cubicBezTo>
                  <a:pt x="12088" y="12229"/>
                  <a:pt x="12072" y="12229"/>
                  <a:pt x="12055" y="12229"/>
                </a:cubicBezTo>
              </a:path>
              <a:path w="1936" h="720">
                <a:moveTo>
                  <a:pt x="12477" y="11733"/>
                </a:moveTo>
                <a:cubicBezTo>
                  <a:pt x="12615" y="11727"/>
                  <a:pt x="12930" y="11743"/>
                  <a:pt x="12700" y="11956"/>
                </a:cubicBezTo>
                <a:cubicBezTo>
                  <a:pt x="12627" y="11992"/>
                  <a:pt x="12622" y="12009"/>
                  <a:pt x="12576" y="12005"/>
                </a:cubicBezTo>
                <a:cubicBezTo>
                  <a:pt x="12760" y="11997"/>
                  <a:pt x="12971" y="12047"/>
                  <a:pt x="12700" y="12204"/>
                </a:cubicBezTo>
                <a:cubicBezTo>
                  <a:pt x="12502" y="12318"/>
                  <a:pt x="12395" y="12273"/>
                  <a:pt x="12576" y="12080"/>
                </a:cubicBezTo>
              </a:path>
              <a:path w="1936" h="720">
                <a:moveTo>
                  <a:pt x="12998" y="11782"/>
                </a:moveTo>
                <a:cubicBezTo>
                  <a:pt x="13104" y="11782"/>
                  <a:pt x="13235" y="11773"/>
                  <a:pt x="13271" y="11906"/>
                </a:cubicBezTo>
                <a:cubicBezTo>
                  <a:pt x="13320" y="12084"/>
                  <a:pt x="13039" y="12111"/>
                  <a:pt x="12948" y="12105"/>
                </a:cubicBezTo>
                <a:cubicBezTo>
                  <a:pt x="13041" y="11980"/>
                  <a:pt x="13169" y="11881"/>
                  <a:pt x="13295" y="12055"/>
                </a:cubicBezTo>
                <a:cubicBezTo>
                  <a:pt x="13371" y="12160"/>
                  <a:pt x="13241" y="12236"/>
                  <a:pt x="13444" y="11981"/>
                </a:cubicBezTo>
              </a:path>
              <a:path w="1936" h="720">
                <a:moveTo>
                  <a:pt x="13767" y="11609"/>
                </a:moveTo>
                <a:cubicBezTo>
                  <a:pt x="13666" y="11616"/>
                  <a:pt x="13544" y="11608"/>
                  <a:pt x="13494" y="11708"/>
                </a:cubicBezTo>
                <a:cubicBezTo>
                  <a:pt x="13472" y="11773"/>
                  <a:pt x="13464" y="11788"/>
                  <a:pt x="13469" y="11832"/>
                </a:cubicBezTo>
                <a:cubicBezTo>
                  <a:pt x="13572" y="11832"/>
                  <a:pt x="13752" y="11767"/>
                  <a:pt x="13841" y="11832"/>
                </a:cubicBezTo>
                <a:cubicBezTo>
                  <a:pt x="13984" y="11936"/>
                  <a:pt x="13760" y="12179"/>
                  <a:pt x="13643" y="12179"/>
                </a:cubicBezTo>
                <a:cubicBezTo>
                  <a:pt x="13610" y="12162"/>
                  <a:pt x="13576" y="12146"/>
                  <a:pt x="13543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59240" y="4197240"/>
            <a:ext cx="135000" cy="204840"/>
          </a:xfrm>
          <a:custGeom>
            <a:avLst/>
            <a:gdLst/>
            <a:ahLst/>
            <a:rect l="l" t="t" r="r" b="b"/>
            <a:pathLst>
              <a:path w="373" h="572">
                <a:moveTo>
                  <a:pt x="14684" y="11757"/>
                </a:moveTo>
                <a:cubicBezTo>
                  <a:pt x="14775" y="11855"/>
                  <a:pt x="14916" y="11967"/>
                  <a:pt x="14982" y="12080"/>
                </a:cubicBezTo>
                <a:cubicBezTo>
                  <a:pt x="14982" y="12088"/>
                  <a:pt x="14982" y="12097"/>
                  <a:pt x="14982" y="12105"/>
                </a:cubicBezTo>
              </a:path>
              <a:path w="373" h="572">
                <a:moveTo>
                  <a:pt x="14982" y="11658"/>
                </a:moveTo>
                <a:cubicBezTo>
                  <a:pt x="14846" y="11806"/>
                  <a:pt x="14795" y="12020"/>
                  <a:pt x="14660" y="12179"/>
                </a:cubicBezTo>
                <a:cubicBezTo>
                  <a:pt x="14619" y="12199"/>
                  <a:pt x="14603" y="12197"/>
                  <a:pt x="14610" y="122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4116240"/>
            <a:ext cx="1046160" cy="285840"/>
          </a:xfrm>
          <a:custGeom>
            <a:avLst/>
            <a:gdLst/>
            <a:ahLst/>
            <a:rect l="l" t="t" r="r" b="b"/>
            <a:pathLst>
              <a:path w="2903" h="795">
                <a:moveTo>
                  <a:pt x="15751" y="11534"/>
                </a:moveTo>
                <a:cubicBezTo>
                  <a:pt x="15693" y="11475"/>
                  <a:pt x="15486" y="11554"/>
                  <a:pt x="15453" y="11658"/>
                </a:cubicBezTo>
                <a:cubicBezTo>
                  <a:pt x="15413" y="11785"/>
                  <a:pt x="15731" y="11938"/>
                  <a:pt x="15776" y="12055"/>
                </a:cubicBezTo>
                <a:cubicBezTo>
                  <a:pt x="15637" y="12102"/>
                  <a:pt x="15597" y="12120"/>
                  <a:pt x="15503" y="12080"/>
                </a:cubicBezTo>
                <a:cubicBezTo>
                  <a:pt x="15535" y="11887"/>
                  <a:pt x="15670" y="11808"/>
                  <a:pt x="15801" y="11633"/>
                </a:cubicBezTo>
              </a:path>
              <a:path w="2903" h="795">
                <a:moveTo>
                  <a:pt x="15974" y="12129"/>
                </a:moveTo>
                <a:cubicBezTo>
                  <a:pt x="15993" y="12187"/>
                  <a:pt x="16002" y="12194"/>
                  <a:pt x="15999" y="12229"/>
                </a:cubicBezTo>
              </a:path>
              <a:path w="2903" h="795">
                <a:moveTo>
                  <a:pt x="16421" y="11509"/>
                </a:moveTo>
                <a:cubicBezTo>
                  <a:pt x="16347" y="11583"/>
                  <a:pt x="16322" y="11607"/>
                  <a:pt x="16321" y="11683"/>
                </a:cubicBezTo>
                <a:cubicBezTo>
                  <a:pt x="16408" y="11753"/>
                  <a:pt x="16515" y="11762"/>
                  <a:pt x="16594" y="11881"/>
                </a:cubicBezTo>
                <a:cubicBezTo>
                  <a:pt x="16383" y="12031"/>
                  <a:pt x="16340" y="11893"/>
                  <a:pt x="16247" y="11708"/>
                </a:cubicBezTo>
              </a:path>
              <a:path w="2903" h="795">
                <a:moveTo>
                  <a:pt x="16421" y="11509"/>
                </a:moveTo>
                <a:cubicBezTo>
                  <a:pt x="16613" y="11431"/>
                  <a:pt x="16713" y="11449"/>
                  <a:pt x="16917" y="11485"/>
                </a:cubicBezTo>
              </a:path>
              <a:path w="2903" h="795">
                <a:moveTo>
                  <a:pt x="16917" y="11485"/>
                </a:moveTo>
                <a:lnTo>
                  <a:pt x="16917" y="11485"/>
                </a:lnTo>
              </a:path>
              <a:path w="2903" h="795">
                <a:moveTo>
                  <a:pt x="17066" y="11509"/>
                </a:moveTo>
                <a:cubicBezTo>
                  <a:pt x="16834" y="11607"/>
                  <a:pt x="16802" y="11683"/>
                  <a:pt x="16867" y="11931"/>
                </a:cubicBezTo>
                <a:cubicBezTo>
                  <a:pt x="17025" y="11911"/>
                  <a:pt x="17393" y="11797"/>
                  <a:pt x="17140" y="11559"/>
                </a:cubicBezTo>
                <a:cubicBezTo>
                  <a:pt x="17024" y="11536"/>
                  <a:pt x="16991" y="11525"/>
                  <a:pt x="16917" y="11559"/>
                </a:cubicBezTo>
              </a:path>
              <a:path w="2903" h="795">
                <a:moveTo>
                  <a:pt x="17438" y="11460"/>
                </a:moveTo>
                <a:cubicBezTo>
                  <a:pt x="17278" y="11619"/>
                  <a:pt x="17255" y="11668"/>
                  <a:pt x="17239" y="11881"/>
                </a:cubicBezTo>
                <a:cubicBezTo>
                  <a:pt x="17533" y="11972"/>
                  <a:pt x="17642" y="11971"/>
                  <a:pt x="17760" y="11683"/>
                </a:cubicBezTo>
                <a:cubicBezTo>
                  <a:pt x="17619" y="11583"/>
                  <a:pt x="17550" y="11538"/>
                  <a:pt x="17388" y="11485"/>
                </a:cubicBezTo>
              </a:path>
              <a:path w="2903" h="795">
                <a:moveTo>
                  <a:pt x="18083" y="11658"/>
                </a:moveTo>
                <a:cubicBezTo>
                  <a:pt x="18178" y="11670"/>
                  <a:pt x="18259" y="11678"/>
                  <a:pt x="18355" y="11683"/>
                </a:cubicBezTo>
              </a:path>
              <a:path w="2903" h="795">
                <a:moveTo>
                  <a:pt x="18132" y="11807"/>
                </a:moveTo>
                <a:cubicBezTo>
                  <a:pt x="18239" y="11807"/>
                  <a:pt x="18281" y="11807"/>
                  <a:pt x="18355" y="11807"/>
                </a:cubicBezTo>
              </a:path>
              <a:path w="2903" h="795">
                <a:moveTo>
                  <a:pt x="18355" y="11807"/>
                </a:moveTo>
                <a:lnTo>
                  <a:pt x="18355" y="1180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39000" y="4044960"/>
            <a:ext cx="1990800" cy="500040"/>
          </a:xfrm>
          <a:custGeom>
            <a:avLst/>
            <a:gdLst/>
            <a:ahLst/>
            <a:rect l="l" t="t" r="r" b="b"/>
            <a:pathLst>
              <a:path w="5533" h="1390">
                <a:moveTo>
                  <a:pt x="19348" y="11410"/>
                </a:moveTo>
                <a:cubicBezTo>
                  <a:pt x="19348" y="11484"/>
                  <a:pt x="19329" y="11547"/>
                  <a:pt x="19298" y="11609"/>
                </a:cubicBezTo>
                <a:cubicBezTo>
                  <a:pt x="19354" y="11515"/>
                  <a:pt x="19539" y="11371"/>
                  <a:pt x="19645" y="11534"/>
                </a:cubicBezTo>
                <a:cubicBezTo>
                  <a:pt x="19789" y="11755"/>
                  <a:pt x="19574" y="12250"/>
                  <a:pt x="19273" y="12179"/>
                </a:cubicBezTo>
                <a:cubicBezTo>
                  <a:pt x="19273" y="12154"/>
                  <a:pt x="19273" y="12130"/>
                  <a:pt x="19273" y="12105"/>
                </a:cubicBezTo>
                <a:cubicBezTo>
                  <a:pt x="19446" y="11966"/>
                  <a:pt x="19522" y="11973"/>
                  <a:pt x="19645" y="12179"/>
                </a:cubicBezTo>
                <a:cubicBezTo>
                  <a:pt x="19673" y="12235"/>
                  <a:pt x="19688" y="12251"/>
                  <a:pt x="19745" y="12229"/>
                </a:cubicBezTo>
              </a:path>
              <a:path w="5533" h="1390">
                <a:moveTo>
                  <a:pt x="20042" y="12229"/>
                </a:moveTo>
                <a:cubicBezTo>
                  <a:pt x="20042" y="12270"/>
                  <a:pt x="20034" y="12286"/>
                  <a:pt x="20067" y="12278"/>
                </a:cubicBezTo>
              </a:path>
              <a:path w="5533" h="1390">
                <a:moveTo>
                  <a:pt x="20067" y="12278"/>
                </a:moveTo>
                <a:lnTo>
                  <a:pt x="20067" y="12278"/>
                </a:lnTo>
              </a:path>
              <a:path w="5533" h="1390">
                <a:moveTo>
                  <a:pt x="20241" y="11584"/>
                </a:moveTo>
                <a:cubicBezTo>
                  <a:pt x="20417" y="11528"/>
                  <a:pt x="20667" y="11397"/>
                  <a:pt x="20638" y="11683"/>
                </a:cubicBezTo>
                <a:cubicBezTo>
                  <a:pt x="20627" y="11791"/>
                  <a:pt x="20495" y="12065"/>
                  <a:pt x="20538" y="12129"/>
                </a:cubicBezTo>
              </a:path>
              <a:path w="5533" h="1390">
                <a:moveTo>
                  <a:pt x="20811" y="11584"/>
                </a:moveTo>
                <a:cubicBezTo>
                  <a:pt x="20888" y="11533"/>
                  <a:pt x="20812" y="11812"/>
                  <a:pt x="20811" y="11832"/>
                </a:cubicBezTo>
                <a:cubicBezTo>
                  <a:pt x="20802" y="12008"/>
                  <a:pt x="20904" y="12271"/>
                  <a:pt x="21134" y="12105"/>
                </a:cubicBezTo>
                <a:cubicBezTo>
                  <a:pt x="21233" y="11986"/>
                  <a:pt x="21274" y="11976"/>
                  <a:pt x="21258" y="11881"/>
                </a:cubicBezTo>
                <a:cubicBezTo>
                  <a:pt x="21127" y="11882"/>
                  <a:pt x="20993" y="11961"/>
                  <a:pt x="20985" y="12129"/>
                </a:cubicBezTo>
                <a:cubicBezTo>
                  <a:pt x="20993" y="12137"/>
                  <a:pt x="21002" y="12146"/>
                  <a:pt x="21010" y="12154"/>
                </a:cubicBezTo>
              </a:path>
              <a:path w="5533" h="1390">
                <a:moveTo>
                  <a:pt x="21406" y="11534"/>
                </a:moveTo>
                <a:cubicBezTo>
                  <a:pt x="21580" y="11418"/>
                  <a:pt x="21665" y="11410"/>
                  <a:pt x="21853" y="11460"/>
                </a:cubicBezTo>
                <a:cubicBezTo>
                  <a:pt x="21805" y="11589"/>
                  <a:pt x="21765" y="11646"/>
                  <a:pt x="21679" y="11757"/>
                </a:cubicBezTo>
                <a:cubicBezTo>
                  <a:pt x="21768" y="11740"/>
                  <a:pt x="21922" y="11663"/>
                  <a:pt x="21927" y="11832"/>
                </a:cubicBezTo>
                <a:cubicBezTo>
                  <a:pt x="21933" y="12057"/>
                  <a:pt x="21676" y="12075"/>
                  <a:pt x="21530" y="12055"/>
                </a:cubicBezTo>
              </a:path>
              <a:path w="5533" h="1390">
                <a:moveTo>
                  <a:pt x="19968" y="12204"/>
                </a:moveTo>
                <a:cubicBezTo>
                  <a:pt x="20032" y="12268"/>
                  <a:pt x="20075" y="12470"/>
                  <a:pt x="20017" y="12576"/>
                </a:cubicBezTo>
                <a:cubicBezTo>
                  <a:pt x="19954" y="12619"/>
                  <a:pt x="19942" y="12635"/>
                  <a:pt x="19893" y="12626"/>
                </a:cubicBezTo>
              </a:path>
              <a:path w="5533" h="1390">
                <a:moveTo>
                  <a:pt x="22299" y="11584"/>
                </a:moveTo>
                <a:cubicBezTo>
                  <a:pt x="22253" y="11506"/>
                  <a:pt x="22250" y="11527"/>
                  <a:pt x="22250" y="11460"/>
                </a:cubicBezTo>
                <a:cubicBezTo>
                  <a:pt x="22317" y="11548"/>
                  <a:pt x="22275" y="11722"/>
                  <a:pt x="22275" y="11832"/>
                </a:cubicBezTo>
                <a:cubicBezTo>
                  <a:pt x="22275" y="11865"/>
                  <a:pt x="22275" y="11898"/>
                  <a:pt x="22275" y="11931"/>
                </a:cubicBezTo>
              </a:path>
              <a:path w="5533" h="1390">
                <a:moveTo>
                  <a:pt x="22076" y="11733"/>
                </a:moveTo>
                <a:cubicBezTo>
                  <a:pt x="22239" y="11698"/>
                  <a:pt x="22404" y="11708"/>
                  <a:pt x="22572" y="11708"/>
                </a:cubicBezTo>
                <a:cubicBezTo>
                  <a:pt x="22597" y="11708"/>
                  <a:pt x="22605" y="11708"/>
                  <a:pt x="22622" y="11708"/>
                </a:cubicBezTo>
              </a:path>
              <a:path w="5533" h="1390">
                <a:moveTo>
                  <a:pt x="23292" y="11261"/>
                </a:moveTo>
                <a:cubicBezTo>
                  <a:pt x="23113" y="11283"/>
                  <a:pt x="22812" y="11317"/>
                  <a:pt x="22920" y="11584"/>
                </a:cubicBezTo>
                <a:cubicBezTo>
                  <a:pt x="23023" y="11713"/>
                  <a:pt x="23062" y="11758"/>
                  <a:pt x="23168" y="11807"/>
                </a:cubicBezTo>
                <a:cubicBezTo>
                  <a:pt x="23211" y="11872"/>
                  <a:pt x="23237" y="11891"/>
                  <a:pt x="23168" y="11906"/>
                </a:cubicBezTo>
                <a:cubicBezTo>
                  <a:pt x="22925" y="11971"/>
                  <a:pt x="22984" y="11836"/>
                  <a:pt x="23093" y="11658"/>
                </a:cubicBezTo>
                <a:cubicBezTo>
                  <a:pt x="23112" y="11626"/>
                  <a:pt x="23339" y="11384"/>
                  <a:pt x="23242" y="11336"/>
                </a:cubicBezTo>
                <a:cubicBezTo>
                  <a:pt x="23199" y="11336"/>
                  <a:pt x="23185" y="11353"/>
                  <a:pt x="23192" y="11410"/>
                </a:cubicBezTo>
              </a:path>
              <a:path w="5533" h="1390">
                <a:moveTo>
                  <a:pt x="23440" y="11857"/>
                </a:moveTo>
                <a:cubicBezTo>
                  <a:pt x="23420" y="11959"/>
                  <a:pt x="23415" y="12019"/>
                  <a:pt x="23366" y="12105"/>
                </a:cubicBezTo>
              </a:path>
              <a:path w="5533" h="1390">
                <a:moveTo>
                  <a:pt x="23812" y="11311"/>
                </a:moveTo>
                <a:cubicBezTo>
                  <a:pt x="23743" y="11353"/>
                  <a:pt x="23661" y="11442"/>
                  <a:pt x="23589" y="11460"/>
                </a:cubicBezTo>
                <a:cubicBezTo>
                  <a:pt x="23690" y="11485"/>
                  <a:pt x="23909" y="11541"/>
                  <a:pt x="23912" y="11683"/>
                </a:cubicBezTo>
                <a:cubicBezTo>
                  <a:pt x="23917" y="11891"/>
                  <a:pt x="23648" y="11890"/>
                  <a:pt x="23540" y="11782"/>
                </a:cubicBezTo>
                <a:cubicBezTo>
                  <a:pt x="23532" y="11757"/>
                  <a:pt x="23523" y="11733"/>
                  <a:pt x="23515" y="11708"/>
                </a:cubicBezTo>
              </a:path>
              <a:path w="5533" h="1390">
                <a:moveTo>
                  <a:pt x="24061" y="11460"/>
                </a:moveTo>
                <a:cubicBezTo>
                  <a:pt x="24047" y="11603"/>
                  <a:pt x="24029" y="11675"/>
                  <a:pt x="24085" y="11807"/>
                </a:cubicBezTo>
                <a:cubicBezTo>
                  <a:pt x="24214" y="11797"/>
                  <a:pt x="24387" y="11771"/>
                  <a:pt x="24284" y="11584"/>
                </a:cubicBezTo>
                <a:cubicBezTo>
                  <a:pt x="24236" y="11497"/>
                  <a:pt x="24037" y="11460"/>
                  <a:pt x="24135" y="11460"/>
                </a:cubicBezTo>
              </a:path>
              <a:path w="5533" h="1390">
                <a:moveTo>
                  <a:pt x="24581" y="11435"/>
                </a:moveTo>
                <a:cubicBezTo>
                  <a:pt x="24556" y="11520"/>
                  <a:pt x="24462" y="11699"/>
                  <a:pt x="24532" y="11782"/>
                </a:cubicBezTo>
                <a:cubicBezTo>
                  <a:pt x="24647" y="11918"/>
                  <a:pt x="24777" y="11699"/>
                  <a:pt x="24805" y="11633"/>
                </a:cubicBezTo>
                <a:cubicBezTo>
                  <a:pt x="24683" y="11540"/>
                  <a:pt x="24642" y="11538"/>
                  <a:pt x="24482" y="11509"/>
                </a:cubicBezTo>
              </a:path>
              <a:path w="5533" h="1390">
                <a:moveTo>
                  <a:pt x="24085" y="11261"/>
                </a:moveTo>
                <a:cubicBezTo>
                  <a:pt x="24127" y="11261"/>
                  <a:pt x="24135" y="11261"/>
                  <a:pt x="24160" y="11261"/>
                </a:cubicBezTo>
              </a:path>
              <a:path w="5533" h="1390">
                <a:moveTo>
                  <a:pt x="23763" y="11261"/>
                </a:moveTo>
                <a:cubicBezTo>
                  <a:pt x="23833" y="11261"/>
                  <a:pt x="23892" y="11242"/>
                  <a:pt x="23961" y="11237"/>
                </a:cubicBezTo>
                <a:cubicBezTo>
                  <a:pt x="23986" y="11237"/>
                  <a:pt x="23994" y="11237"/>
                  <a:pt x="24011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9680" y="4330800"/>
            <a:ext cx="1322280" cy="376200"/>
          </a:xfrm>
          <a:custGeom>
            <a:avLst/>
            <a:gdLst/>
            <a:ahLst/>
            <a:rect l="l" t="t" r="r" b="b"/>
            <a:pathLst>
              <a:path w="3672" h="1043">
                <a:moveTo>
                  <a:pt x="21382" y="12353"/>
                </a:moveTo>
                <a:cubicBezTo>
                  <a:pt x="21427" y="12376"/>
                  <a:pt x="21405" y="12366"/>
                  <a:pt x="21456" y="12353"/>
                </a:cubicBezTo>
                <a:cubicBezTo>
                  <a:pt x="21456" y="12475"/>
                  <a:pt x="21450" y="12583"/>
                  <a:pt x="21431" y="12700"/>
                </a:cubicBezTo>
                <a:cubicBezTo>
                  <a:pt x="21431" y="12728"/>
                  <a:pt x="21433" y="12734"/>
                  <a:pt x="21456" y="12700"/>
                </a:cubicBezTo>
              </a:path>
              <a:path w="3672" h="1043">
                <a:moveTo>
                  <a:pt x="21828" y="12229"/>
                </a:moveTo>
                <a:cubicBezTo>
                  <a:pt x="21803" y="12379"/>
                  <a:pt x="21810" y="12528"/>
                  <a:pt x="21779" y="12675"/>
                </a:cubicBezTo>
              </a:path>
              <a:path w="3672" h="1043">
                <a:moveTo>
                  <a:pt x="22051" y="12650"/>
                </a:moveTo>
                <a:cubicBezTo>
                  <a:pt x="22038" y="12743"/>
                  <a:pt x="22057" y="12790"/>
                  <a:pt x="22027" y="12774"/>
                </a:cubicBezTo>
              </a:path>
              <a:path w="3672" h="1043">
                <a:moveTo>
                  <a:pt x="22473" y="12254"/>
                </a:moveTo>
                <a:cubicBezTo>
                  <a:pt x="22578" y="12302"/>
                  <a:pt x="22805" y="12453"/>
                  <a:pt x="22647" y="12601"/>
                </a:cubicBezTo>
                <a:cubicBezTo>
                  <a:pt x="22527" y="12714"/>
                  <a:pt x="22434" y="12685"/>
                  <a:pt x="22324" y="12626"/>
                </a:cubicBezTo>
                <a:cubicBezTo>
                  <a:pt x="22480" y="12521"/>
                  <a:pt x="22563" y="12479"/>
                  <a:pt x="22671" y="12650"/>
                </a:cubicBezTo>
              </a:path>
              <a:path w="3672" h="1043">
                <a:moveTo>
                  <a:pt x="22920" y="12303"/>
                </a:moveTo>
                <a:cubicBezTo>
                  <a:pt x="22894" y="12398"/>
                  <a:pt x="22835" y="12630"/>
                  <a:pt x="22944" y="12700"/>
                </a:cubicBezTo>
                <a:cubicBezTo>
                  <a:pt x="23105" y="12804"/>
                  <a:pt x="23242" y="12649"/>
                  <a:pt x="23242" y="12526"/>
                </a:cubicBezTo>
                <a:cubicBezTo>
                  <a:pt x="23140" y="12546"/>
                  <a:pt x="23011" y="12587"/>
                  <a:pt x="23044" y="12725"/>
                </a:cubicBezTo>
                <a:cubicBezTo>
                  <a:pt x="23052" y="12725"/>
                  <a:pt x="23060" y="12725"/>
                  <a:pt x="23068" y="12725"/>
                </a:cubicBezTo>
              </a:path>
              <a:path w="3672" h="1043">
                <a:moveTo>
                  <a:pt x="23440" y="12278"/>
                </a:moveTo>
                <a:cubicBezTo>
                  <a:pt x="23373" y="12278"/>
                  <a:pt x="23608" y="12231"/>
                  <a:pt x="23639" y="12229"/>
                </a:cubicBezTo>
                <a:cubicBezTo>
                  <a:pt x="23832" y="12218"/>
                  <a:pt x="23723" y="12400"/>
                  <a:pt x="23614" y="12452"/>
                </a:cubicBezTo>
                <a:cubicBezTo>
                  <a:pt x="23597" y="12452"/>
                  <a:pt x="23581" y="12452"/>
                  <a:pt x="23564" y="12452"/>
                </a:cubicBezTo>
                <a:cubicBezTo>
                  <a:pt x="23572" y="12452"/>
                  <a:pt x="23581" y="12452"/>
                  <a:pt x="23589" y="12452"/>
                </a:cubicBezTo>
                <a:cubicBezTo>
                  <a:pt x="23705" y="12429"/>
                  <a:pt x="23969" y="12386"/>
                  <a:pt x="23862" y="12601"/>
                </a:cubicBezTo>
                <a:cubicBezTo>
                  <a:pt x="23798" y="12730"/>
                  <a:pt x="23634" y="12728"/>
                  <a:pt x="23589" y="12626"/>
                </a:cubicBezTo>
              </a:path>
              <a:path w="3672" h="1043">
                <a:moveTo>
                  <a:pt x="21158" y="12973"/>
                </a:moveTo>
                <a:cubicBezTo>
                  <a:pt x="21199" y="12966"/>
                  <a:pt x="21256" y="12966"/>
                  <a:pt x="21332" y="12973"/>
                </a:cubicBezTo>
                <a:cubicBezTo>
                  <a:pt x="21510" y="12989"/>
                  <a:pt x="21675" y="12991"/>
                  <a:pt x="21853" y="13022"/>
                </a:cubicBezTo>
                <a:cubicBezTo>
                  <a:pt x="22045" y="13056"/>
                  <a:pt x="22304" y="13091"/>
                  <a:pt x="22498" y="13072"/>
                </a:cubicBezTo>
                <a:cubicBezTo>
                  <a:pt x="22703" y="13052"/>
                  <a:pt x="22893" y="13030"/>
                  <a:pt x="23093" y="13022"/>
                </a:cubicBezTo>
                <a:cubicBezTo>
                  <a:pt x="23413" y="13009"/>
                  <a:pt x="23746" y="13061"/>
                  <a:pt x="24061" y="12998"/>
                </a:cubicBezTo>
                <a:cubicBezTo>
                  <a:pt x="24175" y="12975"/>
                  <a:pt x="24238" y="12911"/>
                  <a:pt x="24284" y="12799"/>
                </a:cubicBezTo>
                <a:cubicBezTo>
                  <a:pt x="24302" y="12755"/>
                  <a:pt x="24314" y="12678"/>
                  <a:pt x="24309" y="12626"/>
                </a:cubicBezTo>
                <a:cubicBezTo>
                  <a:pt x="24299" y="12532"/>
                  <a:pt x="24281" y="12467"/>
                  <a:pt x="24209" y="12402"/>
                </a:cubicBezTo>
                <a:cubicBezTo>
                  <a:pt x="24137" y="12337"/>
                  <a:pt x="24181" y="12303"/>
                  <a:pt x="24135" y="12254"/>
                </a:cubicBezTo>
                <a:cubicBezTo>
                  <a:pt x="24116" y="12234"/>
                  <a:pt x="23994" y="12192"/>
                  <a:pt x="23961" y="12179"/>
                </a:cubicBezTo>
                <a:cubicBezTo>
                  <a:pt x="23880" y="12146"/>
                  <a:pt x="23795" y="12147"/>
                  <a:pt x="23713" y="12129"/>
                </a:cubicBezTo>
                <a:cubicBezTo>
                  <a:pt x="23651" y="12115"/>
                  <a:pt x="23607" y="12107"/>
                  <a:pt x="23540" y="12105"/>
                </a:cubicBezTo>
                <a:cubicBezTo>
                  <a:pt x="23265" y="12096"/>
                  <a:pt x="22993" y="12104"/>
                  <a:pt x="22721" y="12080"/>
                </a:cubicBezTo>
                <a:cubicBezTo>
                  <a:pt x="22594" y="12069"/>
                  <a:pt x="22476" y="12033"/>
                  <a:pt x="22349" y="12030"/>
                </a:cubicBezTo>
                <a:cubicBezTo>
                  <a:pt x="22115" y="12024"/>
                  <a:pt x="21886" y="12041"/>
                  <a:pt x="21654" y="12055"/>
                </a:cubicBezTo>
                <a:cubicBezTo>
                  <a:pt x="21480" y="12066"/>
                  <a:pt x="21302" y="12032"/>
                  <a:pt x="21134" y="12080"/>
                </a:cubicBezTo>
                <a:cubicBezTo>
                  <a:pt x="21032" y="12109"/>
                  <a:pt x="20912" y="12150"/>
                  <a:pt x="20836" y="12229"/>
                </a:cubicBezTo>
                <a:cubicBezTo>
                  <a:pt x="20727" y="12342"/>
                  <a:pt x="20655" y="12494"/>
                  <a:pt x="20638" y="12650"/>
                </a:cubicBezTo>
                <a:cubicBezTo>
                  <a:pt x="20623" y="12787"/>
                  <a:pt x="20701" y="12921"/>
                  <a:pt x="20836" y="12973"/>
                </a:cubicBezTo>
                <a:cubicBezTo>
                  <a:pt x="20969" y="13024"/>
                  <a:pt x="21102" y="12973"/>
                  <a:pt x="21233" y="129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05160" y="4929120"/>
            <a:ext cx="2125800" cy="162000"/>
          </a:xfrm>
          <a:custGeom>
            <a:avLst/>
            <a:gdLst/>
            <a:ahLst/>
            <a:rect l="l" t="t" r="r" b="b"/>
            <a:pathLst>
              <a:path w="5905" h="448">
                <a:moveTo>
                  <a:pt x="11956" y="13940"/>
                </a:moveTo>
                <a:cubicBezTo>
                  <a:pt x="12053" y="13903"/>
                  <a:pt x="12081" y="13932"/>
                  <a:pt x="12179" y="13940"/>
                </a:cubicBezTo>
                <a:cubicBezTo>
                  <a:pt x="12362" y="13955"/>
                  <a:pt x="12540" y="13965"/>
                  <a:pt x="12725" y="13965"/>
                </a:cubicBezTo>
                <a:cubicBezTo>
                  <a:pt x="12886" y="13965"/>
                  <a:pt x="13036" y="13990"/>
                  <a:pt x="13196" y="13990"/>
                </a:cubicBezTo>
                <a:cubicBezTo>
                  <a:pt x="13438" y="13990"/>
                  <a:pt x="13676" y="13994"/>
                  <a:pt x="13915" y="14015"/>
                </a:cubicBezTo>
                <a:cubicBezTo>
                  <a:pt x="13968" y="14020"/>
                  <a:pt x="14109" y="14018"/>
                  <a:pt x="14064" y="13990"/>
                </a:cubicBezTo>
                <a:cubicBezTo>
                  <a:pt x="14039" y="13990"/>
                  <a:pt x="14031" y="13990"/>
                  <a:pt x="14015" y="13990"/>
                </a:cubicBezTo>
              </a:path>
              <a:path w="5905" h="448">
                <a:moveTo>
                  <a:pt x="11683" y="13717"/>
                </a:moveTo>
                <a:cubicBezTo>
                  <a:pt x="11782" y="13697"/>
                  <a:pt x="11846" y="13710"/>
                  <a:pt x="11956" y="13717"/>
                </a:cubicBezTo>
                <a:cubicBezTo>
                  <a:pt x="12155" y="13730"/>
                  <a:pt x="12353" y="13735"/>
                  <a:pt x="12551" y="13767"/>
                </a:cubicBezTo>
                <a:cubicBezTo>
                  <a:pt x="12732" y="13796"/>
                  <a:pt x="12916" y="13828"/>
                  <a:pt x="13097" y="13841"/>
                </a:cubicBezTo>
                <a:cubicBezTo>
                  <a:pt x="13547" y="13873"/>
                  <a:pt x="14010" y="13841"/>
                  <a:pt x="14461" y="13841"/>
                </a:cubicBezTo>
              </a:path>
              <a:path w="5905" h="448">
                <a:moveTo>
                  <a:pt x="15304" y="13767"/>
                </a:moveTo>
                <a:cubicBezTo>
                  <a:pt x="15347" y="13765"/>
                  <a:pt x="15260" y="13618"/>
                  <a:pt x="15329" y="13866"/>
                </a:cubicBezTo>
                <a:cubicBezTo>
                  <a:pt x="15396" y="14109"/>
                  <a:pt x="15556" y="13990"/>
                  <a:pt x="15677" y="13841"/>
                </a:cubicBezTo>
                <a:cubicBezTo>
                  <a:pt x="15693" y="13808"/>
                  <a:pt x="15710" y="13775"/>
                  <a:pt x="15726" y="13742"/>
                </a:cubicBezTo>
                <a:cubicBezTo>
                  <a:pt x="15714" y="13840"/>
                  <a:pt x="15667" y="13945"/>
                  <a:pt x="15801" y="13990"/>
                </a:cubicBezTo>
                <a:cubicBezTo>
                  <a:pt x="15953" y="14041"/>
                  <a:pt x="16010" y="13884"/>
                  <a:pt x="16073" y="13791"/>
                </a:cubicBezTo>
                <a:cubicBezTo>
                  <a:pt x="16086" y="13904"/>
                  <a:pt x="16063" y="13990"/>
                  <a:pt x="16222" y="13990"/>
                </a:cubicBezTo>
                <a:cubicBezTo>
                  <a:pt x="16359" y="13990"/>
                  <a:pt x="16355" y="13935"/>
                  <a:pt x="16446" y="13866"/>
                </a:cubicBezTo>
                <a:cubicBezTo>
                  <a:pt x="16446" y="13939"/>
                  <a:pt x="16420" y="13975"/>
                  <a:pt x="16520" y="13990"/>
                </a:cubicBezTo>
                <a:cubicBezTo>
                  <a:pt x="16670" y="14012"/>
                  <a:pt x="16777" y="13910"/>
                  <a:pt x="16892" y="13841"/>
                </a:cubicBezTo>
                <a:cubicBezTo>
                  <a:pt x="16877" y="13899"/>
                  <a:pt x="16853" y="13965"/>
                  <a:pt x="16966" y="13965"/>
                </a:cubicBezTo>
                <a:cubicBezTo>
                  <a:pt x="17108" y="13965"/>
                  <a:pt x="17116" y="13894"/>
                  <a:pt x="17214" y="13816"/>
                </a:cubicBezTo>
                <a:cubicBezTo>
                  <a:pt x="17206" y="13816"/>
                  <a:pt x="17130" y="13877"/>
                  <a:pt x="17239" y="13915"/>
                </a:cubicBezTo>
                <a:cubicBezTo>
                  <a:pt x="17325" y="13945"/>
                  <a:pt x="17517" y="13790"/>
                  <a:pt x="17388" y="13816"/>
                </a:cubicBezTo>
              </a:path>
              <a:path w="5905" h="448">
                <a:moveTo>
                  <a:pt x="17388" y="13841"/>
                </a:moveTo>
                <a:lnTo>
                  <a:pt x="17388" y="13841"/>
                </a:lnTo>
                <a:lnTo>
                  <a:pt x="17388" y="13841"/>
                </a:lnTo>
              </a:path>
              <a:path w="5905" h="448">
                <a:moveTo>
                  <a:pt x="15354" y="13915"/>
                </a:moveTo>
                <a:cubicBezTo>
                  <a:pt x="15372" y="14025"/>
                  <a:pt x="15350" y="14183"/>
                  <a:pt x="15528" y="14139"/>
                </a:cubicBezTo>
                <a:cubicBezTo>
                  <a:pt x="15688" y="14100"/>
                  <a:pt x="15791" y="13950"/>
                  <a:pt x="15900" y="13841"/>
                </a:cubicBezTo>
                <a:cubicBezTo>
                  <a:pt x="15920" y="14011"/>
                  <a:pt x="15955" y="14216"/>
                  <a:pt x="16197" y="14139"/>
                </a:cubicBezTo>
                <a:cubicBezTo>
                  <a:pt x="16340" y="14043"/>
                  <a:pt x="16385" y="14014"/>
                  <a:pt x="16470" y="13940"/>
                </a:cubicBezTo>
                <a:cubicBezTo>
                  <a:pt x="16527" y="14110"/>
                  <a:pt x="16624" y="14084"/>
                  <a:pt x="16768" y="13990"/>
                </a:cubicBezTo>
                <a:cubicBezTo>
                  <a:pt x="16857" y="13919"/>
                  <a:pt x="16854" y="13886"/>
                  <a:pt x="16917" y="13891"/>
                </a:cubicBezTo>
                <a:cubicBezTo>
                  <a:pt x="17008" y="14095"/>
                  <a:pt x="17081" y="14002"/>
                  <a:pt x="17289" y="13940"/>
                </a:cubicBezTo>
                <a:cubicBezTo>
                  <a:pt x="17524" y="13871"/>
                  <a:pt x="17447" y="13926"/>
                  <a:pt x="17587" y="13940"/>
                </a:cubicBezTo>
                <a:cubicBezTo>
                  <a:pt x="17587" y="13932"/>
                  <a:pt x="17587" y="13923"/>
                  <a:pt x="17587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05760" y="5429160"/>
            <a:ext cx="839520" cy="44640"/>
          </a:xfrm>
          <a:custGeom>
            <a:avLst/>
            <a:gdLst/>
            <a:ahLst/>
            <a:rect l="l" t="t" r="r" b="b"/>
            <a:pathLst>
              <a:path w="2333" h="125">
                <a:moveTo>
                  <a:pt x="20017" y="15205"/>
                </a:moveTo>
                <a:cubicBezTo>
                  <a:pt x="20047" y="15187"/>
                  <a:pt x="20075" y="15180"/>
                  <a:pt x="20141" y="15180"/>
                </a:cubicBezTo>
                <a:cubicBezTo>
                  <a:pt x="20294" y="15180"/>
                  <a:pt x="20438" y="15196"/>
                  <a:pt x="20588" y="15205"/>
                </a:cubicBezTo>
                <a:cubicBezTo>
                  <a:pt x="20862" y="15222"/>
                  <a:pt x="21135" y="15193"/>
                  <a:pt x="21406" y="15180"/>
                </a:cubicBezTo>
                <a:cubicBezTo>
                  <a:pt x="21637" y="15169"/>
                  <a:pt x="21872" y="15159"/>
                  <a:pt x="22101" y="15131"/>
                </a:cubicBezTo>
                <a:cubicBezTo>
                  <a:pt x="22187" y="15121"/>
                  <a:pt x="22270" y="15103"/>
                  <a:pt x="22349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8320" y="6081840"/>
            <a:ext cx="561960" cy="34920"/>
          </a:xfrm>
          <a:custGeom>
            <a:avLst/>
            <a:gdLst/>
            <a:ahLst/>
            <a:rect l="l" t="t" r="r" b="b"/>
            <a:pathLst>
              <a:path w="1564" h="100">
                <a:moveTo>
                  <a:pt x="6474" y="16892"/>
                </a:moveTo>
                <a:cubicBezTo>
                  <a:pt x="6128" y="16920"/>
                  <a:pt x="5777" y="16895"/>
                  <a:pt x="5432" y="16942"/>
                </a:cubicBezTo>
                <a:cubicBezTo>
                  <a:pt x="5247" y="16967"/>
                  <a:pt x="5096" y="16991"/>
                  <a:pt x="4911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0 is increased by 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,700 is decreased by 13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,000 is increased by 14.6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0920" y="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find the percentage of increase or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17880" y="1044720"/>
            <a:ext cx="117360" cy="179280"/>
          </a:xfrm>
          <a:custGeom>
            <a:avLst/>
            <a:gdLst/>
            <a:ahLst/>
            <a:rect l="l" t="t" r="r" b="b"/>
            <a:pathLst>
              <a:path w="323" h="497">
                <a:moveTo>
                  <a:pt x="8582" y="2927"/>
                </a:moveTo>
                <a:cubicBezTo>
                  <a:pt x="8582" y="2902"/>
                  <a:pt x="8582" y="2894"/>
                  <a:pt x="8558" y="2902"/>
                </a:cubicBezTo>
                <a:cubicBezTo>
                  <a:pt x="8558" y="3022"/>
                  <a:pt x="8579" y="3132"/>
                  <a:pt x="8607" y="3249"/>
                </a:cubicBezTo>
                <a:cubicBezTo>
                  <a:pt x="8625" y="3324"/>
                  <a:pt x="8643" y="3342"/>
                  <a:pt x="8657" y="3398"/>
                </a:cubicBezTo>
              </a:path>
              <a:path w="323" h="497">
                <a:moveTo>
                  <a:pt x="8409" y="3150"/>
                </a:moveTo>
                <a:cubicBezTo>
                  <a:pt x="8342" y="3150"/>
                  <a:pt x="8492" y="3159"/>
                  <a:pt x="8558" y="3175"/>
                </a:cubicBezTo>
                <a:cubicBezTo>
                  <a:pt x="8623" y="3190"/>
                  <a:pt x="8682" y="3189"/>
                  <a:pt x="8706" y="32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10160" y="785880"/>
            <a:ext cx="1527120" cy="768240"/>
          </a:xfrm>
          <a:custGeom>
            <a:avLst/>
            <a:gdLst/>
            <a:ahLst/>
            <a:rect l="l" t="t" r="r" b="b"/>
            <a:pathLst>
              <a:path w="4243" h="2134">
                <a:moveTo>
                  <a:pt x="15304" y="3349"/>
                </a:moveTo>
                <a:cubicBezTo>
                  <a:pt x="15411" y="3306"/>
                  <a:pt x="15559" y="3246"/>
                  <a:pt x="15677" y="3274"/>
                </a:cubicBezTo>
                <a:cubicBezTo>
                  <a:pt x="15677" y="3282"/>
                  <a:pt x="15677" y="3291"/>
                  <a:pt x="15677" y="3299"/>
                </a:cubicBezTo>
              </a:path>
              <a:path w="4243" h="2134">
                <a:moveTo>
                  <a:pt x="15503" y="3473"/>
                </a:moveTo>
                <a:cubicBezTo>
                  <a:pt x="15614" y="3468"/>
                  <a:pt x="15716" y="3458"/>
                  <a:pt x="15825" y="3448"/>
                </a:cubicBezTo>
              </a:path>
              <a:path w="4243" h="2134">
                <a:moveTo>
                  <a:pt x="16470" y="2902"/>
                </a:moveTo>
                <a:cubicBezTo>
                  <a:pt x="16470" y="3049"/>
                  <a:pt x="16478" y="3207"/>
                  <a:pt x="16470" y="3349"/>
                </a:cubicBezTo>
                <a:cubicBezTo>
                  <a:pt x="16449" y="3456"/>
                  <a:pt x="16441" y="3480"/>
                  <a:pt x="16446" y="3547"/>
                </a:cubicBezTo>
              </a:path>
              <a:path w="4243" h="2134">
                <a:moveTo>
                  <a:pt x="16818" y="3597"/>
                </a:moveTo>
                <a:cubicBezTo>
                  <a:pt x="16779" y="3674"/>
                  <a:pt x="16780" y="3689"/>
                  <a:pt x="16743" y="3721"/>
                </a:cubicBezTo>
              </a:path>
              <a:path w="4243" h="2134">
                <a:moveTo>
                  <a:pt x="17214" y="3101"/>
                </a:moveTo>
                <a:cubicBezTo>
                  <a:pt x="17153" y="3257"/>
                  <a:pt x="17165" y="3426"/>
                  <a:pt x="17165" y="3597"/>
                </a:cubicBezTo>
                <a:cubicBezTo>
                  <a:pt x="17165" y="3621"/>
                  <a:pt x="17165" y="3629"/>
                  <a:pt x="17165" y="3597"/>
                </a:cubicBezTo>
              </a:path>
              <a:path w="4243" h="2134">
                <a:moveTo>
                  <a:pt x="17537" y="3101"/>
                </a:moveTo>
                <a:cubicBezTo>
                  <a:pt x="17533" y="3129"/>
                  <a:pt x="17482" y="3269"/>
                  <a:pt x="17512" y="3299"/>
                </a:cubicBezTo>
                <a:cubicBezTo>
                  <a:pt x="17587" y="3373"/>
                  <a:pt x="17774" y="3317"/>
                  <a:pt x="17859" y="3299"/>
                </a:cubicBezTo>
              </a:path>
              <a:path w="4243" h="2134">
                <a:moveTo>
                  <a:pt x="17884" y="2927"/>
                </a:moveTo>
                <a:cubicBezTo>
                  <a:pt x="17853" y="3108"/>
                  <a:pt x="17819" y="3290"/>
                  <a:pt x="17810" y="3473"/>
                </a:cubicBezTo>
                <a:cubicBezTo>
                  <a:pt x="17810" y="3507"/>
                  <a:pt x="17819" y="3511"/>
                  <a:pt x="17859" y="3473"/>
                </a:cubicBezTo>
              </a:path>
              <a:path w="4243" h="2134">
                <a:moveTo>
                  <a:pt x="18157" y="2977"/>
                </a:moveTo>
                <a:cubicBezTo>
                  <a:pt x="18135" y="3049"/>
                  <a:pt x="18050" y="3217"/>
                  <a:pt x="18107" y="3274"/>
                </a:cubicBezTo>
                <a:cubicBezTo>
                  <a:pt x="18209" y="3376"/>
                  <a:pt x="18349" y="3296"/>
                  <a:pt x="18455" y="3274"/>
                </a:cubicBezTo>
              </a:path>
              <a:path w="4243" h="2134">
                <a:moveTo>
                  <a:pt x="18380" y="2803"/>
                </a:moveTo>
                <a:cubicBezTo>
                  <a:pt x="18380" y="3045"/>
                  <a:pt x="18388" y="3282"/>
                  <a:pt x="18405" y="3522"/>
                </a:cubicBezTo>
                <a:cubicBezTo>
                  <a:pt x="18405" y="3547"/>
                  <a:pt x="18405" y="3572"/>
                  <a:pt x="18405" y="3597"/>
                </a:cubicBezTo>
              </a:path>
              <a:path w="4243" h="2134">
                <a:moveTo>
                  <a:pt x="15528" y="4043"/>
                </a:moveTo>
                <a:cubicBezTo>
                  <a:pt x="15949" y="4128"/>
                  <a:pt x="16339" y="4215"/>
                  <a:pt x="16768" y="4266"/>
                </a:cubicBezTo>
                <a:cubicBezTo>
                  <a:pt x="17335" y="4333"/>
                  <a:pt x="17892" y="4341"/>
                  <a:pt x="18455" y="4217"/>
                </a:cubicBezTo>
                <a:cubicBezTo>
                  <a:pt x="18826" y="4135"/>
                  <a:pt x="19135" y="3939"/>
                  <a:pt x="19372" y="3646"/>
                </a:cubicBezTo>
                <a:cubicBezTo>
                  <a:pt x="19526" y="3455"/>
                  <a:pt x="19605" y="3292"/>
                  <a:pt x="19496" y="3051"/>
                </a:cubicBezTo>
                <a:cubicBezTo>
                  <a:pt x="19353" y="2733"/>
                  <a:pt x="19071" y="2524"/>
                  <a:pt x="18752" y="2406"/>
                </a:cubicBezTo>
                <a:cubicBezTo>
                  <a:pt x="18331" y="2250"/>
                  <a:pt x="17813" y="2148"/>
                  <a:pt x="17363" y="2183"/>
                </a:cubicBezTo>
                <a:cubicBezTo>
                  <a:pt x="17083" y="2204"/>
                  <a:pt x="16724" y="2310"/>
                  <a:pt x="16495" y="2480"/>
                </a:cubicBezTo>
                <a:cubicBezTo>
                  <a:pt x="16337" y="2598"/>
                  <a:pt x="16185" y="2815"/>
                  <a:pt x="16073" y="2977"/>
                </a:cubicBezTo>
                <a:cubicBezTo>
                  <a:pt x="15975" y="3119"/>
                  <a:pt x="15896" y="3321"/>
                  <a:pt x="15900" y="3497"/>
                </a:cubicBezTo>
                <a:cubicBezTo>
                  <a:pt x="15903" y="3612"/>
                  <a:pt x="15942" y="3874"/>
                  <a:pt x="16049" y="3944"/>
                </a:cubicBezTo>
                <a:cubicBezTo>
                  <a:pt x="16135" y="4000"/>
                  <a:pt x="16140" y="3966"/>
                  <a:pt x="16222" y="39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13200" y="1830240"/>
            <a:ext cx="36720" cy="44640"/>
          </a:xfrm>
          <a:custGeom>
            <a:avLst/>
            <a:gdLst/>
            <a:ahLst/>
            <a:rect l="l" t="t" r="r" b="b"/>
            <a:pathLst>
              <a:path w="100" h="125">
                <a:moveTo>
                  <a:pt x="13444" y="5085"/>
                </a:moveTo>
                <a:cubicBezTo>
                  <a:pt x="13364" y="5085"/>
                  <a:pt x="13381" y="5133"/>
                  <a:pt x="13370" y="5209"/>
                </a:cubicBezTo>
                <a:cubicBezTo>
                  <a:pt x="13481" y="5175"/>
                  <a:pt x="13463" y="5203"/>
                  <a:pt x="13444" y="51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73760" y="1625760"/>
            <a:ext cx="357120" cy="249120"/>
          </a:xfrm>
          <a:custGeom>
            <a:avLst/>
            <a:gdLst/>
            <a:ahLst/>
            <a:rect l="l" t="t" r="r" b="b"/>
            <a:pathLst>
              <a:path w="993" h="696">
                <a:moveTo>
                  <a:pt x="13915" y="4663"/>
                </a:moveTo>
                <a:cubicBezTo>
                  <a:pt x="13915" y="4824"/>
                  <a:pt x="13873" y="5035"/>
                  <a:pt x="13891" y="5184"/>
                </a:cubicBezTo>
                <a:cubicBezTo>
                  <a:pt x="13899" y="5184"/>
                  <a:pt x="13907" y="5184"/>
                  <a:pt x="13915" y="5184"/>
                </a:cubicBezTo>
              </a:path>
              <a:path w="993" h="696">
                <a:moveTo>
                  <a:pt x="14064" y="4738"/>
                </a:moveTo>
                <a:cubicBezTo>
                  <a:pt x="13922" y="4738"/>
                  <a:pt x="13925" y="4892"/>
                  <a:pt x="13891" y="5011"/>
                </a:cubicBezTo>
                <a:cubicBezTo>
                  <a:pt x="13867" y="5106"/>
                  <a:pt x="13856" y="5135"/>
                  <a:pt x="13915" y="5184"/>
                </a:cubicBezTo>
                <a:cubicBezTo>
                  <a:pt x="14098" y="5156"/>
                  <a:pt x="14193" y="5070"/>
                  <a:pt x="14163" y="4862"/>
                </a:cubicBezTo>
                <a:cubicBezTo>
                  <a:pt x="14143" y="4721"/>
                  <a:pt x="13974" y="4548"/>
                  <a:pt x="13841" y="4688"/>
                </a:cubicBezTo>
                <a:cubicBezTo>
                  <a:pt x="13822" y="4745"/>
                  <a:pt x="13813" y="4752"/>
                  <a:pt x="13816" y="4787"/>
                </a:cubicBezTo>
              </a:path>
              <a:path w="993" h="696">
                <a:moveTo>
                  <a:pt x="14461" y="4713"/>
                </a:moveTo>
                <a:cubicBezTo>
                  <a:pt x="14448" y="4804"/>
                  <a:pt x="14423" y="4894"/>
                  <a:pt x="14412" y="4986"/>
                </a:cubicBezTo>
                <a:cubicBezTo>
                  <a:pt x="14523" y="5014"/>
                  <a:pt x="14701" y="4965"/>
                  <a:pt x="14808" y="4887"/>
                </a:cubicBezTo>
                <a:cubicBezTo>
                  <a:pt x="14808" y="4879"/>
                  <a:pt x="14808" y="4870"/>
                  <a:pt x="14808" y="4862"/>
                </a:cubicBezTo>
              </a:path>
              <a:path w="993" h="696">
                <a:moveTo>
                  <a:pt x="14808" y="4514"/>
                </a:moveTo>
                <a:cubicBezTo>
                  <a:pt x="14783" y="4746"/>
                  <a:pt x="14772" y="4982"/>
                  <a:pt x="14734" y="52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26080" y="1697040"/>
            <a:ext cx="133200" cy="152280"/>
          </a:xfrm>
          <a:custGeom>
            <a:avLst/>
            <a:gdLst/>
            <a:ahLst/>
            <a:rect l="l" t="t" r="r" b="b"/>
            <a:pathLst>
              <a:path w="373" h="423">
                <a:moveTo>
                  <a:pt x="15627" y="4738"/>
                </a:moveTo>
                <a:cubicBezTo>
                  <a:pt x="15727" y="4826"/>
                  <a:pt x="15809" y="4952"/>
                  <a:pt x="15900" y="5060"/>
                </a:cubicBezTo>
                <a:cubicBezTo>
                  <a:pt x="15908" y="5068"/>
                  <a:pt x="15917" y="5077"/>
                  <a:pt x="15925" y="5085"/>
                </a:cubicBezTo>
              </a:path>
              <a:path w="373" h="423">
                <a:moveTo>
                  <a:pt x="15999" y="4713"/>
                </a:moveTo>
                <a:cubicBezTo>
                  <a:pt x="15909" y="4855"/>
                  <a:pt x="15819" y="4995"/>
                  <a:pt x="15726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92840" y="1608120"/>
            <a:ext cx="54000" cy="258840"/>
          </a:xfrm>
          <a:custGeom>
            <a:avLst/>
            <a:gdLst/>
            <a:ahLst/>
            <a:rect l="l" t="t" r="r" b="b"/>
            <a:pathLst>
              <a:path w="150" h="720">
                <a:moveTo>
                  <a:pt x="16371" y="4465"/>
                </a:moveTo>
                <a:cubicBezTo>
                  <a:pt x="16463" y="4615"/>
                  <a:pt x="16584" y="4889"/>
                  <a:pt x="16520" y="5085"/>
                </a:cubicBezTo>
                <a:cubicBezTo>
                  <a:pt x="16495" y="5118"/>
                  <a:pt x="16471" y="5151"/>
                  <a:pt x="16446" y="51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54840" y="1874880"/>
            <a:ext cx="9360" cy="54000"/>
          </a:xfrm>
          <a:custGeom>
            <a:avLst/>
            <a:gdLst/>
            <a:ahLst/>
            <a:rect l="l" t="t" r="r" b="b"/>
            <a:pathLst>
              <a:path w="25" h="150">
                <a:moveTo>
                  <a:pt x="16818" y="5209"/>
                </a:moveTo>
                <a:cubicBezTo>
                  <a:pt x="16836" y="5300"/>
                  <a:pt x="16844" y="5307"/>
                  <a:pt x="16842" y="53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88040" y="1660680"/>
            <a:ext cx="36720" cy="214200"/>
          </a:xfrm>
          <a:custGeom>
            <a:avLst/>
            <a:gdLst/>
            <a:ahLst/>
            <a:rect l="l" t="t" r="r" b="b"/>
            <a:pathLst>
              <a:path w="100" h="596">
                <a:moveTo>
                  <a:pt x="17190" y="4614"/>
                </a:moveTo>
                <a:cubicBezTo>
                  <a:pt x="17218" y="4814"/>
                  <a:pt x="17240" y="5014"/>
                  <a:pt x="17289" y="52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30960" y="1670040"/>
            <a:ext cx="366840" cy="214200"/>
          </a:xfrm>
          <a:custGeom>
            <a:avLst/>
            <a:gdLst/>
            <a:ahLst/>
            <a:rect l="l" t="t" r="r" b="b"/>
            <a:pathLst>
              <a:path w="1018" h="597">
                <a:moveTo>
                  <a:pt x="17760" y="4663"/>
                </a:moveTo>
                <a:cubicBezTo>
                  <a:pt x="17703" y="4682"/>
                  <a:pt x="17560" y="4946"/>
                  <a:pt x="17587" y="5085"/>
                </a:cubicBezTo>
                <a:cubicBezTo>
                  <a:pt x="17612" y="5118"/>
                  <a:pt x="17636" y="5151"/>
                  <a:pt x="17661" y="5184"/>
                </a:cubicBezTo>
                <a:cubicBezTo>
                  <a:pt x="17833" y="5138"/>
                  <a:pt x="18170" y="4988"/>
                  <a:pt x="17884" y="4762"/>
                </a:cubicBezTo>
                <a:cubicBezTo>
                  <a:pt x="17790" y="4744"/>
                  <a:pt x="17770" y="4757"/>
                  <a:pt x="17735" y="4713"/>
                </a:cubicBezTo>
              </a:path>
              <a:path w="1018" h="597">
                <a:moveTo>
                  <a:pt x="18256" y="4713"/>
                </a:moveTo>
                <a:cubicBezTo>
                  <a:pt x="18181" y="4929"/>
                  <a:pt x="18170" y="5009"/>
                  <a:pt x="18281" y="5209"/>
                </a:cubicBezTo>
                <a:cubicBezTo>
                  <a:pt x="18444" y="5209"/>
                  <a:pt x="18736" y="5120"/>
                  <a:pt x="18579" y="4862"/>
                </a:cubicBezTo>
                <a:cubicBezTo>
                  <a:pt x="18538" y="4795"/>
                  <a:pt x="18367" y="4767"/>
                  <a:pt x="18331" y="47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12000" y="1731960"/>
            <a:ext cx="106200" cy="90360"/>
          </a:xfrm>
          <a:custGeom>
            <a:avLst/>
            <a:gdLst/>
            <a:ahLst/>
            <a:rect l="l" t="t" r="r" b="b"/>
            <a:pathLst>
              <a:path w="298" h="249">
                <a:moveTo>
                  <a:pt x="19199" y="4862"/>
                </a:moveTo>
                <a:cubicBezTo>
                  <a:pt x="19300" y="4821"/>
                  <a:pt x="19374" y="4795"/>
                  <a:pt x="19472" y="4837"/>
                </a:cubicBezTo>
              </a:path>
              <a:path w="298" h="249">
                <a:moveTo>
                  <a:pt x="19248" y="5060"/>
                </a:moveTo>
                <a:cubicBezTo>
                  <a:pt x="19344" y="5054"/>
                  <a:pt x="19407" y="5046"/>
                  <a:pt x="19496" y="50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77040" y="1562040"/>
            <a:ext cx="376200" cy="331920"/>
          </a:xfrm>
          <a:custGeom>
            <a:avLst/>
            <a:gdLst/>
            <a:ahLst/>
            <a:rect l="l" t="t" r="r" b="b"/>
            <a:pathLst>
              <a:path w="1043" h="919">
                <a:moveTo>
                  <a:pt x="20265" y="4465"/>
                </a:moveTo>
                <a:cubicBezTo>
                  <a:pt x="20249" y="4539"/>
                  <a:pt x="20150" y="4762"/>
                  <a:pt x="20241" y="4837"/>
                </a:cubicBezTo>
                <a:cubicBezTo>
                  <a:pt x="20316" y="4899"/>
                  <a:pt x="20500" y="4883"/>
                  <a:pt x="20588" y="4887"/>
                </a:cubicBezTo>
              </a:path>
              <a:path w="1043" h="919">
                <a:moveTo>
                  <a:pt x="20638" y="4440"/>
                </a:moveTo>
                <a:cubicBezTo>
                  <a:pt x="20629" y="4570"/>
                  <a:pt x="20481" y="5034"/>
                  <a:pt x="20563" y="5135"/>
                </a:cubicBezTo>
                <a:cubicBezTo>
                  <a:pt x="20571" y="5110"/>
                  <a:pt x="20580" y="5085"/>
                  <a:pt x="20588" y="5060"/>
                </a:cubicBezTo>
              </a:path>
              <a:path w="1043" h="919">
                <a:moveTo>
                  <a:pt x="20935" y="4514"/>
                </a:moveTo>
                <a:cubicBezTo>
                  <a:pt x="20907" y="4592"/>
                  <a:pt x="20825" y="4772"/>
                  <a:pt x="20886" y="4837"/>
                </a:cubicBezTo>
                <a:cubicBezTo>
                  <a:pt x="20987" y="4945"/>
                  <a:pt x="21142" y="4873"/>
                  <a:pt x="21258" y="4837"/>
                </a:cubicBezTo>
              </a:path>
              <a:path w="1043" h="919">
                <a:moveTo>
                  <a:pt x="21258" y="4341"/>
                </a:moveTo>
                <a:cubicBezTo>
                  <a:pt x="21206" y="4620"/>
                  <a:pt x="21159" y="4901"/>
                  <a:pt x="21134" y="5184"/>
                </a:cubicBezTo>
                <a:cubicBezTo>
                  <a:pt x="21134" y="5209"/>
                  <a:pt x="21134" y="5234"/>
                  <a:pt x="21134" y="52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2000" y="758880"/>
            <a:ext cx="73080" cy="179280"/>
          </a:xfrm>
          <a:custGeom>
            <a:avLst/>
            <a:gdLst/>
            <a:ahLst/>
            <a:rect l="l" t="t" r="r" b="b"/>
            <a:pathLst>
              <a:path w="199" h="497">
                <a:moveTo>
                  <a:pt x="2977" y="2133"/>
                </a:moveTo>
                <a:cubicBezTo>
                  <a:pt x="2952" y="2133"/>
                  <a:pt x="2944" y="2133"/>
                  <a:pt x="2952" y="2108"/>
                </a:cubicBezTo>
                <a:cubicBezTo>
                  <a:pt x="2969" y="2244"/>
                  <a:pt x="3041" y="2404"/>
                  <a:pt x="3101" y="2530"/>
                </a:cubicBezTo>
                <a:cubicBezTo>
                  <a:pt x="3117" y="2555"/>
                  <a:pt x="3134" y="2579"/>
                  <a:pt x="3150" y="26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68280" y="820800"/>
            <a:ext cx="536760" cy="179280"/>
          </a:xfrm>
          <a:custGeom>
            <a:avLst/>
            <a:gdLst/>
            <a:ahLst/>
            <a:rect l="l" t="t" r="r" b="b"/>
            <a:pathLst>
              <a:path w="1490" h="497">
                <a:moveTo>
                  <a:pt x="3522" y="2604"/>
                </a:moveTo>
                <a:cubicBezTo>
                  <a:pt x="3550" y="2660"/>
                  <a:pt x="3564" y="2692"/>
                  <a:pt x="3572" y="2753"/>
                </a:cubicBezTo>
              </a:path>
              <a:path w="1490" h="497">
                <a:moveTo>
                  <a:pt x="3696" y="2307"/>
                </a:moveTo>
                <a:cubicBezTo>
                  <a:pt x="3735" y="2404"/>
                  <a:pt x="3808" y="2509"/>
                  <a:pt x="3870" y="2604"/>
                </a:cubicBezTo>
                <a:cubicBezTo>
                  <a:pt x="3886" y="2629"/>
                  <a:pt x="3903" y="2654"/>
                  <a:pt x="3919" y="2679"/>
                </a:cubicBezTo>
              </a:path>
              <a:path w="1490" h="497">
                <a:moveTo>
                  <a:pt x="4068" y="2282"/>
                </a:moveTo>
                <a:cubicBezTo>
                  <a:pt x="4068" y="2384"/>
                  <a:pt x="4038" y="2452"/>
                  <a:pt x="4068" y="2555"/>
                </a:cubicBezTo>
                <a:cubicBezTo>
                  <a:pt x="4122" y="2738"/>
                  <a:pt x="4355" y="2813"/>
                  <a:pt x="4465" y="2604"/>
                </a:cubicBezTo>
                <a:cubicBezTo>
                  <a:pt x="4583" y="2379"/>
                  <a:pt x="4209" y="2339"/>
                  <a:pt x="4093" y="2332"/>
                </a:cubicBezTo>
                <a:cubicBezTo>
                  <a:pt x="4076" y="2332"/>
                  <a:pt x="4060" y="2332"/>
                  <a:pt x="4043" y="2332"/>
                </a:cubicBezTo>
              </a:path>
              <a:path w="1490" h="497">
                <a:moveTo>
                  <a:pt x="4713" y="2332"/>
                </a:moveTo>
                <a:cubicBezTo>
                  <a:pt x="4649" y="2475"/>
                  <a:pt x="4661" y="2551"/>
                  <a:pt x="4762" y="2679"/>
                </a:cubicBezTo>
                <a:cubicBezTo>
                  <a:pt x="4825" y="2741"/>
                  <a:pt x="4836" y="2759"/>
                  <a:pt x="4887" y="2778"/>
                </a:cubicBezTo>
                <a:cubicBezTo>
                  <a:pt x="4985" y="2690"/>
                  <a:pt x="5077" y="2541"/>
                  <a:pt x="4961" y="2406"/>
                </a:cubicBezTo>
                <a:cubicBezTo>
                  <a:pt x="4890" y="2323"/>
                  <a:pt x="4749" y="2276"/>
                  <a:pt x="4688" y="23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05120" y="946080"/>
            <a:ext cx="287280" cy="223920"/>
          </a:xfrm>
          <a:custGeom>
            <a:avLst/>
            <a:gdLst/>
            <a:ahLst/>
            <a:rect l="l" t="t" r="r" b="b"/>
            <a:pathLst>
              <a:path w="795" h="621">
                <a:moveTo>
                  <a:pt x="10344" y="2803"/>
                </a:moveTo>
                <a:cubicBezTo>
                  <a:pt x="10344" y="2778"/>
                  <a:pt x="10344" y="2770"/>
                  <a:pt x="10344" y="2753"/>
                </a:cubicBezTo>
                <a:cubicBezTo>
                  <a:pt x="10322" y="2829"/>
                  <a:pt x="10229" y="2939"/>
                  <a:pt x="10344" y="2952"/>
                </a:cubicBezTo>
                <a:cubicBezTo>
                  <a:pt x="10524" y="2973"/>
                  <a:pt x="10535" y="2904"/>
                  <a:pt x="10616" y="2778"/>
                </a:cubicBezTo>
              </a:path>
              <a:path w="795" h="621">
                <a:moveTo>
                  <a:pt x="10542" y="2729"/>
                </a:moveTo>
                <a:cubicBezTo>
                  <a:pt x="10549" y="2882"/>
                  <a:pt x="10508" y="3303"/>
                  <a:pt x="10592" y="3175"/>
                </a:cubicBezTo>
                <a:cubicBezTo>
                  <a:pt x="10600" y="3142"/>
                  <a:pt x="10608" y="3109"/>
                  <a:pt x="10616" y="3076"/>
                </a:cubicBezTo>
              </a:path>
              <a:path w="795" h="621">
                <a:moveTo>
                  <a:pt x="10716" y="2729"/>
                </a:moveTo>
                <a:cubicBezTo>
                  <a:pt x="10705" y="2811"/>
                  <a:pt x="10654" y="2983"/>
                  <a:pt x="10740" y="3051"/>
                </a:cubicBezTo>
                <a:cubicBezTo>
                  <a:pt x="10857" y="3143"/>
                  <a:pt x="10956" y="2978"/>
                  <a:pt x="11013" y="2927"/>
                </a:cubicBezTo>
              </a:path>
              <a:path w="795" h="621">
                <a:moveTo>
                  <a:pt x="10988" y="2629"/>
                </a:moveTo>
                <a:cubicBezTo>
                  <a:pt x="10996" y="2849"/>
                  <a:pt x="11000" y="3050"/>
                  <a:pt x="11088" y="32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03880" y="3473280"/>
            <a:ext cx="71280" cy="54000"/>
          </a:xfrm>
          <a:custGeom>
            <a:avLst/>
            <a:gdLst/>
            <a:ahLst/>
            <a:rect l="l" t="t" r="r" b="b"/>
            <a:pathLst>
              <a:path w="199" h="150">
                <a:moveTo>
                  <a:pt x="14784" y="9674"/>
                </a:moveTo>
                <a:cubicBezTo>
                  <a:pt x="14784" y="9620"/>
                  <a:pt x="14746" y="9737"/>
                  <a:pt x="14734" y="9773"/>
                </a:cubicBezTo>
                <a:cubicBezTo>
                  <a:pt x="14811" y="9779"/>
                  <a:pt x="15011" y="9674"/>
                  <a:pt x="14883" y="9674"/>
                </a:cubicBezTo>
                <a:cubicBezTo>
                  <a:pt x="14799" y="9695"/>
                  <a:pt x="14780" y="9697"/>
                  <a:pt x="14734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27800" y="3303720"/>
            <a:ext cx="285480" cy="223560"/>
          </a:xfrm>
          <a:custGeom>
            <a:avLst/>
            <a:gdLst/>
            <a:ahLst/>
            <a:rect l="l" t="t" r="r" b="b"/>
            <a:pathLst>
              <a:path w="795" h="621">
                <a:moveTo>
                  <a:pt x="15379" y="9277"/>
                </a:moveTo>
                <a:lnTo>
                  <a:pt x="15354" y="9351"/>
                </a:lnTo>
                <a:lnTo>
                  <a:pt x="15354" y="9550"/>
                </a:lnTo>
                <a:lnTo>
                  <a:pt x="15379" y="9723"/>
                </a:lnTo>
                <a:lnTo>
                  <a:pt x="15379" y="9798"/>
                </a:lnTo>
                <a:lnTo>
                  <a:pt x="15379" y="9773"/>
                </a:lnTo>
              </a:path>
              <a:path w="795" h="621">
                <a:moveTo>
                  <a:pt x="15627" y="9252"/>
                </a:moveTo>
                <a:cubicBezTo>
                  <a:pt x="15723" y="9220"/>
                  <a:pt x="15856" y="9110"/>
                  <a:pt x="15949" y="9227"/>
                </a:cubicBezTo>
                <a:cubicBezTo>
                  <a:pt x="16019" y="9315"/>
                  <a:pt x="15938" y="9399"/>
                  <a:pt x="15900" y="9475"/>
                </a:cubicBezTo>
                <a:cubicBezTo>
                  <a:pt x="15876" y="9356"/>
                  <a:pt x="16100" y="9365"/>
                  <a:pt x="16148" y="9475"/>
                </a:cubicBezTo>
                <a:cubicBezTo>
                  <a:pt x="16202" y="9599"/>
                  <a:pt x="15974" y="9923"/>
                  <a:pt x="15850" y="9798"/>
                </a:cubicBezTo>
                <a:cubicBezTo>
                  <a:pt x="15858" y="9773"/>
                  <a:pt x="15867" y="9748"/>
                  <a:pt x="15875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97800" y="3062160"/>
            <a:ext cx="81000" cy="152640"/>
          </a:xfrm>
          <a:custGeom>
            <a:avLst/>
            <a:gdLst/>
            <a:ahLst/>
            <a:rect l="l" t="t" r="r" b="b"/>
            <a:pathLst>
              <a:path w="224" h="423">
                <a:moveTo>
                  <a:pt x="18604" y="8508"/>
                </a:moveTo>
                <a:cubicBezTo>
                  <a:pt x="18659" y="8632"/>
                  <a:pt x="18750" y="8761"/>
                  <a:pt x="18827" y="8880"/>
                </a:cubicBezTo>
              </a:path>
              <a:path w="224" h="423">
                <a:moveTo>
                  <a:pt x="18802" y="8558"/>
                </a:moveTo>
                <a:cubicBezTo>
                  <a:pt x="18686" y="8743"/>
                  <a:pt x="18650" y="8796"/>
                  <a:pt x="18604" y="8930"/>
                </a:cubicBezTo>
              </a:path>
              <a:path w="224" h="423">
                <a:moveTo>
                  <a:pt x="18604" y="8930"/>
                </a:moveTo>
                <a:lnTo>
                  <a:pt x="18604" y="893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85000" y="2813040"/>
            <a:ext cx="419040" cy="223920"/>
          </a:xfrm>
          <a:custGeom>
            <a:avLst/>
            <a:gdLst/>
            <a:ahLst/>
            <a:rect l="l" t="t" r="r" b="b"/>
            <a:pathLst>
              <a:path w="1167" h="622">
                <a:moveTo>
                  <a:pt x="19323" y="7863"/>
                </a:moveTo>
                <a:cubicBezTo>
                  <a:pt x="19495" y="7906"/>
                  <a:pt x="19651" y="8080"/>
                  <a:pt x="19447" y="8260"/>
                </a:cubicBezTo>
                <a:cubicBezTo>
                  <a:pt x="19292" y="8397"/>
                  <a:pt x="19224" y="8335"/>
                  <a:pt x="19124" y="8235"/>
                </a:cubicBezTo>
                <a:cubicBezTo>
                  <a:pt x="19287" y="8194"/>
                  <a:pt x="19346" y="8245"/>
                  <a:pt x="19496" y="8285"/>
                </a:cubicBezTo>
                <a:cubicBezTo>
                  <a:pt x="19513" y="8285"/>
                  <a:pt x="19529" y="8285"/>
                  <a:pt x="19546" y="8285"/>
                </a:cubicBezTo>
              </a:path>
              <a:path w="1167" h="622">
                <a:moveTo>
                  <a:pt x="19720" y="7838"/>
                </a:moveTo>
                <a:cubicBezTo>
                  <a:pt x="19720" y="7953"/>
                  <a:pt x="19756" y="8033"/>
                  <a:pt x="19893" y="8037"/>
                </a:cubicBezTo>
                <a:cubicBezTo>
                  <a:pt x="19926" y="8029"/>
                  <a:pt x="19960" y="8020"/>
                  <a:pt x="19993" y="8012"/>
                </a:cubicBezTo>
              </a:path>
              <a:path w="1167" h="622">
                <a:moveTo>
                  <a:pt x="19993" y="7813"/>
                </a:moveTo>
                <a:cubicBezTo>
                  <a:pt x="19993" y="7995"/>
                  <a:pt x="19993" y="8177"/>
                  <a:pt x="19993" y="8359"/>
                </a:cubicBezTo>
              </a:path>
              <a:path w="1167" h="622">
                <a:moveTo>
                  <a:pt x="20265" y="8310"/>
                </a:moveTo>
                <a:cubicBezTo>
                  <a:pt x="20265" y="8388"/>
                  <a:pt x="20250" y="8406"/>
                  <a:pt x="20290" y="84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67760" y="2732040"/>
            <a:ext cx="571320" cy="260280"/>
          </a:xfrm>
          <a:custGeom>
            <a:avLst/>
            <a:gdLst/>
            <a:ahLst/>
            <a:rect l="l" t="t" r="r" b="b"/>
            <a:pathLst>
              <a:path w="1588" h="721">
                <a:moveTo>
                  <a:pt x="20464" y="7789"/>
                </a:moveTo>
                <a:cubicBezTo>
                  <a:pt x="20590" y="7789"/>
                  <a:pt x="20749" y="7728"/>
                  <a:pt x="20786" y="7888"/>
                </a:cubicBezTo>
                <a:cubicBezTo>
                  <a:pt x="20828" y="8068"/>
                  <a:pt x="20682" y="8299"/>
                  <a:pt x="20836" y="8260"/>
                </a:cubicBezTo>
              </a:path>
              <a:path w="1588" h="721">
                <a:moveTo>
                  <a:pt x="21059" y="7739"/>
                </a:moveTo>
                <a:cubicBezTo>
                  <a:pt x="20995" y="7858"/>
                  <a:pt x="20791" y="8240"/>
                  <a:pt x="21134" y="8186"/>
                </a:cubicBezTo>
                <a:cubicBezTo>
                  <a:pt x="21361" y="8150"/>
                  <a:pt x="21452" y="7830"/>
                  <a:pt x="21183" y="7789"/>
                </a:cubicBezTo>
                <a:cubicBezTo>
                  <a:pt x="21167" y="7797"/>
                  <a:pt x="21150" y="7805"/>
                  <a:pt x="21134" y="7813"/>
                </a:cubicBezTo>
              </a:path>
              <a:path w="1588" h="721">
                <a:moveTo>
                  <a:pt x="21803" y="7590"/>
                </a:moveTo>
                <a:cubicBezTo>
                  <a:pt x="21680" y="7686"/>
                  <a:pt x="21426" y="8007"/>
                  <a:pt x="21754" y="8086"/>
                </a:cubicBezTo>
                <a:cubicBezTo>
                  <a:pt x="21987" y="8142"/>
                  <a:pt x="22007" y="7928"/>
                  <a:pt x="22051" y="7789"/>
                </a:cubicBezTo>
                <a:cubicBezTo>
                  <a:pt x="21871" y="7698"/>
                  <a:pt x="21786" y="7676"/>
                  <a:pt x="21630" y="77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53160" y="3027240"/>
            <a:ext cx="1473120" cy="803520"/>
          </a:xfrm>
          <a:custGeom>
            <a:avLst/>
            <a:gdLst/>
            <a:ahLst/>
            <a:rect l="l" t="t" r="r" b="b"/>
            <a:pathLst>
              <a:path w="4094" h="2233">
                <a:moveTo>
                  <a:pt x="21010" y="8855"/>
                </a:moveTo>
                <a:cubicBezTo>
                  <a:pt x="21010" y="8834"/>
                  <a:pt x="20982" y="8881"/>
                  <a:pt x="21059" y="8855"/>
                </a:cubicBezTo>
              </a:path>
              <a:path w="4094" h="2233">
                <a:moveTo>
                  <a:pt x="21357" y="8483"/>
                </a:moveTo>
                <a:cubicBezTo>
                  <a:pt x="21366" y="8625"/>
                  <a:pt x="21394" y="8764"/>
                  <a:pt x="21406" y="8905"/>
                </a:cubicBezTo>
              </a:path>
              <a:path w="4094" h="2233">
                <a:moveTo>
                  <a:pt x="21779" y="8434"/>
                </a:moveTo>
                <a:cubicBezTo>
                  <a:pt x="21824" y="8426"/>
                  <a:pt x="22156" y="8355"/>
                  <a:pt x="22027" y="8508"/>
                </a:cubicBezTo>
                <a:cubicBezTo>
                  <a:pt x="21994" y="8533"/>
                  <a:pt x="21960" y="8557"/>
                  <a:pt x="21927" y="8582"/>
                </a:cubicBezTo>
                <a:cubicBezTo>
                  <a:pt x="21943" y="8631"/>
                  <a:pt x="22123" y="8565"/>
                  <a:pt x="22200" y="8632"/>
                </a:cubicBezTo>
                <a:cubicBezTo>
                  <a:pt x="22412" y="8815"/>
                  <a:pt x="21886" y="8858"/>
                  <a:pt x="21828" y="8855"/>
                </a:cubicBezTo>
              </a:path>
              <a:path w="4094" h="2233">
                <a:moveTo>
                  <a:pt x="18479" y="9426"/>
                </a:moveTo>
                <a:cubicBezTo>
                  <a:pt x="18727" y="9413"/>
                  <a:pt x="18975" y="9388"/>
                  <a:pt x="19224" y="9376"/>
                </a:cubicBezTo>
                <a:cubicBezTo>
                  <a:pt x="20112" y="9333"/>
                  <a:pt x="21014" y="9310"/>
                  <a:pt x="21903" y="9327"/>
                </a:cubicBezTo>
                <a:cubicBezTo>
                  <a:pt x="22122" y="9331"/>
                  <a:pt x="22350" y="9346"/>
                  <a:pt x="22572" y="9351"/>
                </a:cubicBezTo>
              </a:path>
              <a:path w="4094" h="2233">
                <a:moveTo>
                  <a:pt x="19621" y="9823"/>
                </a:moveTo>
                <a:cubicBezTo>
                  <a:pt x="19706" y="9785"/>
                  <a:pt x="19963" y="9670"/>
                  <a:pt x="19893" y="9897"/>
                </a:cubicBezTo>
                <a:cubicBezTo>
                  <a:pt x="19868" y="9938"/>
                  <a:pt x="19844" y="9980"/>
                  <a:pt x="19819" y="10021"/>
                </a:cubicBezTo>
                <a:cubicBezTo>
                  <a:pt x="19794" y="10038"/>
                  <a:pt x="19770" y="10054"/>
                  <a:pt x="19745" y="10071"/>
                </a:cubicBezTo>
                <a:cubicBezTo>
                  <a:pt x="19837" y="9978"/>
                  <a:pt x="20033" y="10024"/>
                  <a:pt x="19968" y="10220"/>
                </a:cubicBezTo>
                <a:cubicBezTo>
                  <a:pt x="19905" y="10409"/>
                  <a:pt x="19655" y="10435"/>
                  <a:pt x="19571" y="10319"/>
                </a:cubicBezTo>
              </a:path>
              <a:path w="4094" h="2233">
                <a:moveTo>
                  <a:pt x="20166" y="10319"/>
                </a:moveTo>
                <a:cubicBezTo>
                  <a:pt x="20146" y="10359"/>
                  <a:pt x="20127" y="10375"/>
                  <a:pt x="20166" y="10368"/>
                </a:cubicBezTo>
              </a:path>
              <a:path w="4094" h="2233">
                <a:moveTo>
                  <a:pt x="20513" y="9823"/>
                </a:moveTo>
                <a:cubicBezTo>
                  <a:pt x="20698" y="9911"/>
                  <a:pt x="20980" y="10096"/>
                  <a:pt x="20662" y="10294"/>
                </a:cubicBezTo>
                <a:cubicBezTo>
                  <a:pt x="20497" y="10336"/>
                  <a:pt x="20464" y="10361"/>
                  <a:pt x="20365" y="10319"/>
                </a:cubicBezTo>
                <a:cubicBezTo>
                  <a:pt x="20442" y="10145"/>
                  <a:pt x="20551" y="10185"/>
                  <a:pt x="20687" y="10294"/>
                </a:cubicBezTo>
                <a:cubicBezTo>
                  <a:pt x="20739" y="10346"/>
                  <a:pt x="20758" y="10362"/>
                  <a:pt x="20811" y="10319"/>
                </a:cubicBezTo>
              </a:path>
              <a:path w="4094" h="2233">
                <a:moveTo>
                  <a:pt x="21034" y="9699"/>
                </a:moveTo>
                <a:cubicBezTo>
                  <a:pt x="21070" y="9914"/>
                  <a:pt x="21095" y="10130"/>
                  <a:pt x="21134" y="10344"/>
                </a:cubicBezTo>
              </a:path>
              <a:path w="4094" h="2233">
                <a:moveTo>
                  <a:pt x="21555" y="9674"/>
                </a:moveTo>
                <a:cubicBezTo>
                  <a:pt x="21580" y="9861"/>
                  <a:pt x="21669" y="10135"/>
                  <a:pt x="21630" y="10319"/>
                </a:cubicBezTo>
                <a:cubicBezTo>
                  <a:pt x="21622" y="10327"/>
                  <a:pt x="21613" y="10336"/>
                  <a:pt x="21605" y="10344"/>
                </a:cubicBezTo>
              </a:path>
              <a:path w="4094" h="2233">
                <a:moveTo>
                  <a:pt x="20067" y="10319"/>
                </a:moveTo>
                <a:cubicBezTo>
                  <a:pt x="20079" y="10400"/>
                  <a:pt x="20133" y="10474"/>
                  <a:pt x="20117" y="10567"/>
                </a:cubicBezTo>
                <a:cubicBezTo>
                  <a:pt x="20092" y="10616"/>
                  <a:pt x="20083" y="10633"/>
                  <a:pt x="20042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94080" y="3321000"/>
            <a:ext cx="266760" cy="19080"/>
          </a:xfrm>
          <a:custGeom>
            <a:avLst/>
            <a:gdLst/>
            <a:ahLst/>
            <a:rect l="l" t="t" r="r" b="b"/>
            <a:pathLst>
              <a:path w="745" h="51">
                <a:moveTo>
                  <a:pt x="9426" y="9277"/>
                </a:moveTo>
                <a:cubicBezTo>
                  <a:pt x="9454" y="9192"/>
                  <a:pt x="9817" y="9228"/>
                  <a:pt x="9872" y="9227"/>
                </a:cubicBezTo>
                <a:cubicBezTo>
                  <a:pt x="9878" y="9227"/>
                  <a:pt x="10163" y="9193"/>
                  <a:pt x="10170" y="9252"/>
                </a:cubicBezTo>
                <a:cubicBezTo>
                  <a:pt x="10170" y="9260"/>
                  <a:pt x="10170" y="9269"/>
                  <a:pt x="10170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9960" y="3463920"/>
            <a:ext cx="152280" cy="9360"/>
          </a:xfrm>
          <a:custGeom>
            <a:avLst/>
            <a:gdLst/>
            <a:ahLst/>
            <a:rect l="l" t="t" r="r" b="b"/>
            <a:pathLst>
              <a:path w="423" h="26">
                <a:moveTo>
                  <a:pt x="1860" y="9624"/>
                </a:moveTo>
                <a:cubicBezTo>
                  <a:pt x="2009" y="9649"/>
                  <a:pt x="2130" y="9642"/>
                  <a:pt x="2282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85920" y="3446640"/>
            <a:ext cx="108000" cy="260280"/>
          </a:xfrm>
          <a:custGeom>
            <a:avLst/>
            <a:gdLst/>
            <a:ahLst/>
            <a:rect l="l" t="t" r="r" b="b"/>
            <a:pathLst>
              <a:path w="299" h="720">
                <a:moveTo>
                  <a:pt x="3597" y="9599"/>
                </a:moveTo>
                <a:cubicBezTo>
                  <a:pt x="3550" y="9670"/>
                  <a:pt x="3640" y="9593"/>
                  <a:pt x="3671" y="9575"/>
                </a:cubicBezTo>
                <a:cubicBezTo>
                  <a:pt x="3832" y="9702"/>
                  <a:pt x="3723" y="9758"/>
                  <a:pt x="3696" y="9922"/>
                </a:cubicBezTo>
                <a:cubicBezTo>
                  <a:pt x="3704" y="9922"/>
                  <a:pt x="3713" y="9922"/>
                  <a:pt x="3721" y="9922"/>
                </a:cubicBezTo>
                <a:cubicBezTo>
                  <a:pt x="3875" y="9939"/>
                  <a:pt x="3923" y="10052"/>
                  <a:pt x="3820" y="10195"/>
                </a:cubicBezTo>
                <a:cubicBezTo>
                  <a:pt x="3768" y="10267"/>
                  <a:pt x="3483" y="10399"/>
                  <a:pt x="3646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7120" y="3438360"/>
            <a:ext cx="347760" cy="258840"/>
          </a:xfrm>
          <a:custGeom>
            <a:avLst/>
            <a:gdLst/>
            <a:ahLst/>
            <a:rect l="l" t="t" r="r" b="b"/>
            <a:pathLst>
              <a:path w="968" h="720">
                <a:moveTo>
                  <a:pt x="4242" y="10170"/>
                </a:moveTo>
                <a:cubicBezTo>
                  <a:pt x="4242" y="10222"/>
                  <a:pt x="4243" y="10240"/>
                  <a:pt x="4266" y="10269"/>
                </a:cubicBezTo>
              </a:path>
              <a:path w="968" h="720">
                <a:moveTo>
                  <a:pt x="4465" y="9674"/>
                </a:moveTo>
                <a:cubicBezTo>
                  <a:pt x="4619" y="9674"/>
                  <a:pt x="4723" y="9705"/>
                  <a:pt x="4688" y="9897"/>
                </a:cubicBezTo>
                <a:cubicBezTo>
                  <a:pt x="4665" y="10023"/>
                  <a:pt x="4590" y="10067"/>
                  <a:pt x="4490" y="10046"/>
                </a:cubicBezTo>
                <a:cubicBezTo>
                  <a:pt x="4569" y="9939"/>
                  <a:pt x="4663" y="9902"/>
                  <a:pt x="4787" y="9996"/>
                </a:cubicBezTo>
                <a:cubicBezTo>
                  <a:pt x="4809" y="10040"/>
                  <a:pt x="4812" y="10052"/>
                  <a:pt x="4837" y="10071"/>
                </a:cubicBezTo>
              </a:path>
              <a:path w="968" h="720">
                <a:moveTo>
                  <a:pt x="5035" y="9550"/>
                </a:moveTo>
                <a:cubicBezTo>
                  <a:pt x="5035" y="9664"/>
                  <a:pt x="5126" y="9810"/>
                  <a:pt x="5159" y="9922"/>
                </a:cubicBezTo>
                <a:cubicBezTo>
                  <a:pt x="5191" y="10028"/>
                  <a:pt x="5165" y="10089"/>
                  <a:pt x="5209" y="99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17800" y="3419640"/>
            <a:ext cx="63360" cy="179280"/>
          </a:xfrm>
          <a:custGeom>
            <a:avLst/>
            <a:gdLst/>
            <a:ahLst/>
            <a:rect l="l" t="t" r="r" b="b"/>
            <a:pathLst>
              <a:path w="174" h="497">
                <a:moveTo>
                  <a:pt x="5606" y="9500"/>
                </a:moveTo>
                <a:cubicBezTo>
                  <a:pt x="5673" y="9665"/>
                  <a:pt x="5720" y="9831"/>
                  <a:pt x="5779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0960" y="3652920"/>
            <a:ext cx="1527120" cy="561960"/>
          </a:xfrm>
          <a:custGeom>
            <a:avLst/>
            <a:gdLst/>
            <a:ahLst/>
            <a:rect l="l" t="t" r="r" b="b"/>
            <a:pathLst>
              <a:path w="4242" h="1564">
                <a:moveTo>
                  <a:pt x="2084" y="10592"/>
                </a:moveTo>
                <a:cubicBezTo>
                  <a:pt x="2427" y="10521"/>
                  <a:pt x="2771" y="10471"/>
                  <a:pt x="3125" y="10443"/>
                </a:cubicBezTo>
                <a:cubicBezTo>
                  <a:pt x="3772" y="10393"/>
                  <a:pt x="4415" y="10362"/>
                  <a:pt x="5060" y="10294"/>
                </a:cubicBezTo>
                <a:cubicBezTo>
                  <a:pt x="5382" y="10260"/>
                  <a:pt x="5662" y="10237"/>
                  <a:pt x="5978" y="10170"/>
                </a:cubicBezTo>
                <a:cubicBezTo>
                  <a:pt x="6096" y="10145"/>
                  <a:pt x="6206" y="10145"/>
                  <a:pt x="6325" y="10145"/>
                </a:cubicBezTo>
              </a:path>
              <a:path w="4242" h="1564">
                <a:moveTo>
                  <a:pt x="2877" y="10889"/>
                </a:moveTo>
                <a:cubicBezTo>
                  <a:pt x="2877" y="10882"/>
                  <a:pt x="2856" y="10863"/>
                  <a:pt x="2902" y="10840"/>
                </a:cubicBezTo>
                <a:cubicBezTo>
                  <a:pt x="3217" y="10685"/>
                  <a:pt x="3121" y="11284"/>
                  <a:pt x="3076" y="11385"/>
                </a:cubicBezTo>
                <a:cubicBezTo>
                  <a:pt x="2972" y="11510"/>
                  <a:pt x="2960" y="11553"/>
                  <a:pt x="2853" y="11559"/>
                </a:cubicBezTo>
                <a:cubicBezTo>
                  <a:pt x="2806" y="11427"/>
                  <a:pt x="2760" y="11170"/>
                  <a:pt x="3026" y="11237"/>
                </a:cubicBezTo>
                <a:cubicBezTo>
                  <a:pt x="3208" y="11283"/>
                  <a:pt x="3255" y="11412"/>
                  <a:pt x="3324" y="11559"/>
                </a:cubicBezTo>
              </a:path>
              <a:path w="4242" h="1564">
                <a:moveTo>
                  <a:pt x="3746" y="10964"/>
                </a:moveTo>
                <a:cubicBezTo>
                  <a:pt x="3804" y="11153"/>
                  <a:pt x="3825" y="11349"/>
                  <a:pt x="3870" y="11534"/>
                </a:cubicBezTo>
                <a:cubicBezTo>
                  <a:pt x="3878" y="11542"/>
                  <a:pt x="3886" y="11551"/>
                  <a:pt x="3894" y="11559"/>
                </a:cubicBezTo>
              </a:path>
              <a:path w="4242" h="1564">
                <a:moveTo>
                  <a:pt x="4415" y="11559"/>
                </a:moveTo>
                <a:cubicBezTo>
                  <a:pt x="4425" y="11628"/>
                  <a:pt x="4432" y="11725"/>
                  <a:pt x="4415" y="11658"/>
                </a:cubicBezTo>
              </a:path>
              <a:path w="4242" h="1564">
                <a:moveTo>
                  <a:pt x="4738" y="11038"/>
                </a:moveTo>
                <a:cubicBezTo>
                  <a:pt x="4728" y="11136"/>
                  <a:pt x="4671" y="11259"/>
                  <a:pt x="4787" y="11311"/>
                </a:cubicBezTo>
                <a:cubicBezTo>
                  <a:pt x="4931" y="11375"/>
                  <a:pt x="5040" y="11353"/>
                  <a:pt x="5110" y="11237"/>
                </a:cubicBezTo>
              </a:path>
              <a:path w="4242" h="1564">
                <a:moveTo>
                  <a:pt x="5060" y="10864"/>
                </a:moveTo>
                <a:cubicBezTo>
                  <a:pt x="5060" y="11079"/>
                  <a:pt x="5060" y="11294"/>
                  <a:pt x="5060" y="11509"/>
                </a:cubicBezTo>
              </a:path>
              <a:path w="4242" h="1564">
                <a:moveTo>
                  <a:pt x="5631" y="10716"/>
                </a:moveTo>
                <a:cubicBezTo>
                  <a:pt x="5490" y="10737"/>
                  <a:pt x="5431" y="10767"/>
                  <a:pt x="5383" y="10914"/>
                </a:cubicBezTo>
                <a:cubicBezTo>
                  <a:pt x="5357" y="10994"/>
                  <a:pt x="5526" y="11071"/>
                  <a:pt x="5556" y="11137"/>
                </a:cubicBezTo>
                <a:cubicBezTo>
                  <a:pt x="5599" y="11232"/>
                  <a:pt x="5583" y="11247"/>
                  <a:pt x="5531" y="11311"/>
                </a:cubicBezTo>
                <a:cubicBezTo>
                  <a:pt x="5434" y="11130"/>
                  <a:pt x="5534" y="11067"/>
                  <a:pt x="5606" y="10889"/>
                </a:cubicBezTo>
                <a:cubicBezTo>
                  <a:pt x="5633" y="10822"/>
                  <a:pt x="5653" y="10777"/>
                  <a:pt x="5631" y="10765"/>
                </a:cubicBezTo>
              </a:path>
              <a:path w="4242" h="1564">
                <a:moveTo>
                  <a:pt x="6127" y="10716"/>
                </a:moveTo>
                <a:cubicBezTo>
                  <a:pt x="6110" y="10612"/>
                  <a:pt x="6110" y="10641"/>
                  <a:pt x="6028" y="10592"/>
                </a:cubicBezTo>
                <a:cubicBezTo>
                  <a:pt x="5866" y="10618"/>
                  <a:pt x="5823" y="10755"/>
                  <a:pt x="5854" y="10914"/>
                </a:cubicBezTo>
                <a:cubicBezTo>
                  <a:pt x="5871" y="10931"/>
                  <a:pt x="5887" y="10947"/>
                  <a:pt x="5904" y="10964"/>
                </a:cubicBezTo>
                <a:cubicBezTo>
                  <a:pt x="6042" y="10906"/>
                  <a:pt x="6124" y="10873"/>
                  <a:pt x="6176" y="10716"/>
                </a:cubicBezTo>
                <a:cubicBezTo>
                  <a:pt x="6254" y="10817"/>
                  <a:pt x="6201" y="11088"/>
                  <a:pt x="6201" y="11212"/>
                </a:cubicBezTo>
                <a:cubicBezTo>
                  <a:pt x="6201" y="11330"/>
                  <a:pt x="6215" y="11351"/>
                  <a:pt x="6176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2960" y="5099040"/>
            <a:ext cx="1662120" cy="374760"/>
          </a:xfrm>
          <a:custGeom>
            <a:avLst/>
            <a:gdLst/>
            <a:ahLst/>
            <a:rect l="l" t="t" r="r" b="b"/>
            <a:pathLst>
              <a:path w="4615" h="1043">
                <a:moveTo>
                  <a:pt x="1910" y="14163"/>
                </a:moveTo>
                <a:cubicBezTo>
                  <a:pt x="1910" y="14293"/>
                  <a:pt x="1920" y="14407"/>
                  <a:pt x="1910" y="14536"/>
                </a:cubicBezTo>
                <a:cubicBezTo>
                  <a:pt x="1907" y="14578"/>
                  <a:pt x="1923" y="14502"/>
                  <a:pt x="1935" y="14461"/>
                </a:cubicBezTo>
              </a:path>
              <a:path w="4615" h="1043">
                <a:moveTo>
                  <a:pt x="1786" y="14263"/>
                </a:moveTo>
                <a:cubicBezTo>
                  <a:pt x="1895" y="14335"/>
                  <a:pt x="2040" y="14306"/>
                  <a:pt x="2183" y="14288"/>
                </a:cubicBezTo>
                <a:cubicBezTo>
                  <a:pt x="2208" y="14288"/>
                  <a:pt x="2216" y="14288"/>
                  <a:pt x="2208" y="14312"/>
                </a:cubicBezTo>
              </a:path>
              <a:path w="4615" h="1043">
                <a:moveTo>
                  <a:pt x="3597" y="14263"/>
                </a:moveTo>
                <a:cubicBezTo>
                  <a:pt x="3574" y="14241"/>
                  <a:pt x="3661" y="14218"/>
                  <a:pt x="3721" y="14188"/>
                </a:cubicBezTo>
                <a:cubicBezTo>
                  <a:pt x="3739" y="14316"/>
                  <a:pt x="3710" y="14371"/>
                  <a:pt x="3671" y="14486"/>
                </a:cubicBezTo>
                <a:cubicBezTo>
                  <a:pt x="3774" y="14465"/>
                  <a:pt x="3827" y="14443"/>
                  <a:pt x="3795" y="14610"/>
                </a:cubicBezTo>
                <a:cubicBezTo>
                  <a:pt x="3774" y="14717"/>
                  <a:pt x="3689" y="14868"/>
                  <a:pt x="3572" y="14784"/>
                </a:cubicBezTo>
                <a:cubicBezTo>
                  <a:pt x="3542" y="14754"/>
                  <a:pt x="3540" y="14743"/>
                  <a:pt x="3597" y="14734"/>
                </a:cubicBezTo>
              </a:path>
              <a:path w="4615" h="1043">
                <a:moveTo>
                  <a:pt x="4192" y="14759"/>
                </a:moveTo>
                <a:cubicBezTo>
                  <a:pt x="4192" y="14825"/>
                  <a:pt x="4192" y="14974"/>
                  <a:pt x="4192" y="14908"/>
                </a:cubicBezTo>
              </a:path>
              <a:path w="4615" h="1043">
                <a:moveTo>
                  <a:pt x="4415" y="14263"/>
                </a:moveTo>
                <a:cubicBezTo>
                  <a:pt x="4521" y="14253"/>
                  <a:pt x="4737" y="14171"/>
                  <a:pt x="4812" y="14288"/>
                </a:cubicBezTo>
                <a:cubicBezTo>
                  <a:pt x="4882" y="14397"/>
                  <a:pt x="4847" y="14655"/>
                  <a:pt x="4787" y="14759"/>
                </a:cubicBezTo>
                <a:cubicBezTo>
                  <a:pt x="4787" y="14751"/>
                  <a:pt x="4787" y="14742"/>
                  <a:pt x="4787" y="14734"/>
                </a:cubicBezTo>
              </a:path>
              <a:path w="4615" h="1043">
                <a:moveTo>
                  <a:pt x="5333" y="14387"/>
                </a:moveTo>
                <a:cubicBezTo>
                  <a:pt x="5306" y="14293"/>
                  <a:pt x="5198" y="14091"/>
                  <a:pt x="5060" y="14213"/>
                </a:cubicBezTo>
                <a:cubicBezTo>
                  <a:pt x="4992" y="14349"/>
                  <a:pt x="4968" y="14385"/>
                  <a:pt x="4986" y="14486"/>
                </a:cubicBezTo>
                <a:cubicBezTo>
                  <a:pt x="5189" y="14520"/>
                  <a:pt x="5203" y="14485"/>
                  <a:pt x="5333" y="14312"/>
                </a:cubicBezTo>
                <a:cubicBezTo>
                  <a:pt x="5333" y="14433"/>
                  <a:pt x="5283" y="14657"/>
                  <a:pt x="5358" y="14759"/>
                </a:cubicBezTo>
                <a:cubicBezTo>
                  <a:pt x="5366" y="14751"/>
                  <a:pt x="5375" y="14742"/>
                  <a:pt x="5383" y="14734"/>
                </a:cubicBezTo>
              </a:path>
              <a:path w="4615" h="1043">
                <a:moveTo>
                  <a:pt x="5705" y="14163"/>
                </a:moveTo>
                <a:cubicBezTo>
                  <a:pt x="5670" y="14282"/>
                  <a:pt x="5484" y="14696"/>
                  <a:pt x="5705" y="14759"/>
                </a:cubicBezTo>
                <a:cubicBezTo>
                  <a:pt x="5890" y="14812"/>
                  <a:pt x="5954" y="14594"/>
                  <a:pt x="6003" y="14486"/>
                </a:cubicBezTo>
                <a:cubicBezTo>
                  <a:pt x="5901" y="14542"/>
                  <a:pt x="5861" y="14630"/>
                  <a:pt x="5829" y="14759"/>
                </a:cubicBezTo>
              </a:path>
              <a:path w="4615" h="1043">
                <a:moveTo>
                  <a:pt x="2332" y="15205"/>
                </a:moveTo>
                <a:cubicBezTo>
                  <a:pt x="2719" y="15149"/>
                  <a:pt x="3130" y="15179"/>
                  <a:pt x="3522" y="15156"/>
                </a:cubicBezTo>
                <a:cubicBezTo>
                  <a:pt x="4392" y="15106"/>
                  <a:pt x="5256" y="15106"/>
                  <a:pt x="6127" y="15106"/>
                </a:cubicBezTo>
                <a:cubicBezTo>
                  <a:pt x="6218" y="15106"/>
                  <a:pt x="6309" y="15106"/>
                  <a:pt x="6400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3080" y="5537160"/>
            <a:ext cx="1152720" cy="384120"/>
          </a:xfrm>
          <a:custGeom>
            <a:avLst/>
            <a:gdLst/>
            <a:ahLst/>
            <a:rect l="l" t="t" r="r" b="b"/>
            <a:pathLst>
              <a:path w="3201" h="1068">
                <a:moveTo>
                  <a:pt x="2952" y="15553"/>
                </a:moveTo>
                <a:cubicBezTo>
                  <a:pt x="2888" y="15657"/>
                  <a:pt x="2935" y="15532"/>
                  <a:pt x="2952" y="15503"/>
                </a:cubicBezTo>
                <a:cubicBezTo>
                  <a:pt x="3140" y="15677"/>
                  <a:pt x="3077" y="15880"/>
                  <a:pt x="2853" y="16049"/>
                </a:cubicBezTo>
                <a:cubicBezTo>
                  <a:pt x="2820" y="16057"/>
                  <a:pt x="2786" y="16065"/>
                  <a:pt x="2753" y="16073"/>
                </a:cubicBezTo>
                <a:cubicBezTo>
                  <a:pt x="2717" y="15929"/>
                  <a:pt x="2766" y="15726"/>
                  <a:pt x="2977" y="15875"/>
                </a:cubicBezTo>
                <a:cubicBezTo>
                  <a:pt x="3033" y="15950"/>
                  <a:pt x="3037" y="15963"/>
                  <a:pt x="3076" y="15999"/>
                </a:cubicBezTo>
              </a:path>
              <a:path w="3201" h="1068">
                <a:moveTo>
                  <a:pt x="3646" y="15701"/>
                </a:moveTo>
                <a:cubicBezTo>
                  <a:pt x="3634" y="15632"/>
                  <a:pt x="3602" y="15487"/>
                  <a:pt x="3497" y="15503"/>
                </a:cubicBezTo>
                <a:cubicBezTo>
                  <a:pt x="3357" y="15525"/>
                  <a:pt x="3316" y="15750"/>
                  <a:pt x="3274" y="15850"/>
                </a:cubicBezTo>
                <a:cubicBezTo>
                  <a:pt x="3274" y="15858"/>
                  <a:pt x="3274" y="15867"/>
                  <a:pt x="3274" y="15875"/>
                </a:cubicBezTo>
                <a:cubicBezTo>
                  <a:pt x="3392" y="15810"/>
                  <a:pt x="3445" y="15778"/>
                  <a:pt x="3547" y="15677"/>
                </a:cubicBezTo>
                <a:cubicBezTo>
                  <a:pt x="3587" y="15817"/>
                  <a:pt x="3643" y="15981"/>
                  <a:pt x="3572" y="16123"/>
                </a:cubicBezTo>
                <a:cubicBezTo>
                  <a:pt x="3572" y="16115"/>
                  <a:pt x="3572" y="16106"/>
                  <a:pt x="3572" y="16098"/>
                </a:cubicBezTo>
              </a:path>
              <a:path w="3201" h="1068">
                <a:moveTo>
                  <a:pt x="3870" y="16024"/>
                </a:moveTo>
                <a:cubicBezTo>
                  <a:pt x="3870" y="16065"/>
                  <a:pt x="3870" y="16089"/>
                  <a:pt x="3870" y="16049"/>
                </a:cubicBezTo>
              </a:path>
              <a:path w="3201" h="1068">
                <a:moveTo>
                  <a:pt x="4118" y="15577"/>
                </a:moveTo>
                <a:cubicBezTo>
                  <a:pt x="4253" y="15577"/>
                  <a:pt x="4380" y="15592"/>
                  <a:pt x="4514" y="15602"/>
                </a:cubicBezTo>
                <a:cubicBezTo>
                  <a:pt x="4539" y="15602"/>
                  <a:pt x="4564" y="15602"/>
                  <a:pt x="4589" y="15602"/>
                </a:cubicBezTo>
                <a:cubicBezTo>
                  <a:pt x="4601" y="15741"/>
                  <a:pt x="4537" y="15880"/>
                  <a:pt x="4490" y="16024"/>
                </a:cubicBezTo>
              </a:path>
              <a:path w="3201" h="1068">
                <a:moveTo>
                  <a:pt x="5035" y="15478"/>
                </a:moveTo>
                <a:cubicBezTo>
                  <a:pt x="5000" y="15618"/>
                  <a:pt x="4925" y="15772"/>
                  <a:pt x="4961" y="15925"/>
                </a:cubicBezTo>
                <a:cubicBezTo>
                  <a:pt x="4978" y="15950"/>
                  <a:pt x="4994" y="15974"/>
                  <a:pt x="5011" y="15999"/>
                </a:cubicBezTo>
                <a:cubicBezTo>
                  <a:pt x="5193" y="16013"/>
                  <a:pt x="5198" y="15945"/>
                  <a:pt x="5259" y="15776"/>
                </a:cubicBezTo>
                <a:cubicBezTo>
                  <a:pt x="5135" y="15803"/>
                  <a:pt x="5082" y="15850"/>
                  <a:pt x="5060" y="15974"/>
                </a:cubicBezTo>
                <a:cubicBezTo>
                  <a:pt x="5060" y="16002"/>
                  <a:pt x="5062" y="16008"/>
                  <a:pt x="5085" y="15974"/>
                </a:cubicBezTo>
              </a:path>
              <a:path w="3201" h="1068">
                <a:moveTo>
                  <a:pt x="5085" y="15577"/>
                </a:moveTo>
                <a:cubicBezTo>
                  <a:pt x="5137" y="15565"/>
                  <a:pt x="5130" y="15555"/>
                  <a:pt x="5159" y="15503"/>
                </a:cubicBezTo>
                <a:cubicBezTo>
                  <a:pt x="5094" y="15415"/>
                  <a:pt x="4998" y="15314"/>
                  <a:pt x="4911" y="15453"/>
                </a:cubicBezTo>
                <a:cubicBezTo>
                  <a:pt x="4785" y="15654"/>
                  <a:pt x="4837" y="15707"/>
                  <a:pt x="4961" y="15850"/>
                </a:cubicBezTo>
                <a:cubicBezTo>
                  <a:pt x="5102" y="15756"/>
                  <a:pt x="5235" y="15639"/>
                  <a:pt x="5060" y="15478"/>
                </a:cubicBezTo>
                <a:cubicBezTo>
                  <a:pt x="4942" y="15369"/>
                  <a:pt x="4765" y="15565"/>
                  <a:pt x="4762" y="15677"/>
                </a:cubicBezTo>
                <a:cubicBezTo>
                  <a:pt x="4757" y="15867"/>
                  <a:pt x="4944" y="15848"/>
                  <a:pt x="5060" y="15776"/>
                </a:cubicBezTo>
                <a:cubicBezTo>
                  <a:pt x="5085" y="15751"/>
                  <a:pt x="5110" y="15726"/>
                  <a:pt x="5135" y="15701"/>
                </a:cubicBezTo>
                <a:cubicBezTo>
                  <a:pt x="5223" y="15509"/>
                  <a:pt x="5212" y="15601"/>
                  <a:pt x="5135" y="15801"/>
                </a:cubicBezTo>
                <a:cubicBezTo>
                  <a:pt x="5073" y="15923"/>
                  <a:pt x="5057" y="15945"/>
                  <a:pt x="5035" y="16024"/>
                </a:cubicBezTo>
                <a:cubicBezTo>
                  <a:pt x="5069" y="15907"/>
                  <a:pt x="5137" y="15793"/>
                  <a:pt x="5184" y="15677"/>
                </a:cubicBezTo>
              </a:path>
              <a:path w="3201" h="1068">
                <a:moveTo>
                  <a:pt x="5556" y="15404"/>
                </a:moveTo>
                <a:cubicBezTo>
                  <a:pt x="5537" y="15552"/>
                  <a:pt x="5496" y="15701"/>
                  <a:pt x="5482" y="15850"/>
                </a:cubicBezTo>
                <a:cubicBezTo>
                  <a:pt x="5482" y="15935"/>
                  <a:pt x="5476" y="15955"/>
                  <a:pt x="5507" y="15999"/>
                </a:cubicBezTo>
                <a:cubicBezTo>
                  <a:pt x="5675" y="16012"/>
                  <a:pt x="5798" y="15923"/>
                  <a:pt x="5904" y="15776"/>
                </a:cubicBezTo>
                <a:cubicBezTo>
                  <a:pt x="5904" y="15768"/>
                  <a:pt x="5904" y="15759"/>
                  <a:pt x="5904" y="15751"/>
                </a:cubicBezTo>
                <a:cubicBezTo>
                  <a:pt x="5754" y="15751"/>
                  <a:pt x="5706" y="15794"/>
                  <a:pt x="5680" y="15949"/>
                </a:cubicBezTo>
              </a:path>
              <a:path w="3201" h="1068">
                <a:moveTo>
                  <a:pt x="5184" y="15503"/>
                </a:moveTo>
                <a:cubicBezTo>
                  <a:pt x="5184" y="15427"/>
                  <a:pt x="5170" y="15396"/>
                  <a:pt x="5085" y="15379"/>
                </a:cubicBezTo>
                <a:cubicBezTo>
                  <a:pt x="4905" y="15343"/>
                  <a:pt x="4876" y="15586"/>
                  <a:pt x="4862" y="15701"/>
                </a:cubicBezTo>
                <a:cubicBezTo>
                  <a:pt x="4862" y="15709"/>
                  <a:pt x="4862" y="15718"/>
                  <a:pt x="4862" y="15726"/>
                </a:cubicBezTo>
                <a:cubicBezTo>
                  <a:pt x="5025" y="15736"/>
                  <a:pt x="5109" y="15699"/>
                  <a:pt x="5209" y="15553"/>
                </a:cubicBezTo>
                <a:cubicBezTo>
                  <a:pt x="5225" y="15530"/>
                  <a:pt x="5234" y="15448"/>
                  <a:pt x="5234" y="15503"/>
                </a:cubicBezTo>
                <a:cubicBezTo>
                  <a:pt x="5190" y="15650"/>
                  <a:pt x="5156" y="15975"/>
                  <a:pt x="5035" y="16073"/>
                </a:cubicBezTo>
                <a:cubicBezTo>
                  <a:pt x="5035" y="16065"/>
                  <a:pt x="5035" y="16057"/>
                  <a:pt x="5035" y="16049"/>
                </a:cubicBezTo>
              </a:path>
              <a:path w="3201" h="1068">
                <a:moveTo>
                  <a:pt x="3894" y="16024"/>
                </a:moveTo>
                <a:cubicBezTo>
                  <a:pt x="3886" y="16169"/>
                  <a:pt x="3877" y="16318"/>
                  <a:pt x="3820" y="16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30720" y="5089680"/>
            <a:ext cx="152280" cy="17928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9500" y="14139"/>
                </a:moveTo>
                <a:cubicBezTo>
                  <a:pt x="9500" y="14274"/>
                  <a:pt x="9478" y="14401"/>
                  <a:pt x="9475" y="14536"/>
                </a:cubicBezTo>
                <a:cubicBezTo>
                  <a:pt x="9475" y="14610"/>
                  <a:pt x="9475" y="14668"/>
                  <a:pt x="9475" y="14610"/>
                </a:cubicBezTo>
              </a:path>
              <a:path w="423" h="497">
                <a:moveTo>
                  <a:pt x="9252" y="14461"/>
                </a:moveTo>
                <a:cubicBezTo>
                  <a:pt x="9355" y="14360"/>
                  <a:pt x="9453" y="14407"/>
                  <a:pt x="9599" y="14412"/>
                </a:cubicBezTo>
                <a:cubicBezTo>
                  <a:pt x="9641" y="14412"/>
                  <a:pt x="9649" y="14412"/>
                  <a:pt x="9674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48160" y="5340240"/>
            <a:ext cx="46080" cy="4464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14957" y="14858"/>
                </a:moveTo>
                <a:cubicBezTo>
                  <a:pt x="14915" y="14844"/>
                  <a:pt x="14919" y="14799"/>
                  <a:pt x="14883" y="14883"/>
                </a:cubicBezTo>
                <a:cubicBezTo>
                  <a:pt x="14875" y="14908"/>
                  <a:pt x="14866" y="14932"/>
                  <a:pt x="14858" y="14957"/>
                </a:cubicBezTo>
                <a:cubicBezTo>
                  <a:pt x="14923" y="14948"/>
                  <a:pt x="15056" y="14928"/>
                  <a:pt x="14932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5153040"/>
            <a:ext cx="455400" cy="231840"/>
          </a:xfrm>
          <a:custGeom>
            <a:avLst/>
            <a:gdLst/>
            <a:ahLst/>
            <a:rect l="l" t="t" r="r" b="b"/>
            <a:pathLst>
              <a:path w="1266" h="646">
                <a:moveTo>
                  <a:pt x="15453" y="14412"/>
                </a:moveTo>
                <a:cubicBezTo>
                  <a:pt x="15479" y="14256"/>
                  <a:pt x="15514" y="14602"/>
                  <a:pt x="15503" y="14759"/>
                </a:cubicBezTo>
                <a:cubicBezTo>
                  <a:pt x="15493" y="14903"/>
                  <a:pt x="15453" y="14989"/>
                  <a:pt x="15503" y="14808"/>
                </a:cubicBezTo>
              </a:path>
              <a:path w="1266" h="646">
                <a:moveTo>
                  <a:pt x="15677" y="14387"/>
                </a:moveTo>
                <a:cubicBezTo>
                  <a:pt x="15677" y="14488"/>
                  <a:pt x="15674" y="14566"/>
                  <a:pt x="15701" y="14660"/>
                </a:cubicBezTo>
                <a:cubicBezTo>
                  <a:pt x="15822" y="14681"/>
                  <a:pt x="15944" y="14644"/>
                  <a:pt x="16073" y="14635"/>
                </a:cubicBezTo>
              </a:path>
              <a:path w="1266" h="646">
                <a:moveTo>
                  <a:pt x="15999" y="14312"/>
                </a:moveTo>
                <a:cubicBezTo>
                  <a:pt x="16017" y="14511"/>
                  <a:pt x="16006" y="14663"/>
                  <a:pt x="15974" y="14858"/>
                </a:cubicBezTo>
                <a:cubicBezTo>
                  <a:pt x="15974" y="14910"/>
                  <a:pt x="15975" y="14925"/>
                  <a:pt x="15999" y="14858"/>
                </a:cubicBezTo>
              </a:path>
              <a:path w="1266" h="646">
                <a:moveTo>
                  <a:pt x="16297" y="14312"/>
                </a:moveTo>
                <a:cubicBezTo>
                  <a:pt x="16297" y="14437"/>
                  <a:pt x="16274" y="14558"/>
                  <a:pt x="16272" y="14684"/>
                </a:cubicBezTo>
                <a:cubicBezTo>
                  <a:pt x="16270" y="14822"/>
                  <a:pt x="16271" y="15002"/>
                  <a:pt x="16470" y="14957"/>
                </a:cubicBezTo>
                <a:cubicBezTo>
                  <a:pt x="16616" y="14924"/>
                  <a:pt x="16708" y="14809"/>
                  <a:pt x="16694" y="14684"/>
                </a:cubicBezTo>
                <a:cubicBezTo>
                  <a:pt x="16579" y="14703"/>
                  <a:pt x="16470" y="14761"/>
                  <a:pt x="16470" y="14908"/>
                </a:cubicBezTo>
                <a:cubicBezTo>
                  <a:pt x="16495" y="14957"/>
                  <a:pt x="16503" y="14973"/>
                  <a:pt x="16520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97760" y="5126040"/>
            <a:ext cx="1143000" cy="303120"/>
          </a:xfrm>
          <a:custGeom>
            <a:avLst/>
            <a:gdLst/>
            <a:ahLst/>
            <a:rect l="l" t="t" r="r" b="b"/>
            <a:pathLst>
              <a:path w="3176" h="844">
                <a:moveTo>
                  <a:pt x="17214" y="14387"/>
                </a:moveTo>
                <a:cubicBezTo>
                  <a:pt x="17315" y="14367"/>
                  <a:pt x="17428" y="14613"/>
                  <a:pt x="17487" y="14709"/>
                </a:cubicBezTo>
                <a:cubicBezTo>
                  <a:pt x="17507" y="14750"/>
                  <a:pt x="17526" y="14766"/>
                  <a:pt x="17487" y="14759"/>
                </a:cubicBezTo>
              </a:path>
              <a:path w="3176" h="844">
                <a:moveTo>
                  <a:pt x="17438" y="14461"/>
                </a:moveTo>
                <a:cubicBezTo>
                  <a:pt x="17421" y="14511"/>
                  <a:pt x="17197" y="15044"/>
                  <a:pt x="17388" y="14709"/>
                </a:cubicBezTo>
              </a:path>
              <a:path w="3176" h="844">
                <a:moveTo>
                  <a:pt x="17909" y="14362"/>
                </a:moveTo>
                <a:cubicBezTo>
                  <a:pt x="18024" y="14311"/>
                  <a:pt x="18276" y="14421"/>
                  <a:pt x="18182" y="14635"/>
                </a:cubicBezTo>
                <a:cubicBezTo>
                  <a:pt x="18101" y="14820"/>
                  <a:pt x="17947" y="14806"/>
                  <a:pt x="17810" y="14784"/>
                </a:cubicBezTo>
                <a:cubicBezTo>
                  <a:pt x="17896" y="14639"/>
                  <a:pt x="17967" y="14675"/>
                  <a:pt x="18083" y="14784"/>
                </a:cubicBezTo>
                <a:cubicBezTo>
                  <a:pt x="18105" y="14806"/>
                  <a:pt x="18110" y="14814"/>
                  <a:pt x="18132" y="14808"/>
                </a:cubicBezTo>
              </a:path>
              <a:path w="3176" h="844">
                <a:moveTo>
                  <a:pt x="18306" y="14238"/>
                </a:moveTo>
                <a:cubicBezTo>
                  <a:pt x="18343" y="14398"/>
                  <a:pt x="18274" y="14635"/>
                  <a:pt x="18355" y="14784"/>
                </a:cubicBezTo>
                <a:cubicBezTo>
                  <a:pt x="18469" y="14992"/>
                  <a:pt x="18610" y="14694"/>
                  <a:pt x="18628" y="14610"/>
                </a:cubicBezTo>
                <a:cubicBezTo>
                  <a:pt x="18484" y="14694"/>
                  <a:pt x="18436" y="14757"/>
                  <a:pt x="18504" y="14908"/>
                </a:cubicBezTo>
              </a:path>
              <a:path w="3176" h="844">
                <a:moveTo>
                  <a:pt x="18777" y="14858"/>
                </a:moveTo>
                <a:cubicBezTo>
                  <a:pt x="18749" y="14965"/>
                  <a:pt x="18751" y="15042"/>
                  <a:pt x="18678" y="15056"/>
                </a:cubicBezTo>
              </a:path>
              <a:path w="3176" h="844">
                <a:moveTo>
                  <a:pt x="19100" y="14337"/>
                </a:moveTo>
                <a:cubicBezTo>
                  <a:pt x="18979" y="14397"/>
                  <a:pt x="18778" y="14643"/>
                  <a:pt x="18976" y="14784"/>
                </a:cubicBezTo>
                <a:cubicBezTo>
                  <a:pt x="19159" y="14915"/>
                  <a:pt x="19514" y="14676"/>
                  <a:pt x="19273" y="14486"/>
                </a:cubicBezTo>
                <a:cubicBezTo>
                  <a:pt x="19158" y="14447"/>
                  <a:pt x="19145" y="14431"/>
                  <a:pt x="19075" y="14436"/>
                </a:cubicBezTo>
              </a:path>
              <a:path w="3176" h="844">
                <a:moveTo>
                  <a:pt x="19645" y="14288"/>
                </a:moveTo>
                <a:cubicBezTo>
                  <a:pt x="19473" y="14440"/>
                  <a:pt x="19472" y="14453"/>
                  <a:pt x="19472" y="14684"/>
                </a:cubicBezTo>
                <a:cubicBezTo>
                  <a:pt x="19597" y="14730"/>
                  <a:pt x="20014" y="14814"/>
                  <a:pt x="19918" y="14511"/>
                </a:cubicBezTo>
                <a:cubicBezTo>
                  <a:pt x="19866" y="14346"/>
                  <a:pt x="19743" y="14366"/>
                  <a:pt x="19621" y="14387"/>
                </a:cubicBezTo>
              </a:path>
              <a:path w="3176" h="844">
                <a:moveTo>
                  <a:pt x="20117" y="14238"/>
                </a:moveTo>
                <a:cubicBezTo>
                  <a:pt x="20011" y="14344"/>
                  <a:pt x="19905" y="14554"/>
                  <a:pt x="20017" y="14709"/>
                </a:cubicBezTo>
                <a:cubicBezTo>
                  <a:pt x="20169" y="14919"/>
                  <a:pt x="20497" y="14646"/>
                  <a:pt x="20365" y="14436"/>
                </a:cubicBezTo>
                <a:cubicBezTo>
                  <a:pt x="20231" y="14347"/>
                  <a:pt x="20198" y="14317"/>
                  <a:pt x="20092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73960" y="5187960"/>
            <a:ext cx="179280" cy="63360"/>
          </a:xfrm>
          <a:custGeom>
            <a:avLst/>
            <a:gdLst/>
            <a:ahLst/>
            <a:rect l="l" t="t" r="r" b="b"/>
            <a:pathLst>
              <a:path w="497" h="174">
                <a:moveTo>
                  <a:pt x="20762" y="14436"/>
                </a:moveTo>
                <a:cubicBezTo>
                  <a:pt x="20887" y="14426"/>
                  <a:pt x="21087" y="14387"/>
                  <a:pt x="21208" y="14436"/>
                </a:cubicBezTo>
                <a:cubicBezTo>
                  <a:pt x="21200" y="14444"/>
                  <a:pt x="21191" y="14453"/>
                  <a:pt x="21183" y="14461"/>
                </a:cubicBezTo>
              </a:path>
              <a:path w="497" h="174">
                <a:moveTo>
                  <a:pt x="21010" y="14585"/>
                </a:moveTo>
                <a:cubicBezTo>
                  <a:pt x="21151" y="14565"/>
                  <a:pt x="21178" y="14566"/>
                  <a:pt x="21258" y="14536"/>
                </a:cubicBezTo>
              </a:path>
              <a:path w="497" h="174">
                <a:moveTo>
                  <a:pt x="21258" y="14536"/>
                </a:moveTo>
                <a:lnTo>
                  <a:pt x="21258" y="1453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04080" y="5081760"/>
            <a:ext cx="849240" cy="374400"/>
          </a:xfrm>
          <a:custGeom>
            <a:avLst/>
            <a:gdLst/>
            <a:ahLst/>
            <a:rect l="l" t="t" r="r" b="b"/>
            <a:pathLst>
              <a:path w="2358" h="1043">
                <a:moveTo>
                  <a:pt x="21754" y="14213"/>
                </a:moveTo>
                <a:cubicBezTo>
                  <a:pt x="21777" y="14281"/>
                  <a:pt x="21834" y="14163"/>
                  <a:pt x="21903" y="14163"/>
                </a:cubicBezTo>
                <a:cubicBezTo>
                  <a:pt x="21919" y="14171"/>
                  <a:pt x="21936" y="14180"/>
                  <a:pt x="21952" y="14188"/>
                </a:cubicBezTo>
                <a:cubicBezTo>
                  <a:pt x="21933" y="14298"/>
                  <a:pt x="21909" y="14358"/>
                  <a:pt x="21853" y="14461"/>
                </a:cubicBezTo>
                <a:cubicBezTo>
                  <a:pt x="21900" y="14445"/>
                  <a:pt x="22041" y="14425"/>
                  <a:pt x="22051" y="14560"/>
                </a:cubicBezTo>
                <a:cubicBezTo>
                  <a:pt x="22066" y="14772"/>
                  <a:pt x="21872" y="14860"/>
                  <a:pt x="21704" y="14808"/>
                </a:cubicBezTo>
                <a:cubicBezTo>
                  <a:pt x="21696" y="14800"/>
                  <a:pt x="21687" y="14792"/>
                  <a:pt x="21679" y="14784"/>
                </a:cubicBezTo>
              </a:path>
              <a:path w="2358" h="1043">
                <a:moveTo>
                  <a:pt x="22225" y="14908"/>
                </a:moveTo>
                <a:cubicBezTo>
                  <a:pt x="22229" y="14990"/>
                  <a:pt x="22243" y="15092"/>
                  <a:pt x="22225" y="15156"/>
                </a:cubicBezTo>
              </a:path>
              <a:path w="2358" h="1043">
                <a:moveTo>
                  <a:pt x="22349" y="14337"/>
                </a:moveTo>
                <a:cubicBezTo>
                  <a:pt x="22440" y="14285"/>
                  <a:pt x="22564" y="14261"/>
                  <a:pt x="22671" y="14238"/>
                </a:cubicBezTo>
                <a:cubicBezTo>
                  <a:pt x="22679" y="14238"/>
                  <a:pt x="22688" y="14238"/>
                  <a:pt x="22696" y="14238"/>
                </a:cubicBezTo>
                <a:cubicBezTo>
                  <a:pt x="22753" y="14389"/>
                  <a:pt x="22706" y="14569"/>
                  <a:pt x="22696" y="14734"/>
                </a:cubicBezTo>
                <a:cubicBezTo>
                  <a:pt x="22696" y="14767"/>
                  <a:pt x="22696" y="14800"/>
                  <a:pt x="22696" y="14833"/>
                </a:cubicBezTo>
              </a:path>
              <a:path w="2358" h="1043">
                <a:moveTo>
                  <a:pt x="23366" y="14412"/>
                </a:moveTo>
                <a:cubicBezTo>
                  <a:pt x="23384" y="14324"/>
                  <a:pt x="23376" y="14232"/>
                  <a:pt x="23292" y="14163"/>
                </a:cubicBezTo>
                <a:cubicBezTo>
                  <a:pt x="23211" y="14123"/>
                  <a:pt x="23198" y="14107"/>
                  <a:pt x="23143" y="14114"/>
                </a:cubicBezTo>
                <a:cubicBezTo>
                  <a:pt x="23041" y="14266"/>
                  <a:pt x="23014" y="14370"/>
                  <a:pt x="23068" y="14536"/>
                </a:cubicBezTo>
                <a:cubicBezTo>
                  <a:pt x="23214" y="14525"/>
                  <a:pt x="23288" y="14511"/>
                  <a:pt x="23341" y="14362"/>
                </a:cubicBezTo>
                <a:cubicBezTo>
                  <a:pt x="23347" y="14346"/>
                  <a:pt x="23341" y="14215"/>
                  <a:pt x="23341" y="14337"/>
                </a:cubicBezTo>
                <a:cubicBezTo>
                  <a:pt x="23341" y="14460"/>
                  <a:pt x="23292" y="14785"/>
                  <a:pt x="23366" y="14858"/>
                </a:cubicBezTo>
              </a:path>
              <a:path w="2358" h="1043">
                <a:moveTo>
                  <a:pt x="23589" y="14213"/>
                </a:moveTo>
                <a:cubicBezTo>
                  <a:pt x="23589" y="14080"/>
                  <a:pt x="23571" y="14427"/>
                  <a:pt x="23564" y="14560"/>
                </a:cubicBezTo>
                <a:cubicBezTo>
                  <a:pt x="23557" y="14705"/>
                  <a:pt x="23556" y="14888"/>
                  <a:pt x="23763" y="14858"/>
                </a:cubicBezTo>
                <a:cubicBezTo>
                  <a:pt x="23902" y="14838"/>
                  <a:pt x="24007" y="14762"/>
                  <a:pt x="24036" y="14635"/>
                </a:cubicBezTo>
                <a:cubicBezTo>
                  <a:pt x="23932" y="14600"/>
                  <a:pt x="23838" y="14599"/>
                  <a:pt x="23812" y="14734"/>
                </a:cubicBezTo>
                <a:cubicBezTo>
                  <a:pt x="23812" y="14808"/>
                  <a:pt x="23812" y="14817"/>
                  <a:pt x="23812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1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5:51:48Z</dcterms:created>
  <dc:creator>ccps</dc:creator>
  <dc:description/>
  <dc:language>en-US</dc:language>
  <cp:lastModifiedBy>deanne elizabeth mcgrath</cp:lastModifiedBy>
  <dcterms:modified xsi:type="dcterms:W3CDTF">2011-03-23T17:47:20Z</dcterms:modified>
  <cp:revision>8</cp:revision>
  <dc:subject/>
  <dc:title>Obj 7.5:  To find the percent of change.</dc:title>
</cp:coreProperties>
</file>